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41370-4B52-4AFA-B1D1-80151BF81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6DFD7-3FD2-4242-A8A4-7C235FC0A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75A9E-6766-4D8C-858E-57EE603BF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AD8D6-97B0-4066-82D8-29C00FFE0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8F263-3639-4BF6-8FB9-8A0DAB218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F9B9B-5C82-4A1F-A76D-D240B5B24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15B53-E263-495D-8C19-43F8C5B71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10BF9-F073-468C-BEAD-6FD7F6C96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E5D5F-8BA5-4D06-8EFA-9A46996F8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A8BE7-7B0E-48AE-8622-6C53C42F2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D5055-89A7-4423-992F-D1647CDDB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5E0C4-62D7-4776-A550-6836E55A5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C58D-0322-40EC-888B-48733C35AC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washcross"/>
          <p:cNvPicPr/>
          <p:nvPr/>
        </p:nvPicPr>
        <p:blipFill>
          <a:blip r:embed="rId1"/>
          <a:stretch/>
        </p:blipFill>
        <p:spPr>
          <a:xfrm>
            <a:off x="0" y="0"/>
            <a:ext cx="9144000" cy="6858000"/>
          </a:xfrm>
          <a:prstGeom prst="rect">
            <a:avLst/>
          </a:prstGeom>
          <a:ln w="0">
            <a:noFill/>
          </a:ln>
        </p:spPr>
      </p:pic>
      <p:sp>
        <p:nvSpPr>
          <p:cNvPr id="42" name="WordArt 6"/>
          <p:cNvSpPr txBox="1"/>
          <p:nvPr/>
        </p:nvSpPr>
        <p:spPr>
          <a:xfrm>
            <a:off x="609480" y="304920"/>
            <a:ext cx="815364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Englightenmen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OGT REVIEW SESSION #3</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457200" y="15228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ENLIGHTENMENT</a:t>
            </a:r>
            <a:endParaRPr b="0" lang="en-US" sz="3600" spc="-1" strike="noStrike">
              <a:solidFill>
                <a:srgbClr val="000000"/>
              </a:solidFill>
              <a:latin typeface="Arial"/>
            </a:endParaRPr>
          </a:p>
        </p:txBody>
      </p:sp>
      <p:sp>
        <p:nvSpPr>
          <p:cNvPr id="44" name="Text Box 5"/>
          <p:cNvSpPr/>
          <p:nvPr/>
        </p:nvSpPr>
        <p:spPr>
          <a:xfrm>
            <a:off x="228600" y="914400"/>
            <a:ext cx="3733920" cy="5766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at was the ENLIGHTENMEN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17</a:t>
            </a:r>
            <a:r>
              <a:rPr b="1" i="1" lang="en-US" sz="2000" spc="-1" strike="noStrike" u="sng" baseline="30000">
                <a:solidFill>
                  <a:srgbClr val="000000"/>
                </a:solidFill>
                <a:uFillTx/>
                <a:latin typeface="Arial"/>
              </a:rPr>
              <a:t>th</a:t>
            </a:r>
            <a:r>
              <a:rPr b="1" i="1" lang="en-US" sz="2000" spc="-1" strike="noStrike" u="sng">
                <a:solidFill>
                  <a:srgbClr val="000000"/>
                </a:solidFill>
                <a:uFillTx/>
                <a:latin typeface="Arial"/>
              </a:rPr>
              <a:t> Century (that’s the 1600s) intellectual movement in Europe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riters of the Enlightenment wrote about </a:t>
            </a:r>
            <a:r>
              <a:rPr b="1" i="1" lang="en-US" sz="2000" spc="-1" strike="noStrike" u="sng">
                <a:solidFill>
                  <a:srgbClr val="000000"/>
                </a:solidFill>
                <a:uFillTx/>
                <a:latin typeface="Arial"/>
              </a:rPr>
              <a:t>the need to LIMIT THE POWER OF GOVERNMENT &amp; CHURCH over the peopl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jor writers of the Enlightenment time period were </a:t>
            </a:r>
            <a:r>
              <a:rPr b="1" i="1" lang="en-US" sz="2000" spc="-1" strike="noStrike" u="sng">
                <a:solidFill>
                  <a:srgbClr val="000000"/>
                </a:solidFill>
                <a:uFillTx/>
                <a:latin typeface="Arial"/>
              </a:rPr>
              <a:t>John Locke and Jean-Jacques Rousseau</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Rectangle 6"/>
          <p:cNvSpPr/>
          <p:nvPr/>
        </p:nvSpPr>
        <p:spPr>
          <a:xfrm>
            <a:off x="5105520" y="4343400"/>
            <a:ext cx="37335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ideas of Enlightenment writers about GOVERNMENT’S RESPONSIBILITY TO ITS CITIZENS INSPIRED BOTH THE AMERICAN AND FRENCH REVOLUTIONS AGAINST DICTATORIAL MONARCHIES 100 Years LATER!</a:t>
            </a:r>
            <a:endParaRPr b="0" lang="en-US" sz="1800" spc="-1" strike="noStrike">
              <a:solidFill>
                <a:srgbClr val="000000"/>
              </a:solidFill>
              <a:latin typeface="Arial"/>
            </a:endParaRPr>
          </a:p>
        </p:txBody>
      </p:sp>
      <p:pic>
        <p:nvPicPr>
          <p:cNvPr id="46" name="Picture 8" descr="declarationimage"/>
          <p:cNvPicPr/>
          <p:nvPr/>
        </p:nvPicPr>
        <p:blipFill>
          <a:blip r:embed="rId1"/>
          <a:stretch/>
        </p:blipFill>
        <p:spPr>
          <a:xfrm>
            <a:off x="4952880" y="838080"/>
            <a:ext cx="3657600" cy="350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419720" y="914400"/>
            <a:ext cx="4190760" cy="2143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Natural Rights</a:t>
            </a:r>
            <a:endParaRPr b="0" lang="en-US" sz="2400" spc="-1" strike="noStrike">
              <a:solidFill>
                <a:srgbClr val="000000"/>
              </a:solidFill>
              <a:latin typeface="Arial"/>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ocke believed that people have what are called “natural rights”.  These are rights that people are born with and cannot be taken away.</a:t>
            </a:r>
            <a:endParaRPr b="0" lang="en-US" sz="2000" spc="-1" strike="noStrike">
              <a:solidFill>
                <a:srgbClr val="000000"/>
              </a:solidFill>
              <a:latin typeface="Arial"/>
            </a:endParaRPr>
          </a:p>
        </p:txBody>
      </p:sp>
      <p:sp>
        <p:nvSpPr>
          <p:cNvPr id="48" name="Text Box 4"/>
          <p:cNvSpPr/>
          <p:nvPr/>
        </p:nvSpPr>
        <p:spPr>
          <a:xfrm>
            <a:off x="4952880" y="3962520"/>
            <a:ext cx="4038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5"/>
          <p:cNvSpPr/>
          <p:nvPr/>
        </p:nvSpPr>
        <p:spPr>
          <a:xfrm>
            <a:off x="4724280" y="3581280"/>
            <a:ext cx="4038840" cy="3057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The Role of Government</a:t>
            </a:r>
            <a:endParaRPr b="0" lang="en-US" sz="2400" spc="-1" strike="noStrike">
              <a:solidFill>
                <a:srgbClr val="000000"/>
              </a:solidFill>
              <a:latin typeface="Arial"/>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ocke did believe that there was some evil in the world and that people have problems protecting their “natural rights”.  Thus, Locke believed that governments exist to protect the natural rights of the people.</a:t>
            </a:r>
            <a:endParaRPr b="0" lang="en-US" sz="2000" spc="-1" strike="noStrike">
              <a:solidFill>
                <a:srgbClr val="000000"/>
              </a:solidFill>
              <a:latin typeface="Arial"/>
            </a:endParaRPr>
          </a:p>
        </p:txBody>
      </p:sp>
      <p:pic>
        <p:nvPicPr>
          <p:cNvPr id="50" name="Picture 6" descr="jlocke2"/>
          <p:cNvPicPr/>
          <p:nvPr/>
        </p:nvPicPr>
        <p:blipFill>
          <a:blip r:embed="rId1"/>
          <a:stretch/>
        </p:blipFill>
        <p:spPr>
          <a:xfrm>
            <a:off x="380880" y="762120"/>
            <a:ext cx="3733920" cy="5715000"/>
          </a:xfrm>
          <a:prstGeom prst="rect">
            <a:avLst/>
          </a:prstGeom>
          <a:ln w="0">
            <a:noFill/>
          </a:ln>
        </p:spPr>
      </p:pic>
      <p:sp>
        <p:nvSpPr>
          <p:cNvPr id="51" name="Rectangle 7"/>
          <p:cNvSpPr/>
          <p:nvPr/>
        </p:nvSpPr>
        <p:spPr>
          <a:xfrm>
            <a:off x="3087720" y="79200"/>
            <a:ext cx="2622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John Lock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228600"/>
            <a:ext cx="9144000" cy="151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 Box 3"/>
          <p:cNvSpPr/>
          <p:nvPr/>
        </p:nvSpPr>
        <p:spPr>
          <a:xfrm>
            <a:off x="304920" y="380880"/>
            <a:ext cx="4190760" cy="3423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greement between a Government and its People</a:t>
            </a:r>
            <a:endParaRPr b="0" lang="en-US" sz="2400" spc="-1" strike="noStrike">
              <a:solidFill>
                <a:srgbClr val="000000"/>
              </a:solidFill>
              <a:latin typeface="Arial"/>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ocke believed that people must agree to give up some power to the government and government must use that power to protect people’s rights.  BUT…if government does not protect its people the people have the right to overthrow the government!!!!</a:t>
            </a:r>
            <a:endParaRPr b="0" lang="en-US" sz="2000" spc="-1" strike="noStrike">
              <a:solidFill>
                <a:srgbClr val="000000"/>
              </a:solidFill>
              <a:latin typeface="Arial"/>
            </a:endParaRPr>
          </a:p>
        </p:txBody>
      </p:sp>
      <p:pic>
        <p:nvPicPr>
          <p:cNvPr id="54" name="Picture 5" descr="bs01146_"/>
          <p:cNvPicPr/>
          <p:nvPr/>
        </p:nvPicPr>
        <p:blipFill>
          <a:blip r:embed="rId1"/>
          <a:stretch/>
        </p:blipFill>
        <p:spPr>
          <a:xfrm>
            <a:off x="4800600" y="457200"/>
            <a:ext cx="4091040" cy="3468600"/>
          </a:xfrm>
          <a:prstGeom prst="rect">
            <a:avLst/>
          </a:prstGeom>
          <a:ln w="0">
            <a:noFill/>
          </a:ln>
        </p:spPr>
      </p:pic>
      <p:sp>
        <p:nvSpPr>
          <p:cNvPr id="55" name="Text Box 6"/>
          <p:cNvSpPr/>
          <p:nvPr/>
        </p:nvSpPr>
        <p:spPr>
          <a:xfrm>
            <a:off x="228600" y="4114800"/>
            <a:ext cx="8915400" cy="254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John Locke also challenged the idea of the DEVINE RIGHT OF KINGS:  The belief that those who were Kings were chosen so by GOD!</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ea typeface="Times New Roman"/>
              </a:rPr>
              <a:t>*REMEMBER:  any time you see the word “Enlightenment” on the OGT you are looking for an answer that discusses citizens getting their independence by overthrowing a dictator or absolute monar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1371600" y="304920"/>
            <a:ext cx="64771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French Script MT"/>
                <a:ea typeface="Times New Roman"/>
              </a:rPr>
              <a:t>  </a:t>
            </a:r>
            <a:r>
              <a:rPr b="1" lang="en-US" sz="4800" spc="-1" strike="noStrike" u="sng">
                <a:solidFill>
                  <a:srgbClr val="000000"/>
                </a:solidFill>
                <a:uFillTx/>
                <a:latin typeface="French Script MT"/>
                <a:ea typeface="Times New Roman"/>
              </a:rPr>
              <a:t>Jean-Jacques Rousseau</a:t>
            </a:r>
            <a:endParaRPr b="0" lang="en-US" sz="4800" spc="-1" strike="noStrike">
              <a:solidFill>
                <a:srgbClr val="000000"/>
              </a:solidFill>
              <a:latin typeface="Arial"/>
            </a:endParaRPr>
          </a:p>
        </p:txBody>
      </p:sp>
      <p:sp>
        <p:nvSpPr>
          <p:cNvPr id="57" name="Text Box 3"/>
          <p:cNvSpPr/>
          <p:nvPr/>
        </p:nvSpPr>
        <p:spPr>
          <a:xfrm>
            <a:off x="0" y="129528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ousseau believed that while people created govt to protect their rights they soon became enslaved by their government…so……</a:t>
            </a:r>
            <a:endParaRPr b="0" lang="en-US" sz="2400" spc="-1" strike="noStrike">
              <a:solidFill>
                <a:srgbClr val="000000"/>
              </a:solidFill>
              <a:latin typeface="Arial"/>
            </a:endParaRPr>
          </a:p>
        </p:txBody>
      </p:sp>
      <p:sp>
        <p:nvSpPr>
          <p:cNvPr id="58" name="Text Box 4"/>
          <p:cNvSpPr/>
          <p:nvPr/>
        </p:nvSpPr>
        <p:spPr>
          <a:xfrm>
            <a:off x="0" y="3429000"/>
            <a:ext cx="358128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e presented the idea of the </a:t>
            </a:r>
            <a:r>
              <a:rPr b="1" lang="en-US" sz="2200" spc="-1" strike="noStrike">
                <a:solidFill>
                  <a:srgbClr val="000000"/>
                </a:solidFill>
                <a:latin typeface="Times New Roman"/>
                <a:ea typeface="Times New Roman"/>
              </a:rPr>
              <a:t>“SOCIAL CONTRACT”</a:t>
            </a:r>
            <a:r>
              <a:rPr b="1" lang="en-US" sz="2200" spc="-1" strike="noStrike">
                <a:solidFill>
                  <a:srgbClr val="000000"/>
                </a:solidFill>
                <a:latin typeface="Wingdings"/>
                <a:ea typeface="Wingdings"/>
              </a:rPr>
              <a:t></a:t>
            </a:r>
            <a:r>
              <a:rPr b="1" lang="en-US" sz="2200" spc="-1" strike="noStrike">
                <a:solidFill>
                  <a:srgbClr val="000000"/>
                </a:solidFill>
                <a:latin typeface="Times New Roman"/>
                <a:ea typeface="Times New Roman"/>
              </a:rPr>
              <a:t>members of a society agree to be ruled by the </a:t>
            </a:r>
            <a:r>
              <a:rPr b="1" i="1" lang="en-US" sz="2200" spc="-1" strike="noStrike" u="sng">
                <a:solidFill>
                  <a:srgbClr val="000000"/>
                </a:solidFill>
                <a:uFillTx/>
                <a:latin typeface="Times New Roman"/>
                <a:ea typeface="Times New Roman"/>
              </a:rPr>
              <a:t>majority will</a:t>
            </a:r>
            <a:r>
              <a:rPr b="1" lang="en-US" sz="2200" spc="-1" strike="noStrike">
                <a:solidFill>
                  <a:srgbClr val="000000"/>
                </a:solidFill>
                <a:latin typeface="Times New Roman"/>
                <a:ea typeface="Times New Roman"/>
              </a:rPr>
              <a:t>.  This means people live by the laws and consequences approved by the majority of the population.</a:t>
            </a:r>
            <a:endParaRPr b="0" lang="en-US" sz="2200" spc="-1" strike="noStrike">
              <a:solidFill>
                <a:srgbClr val="000000"/>
              </a:solidFill>
              <a:latin typeface="Arial"/>
            </a:endParaRPr>
          </a:p>
        </p:txBody>
      </p:sp>
      <p:sp>
        <p:nvSpPr>
          <p:cNvPr id="59" name="AutoShape 5"/>
          <p:cNvSpPr/>
          <p:nvPr/>
        </p:nvSpPr>
        <p:spPr>
          <a:xfrm>
            <a:off x="3809880" y="5105520"/>
            <a:ext cx="1295640" cy="1218960"/>
          </a:xfrm>
          <a:prstGeom prst="rightArrow">
            <a:avLst>
              <a:gd name="adj1" fmla="val 50000"/>
              <a:gd name="adj2" fmla="val 265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6"/>
          <p:cNvSpPr/>
          <p:nvPr/>
        </p:nvSpPr>
        <p:spPr>
          <a:xfrm>
            <a:off x="5257800" y="5105520"/>
            <a:ext cx="38862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French Script MT"/>
                <a:ea typeface="Times New Roman"/>
              </a:rPr>
              <a:t>What does this remind you of?</a:t>
            </a:r>
            <a:endParaRPr b="0" lang="en-US" sz="4400" spc="-1" strike="noStrike">
              <a:solidFill>
                <a:srgbClr val="000000"/>
              </a:solidFill>
              <a:latin typeface="Arial"/>
            </a:endParaRPr>
          </a:p>
        </p:txBody>
      </p:sp>
      <p:pic>
        <p:nvPicPr>
          <p:cNvPr id="61" name="Picture 7" descr="240px-Jean-Jacques_Rousseau_(painted_portrait)"/>
          <p:cNvPicPr/>
          <p:nvPr/>
        </p:nvPicPr>
        <p:blipFill>
          <a:blip r:embed="rId1"/>
          <a:stretch/>
        </p:blipFill>
        <p:spPr>
          <a:xfrm>
            <a:off x="4952880" y="1066680"/>
            <a:ext cx="3429000" cy="403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457200" y="15228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ENLIGHTENMENT</a:t>
            </a:r>
            <a:endParaRPr b="0" lang="en-US" sz="3600" spc="-1" strike="noStrike">
              <a:solidFill>
                <a:srgbClr val="000000"/>
              </a:solidFill>
              <a:latin typeface="Arial"/>
            </a:endParaRPr>
          </a:p>
        </p:txBody>
      </p:sp>
      <p:sp>
        <p:nvSpPr>
          <p:cNvPr id="63" name="Text Box 4"/>
          <p:cNvSpPr/>
          <p:nvPr/>
        </p:nvSpPr>
        <p:spPr>
          <a:xfrm>
            <a:off x="609480" y="91440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Gothic"/>
              </a:rPr>
              <a:t>Lets look at a couple samples of how questions look on the OGT that will test your knowledge of the Enlightenment</a:t>
            </a:r>
            <a:endParaRPr b="0" lang="en-US" sz="1800" spc="-1" strike="noStrike">
              <a:solidFill>
                <a:srgbClr val="000000"/>
              </a:solidFill>
              <a:latin typeface="Arial"/>
            </a:endParaRPr>
          </a:p>
        </p:txBody>
      </p:sp>
      <p:sp>
        <p:nvSpPr>
          <p:cNvPr id="64" name="Text Box 5"/>
          <p:cNvSpPr/>
          <p:nvPr/>
        </p:nvSpPr>
        <p:spPr>
          <a:xfrm>
            <a:off x="304920" y="16765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6"/>
          <p:cNvSpPr/>
          <p:nvPr/>
        </p:nvSpPr>
        <p:spPr>
          <a:xfrm>
            <a:off x="0" y="2286000"/>
            <a:ext cx="38098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lightenment philosophers such as John Locke and Jean-Jacques Rousseau challenged the idea of the divine right of kings. They wrote about a government’s obligations to uphold people’s rights and how the government should be based on the consent of the govern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new ideas encouraged people to </a:t>
            </a:r>
            <a:endParaRPr b="0" lang="en-US" sz="1800" spc="-1" strike="noStrike">
              <a:solidFill>
                <a:srgbClr val="000000"/>
              </a:solidFill>
              <a:latin typeface="Arial"/>
            </a:endParaRPr>
          </a:p>
        </p:txBody>
      </p:sp>
      <p:sp>
        <p:nvSpPr>
          <p:cNvPr id="66" name="AutoShape 7"/>
          <p:cNvSpPr/>
          <p:nvPr/>
        </p:nvSpPr>
        <p:spPr>
          <a:xfrm>
            <a:off x="4267080" y="3276720"/>
            <a:ext cx="762120" cy="9144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8"/>
          <p:cNvSpPr/>
          <p:nvPr/>
        </p:nvSpPr>
        <p:spPr>
          <a:xfrm>
            <a:off x="5105520" y="1981080"/>
            <a:ext cx="3429000" cy="47574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main firm in their support of absolute monarchs.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 look for leaders who would  exercise dictatorial powers.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engage in revolutions to</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stablish democratic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government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call for church leade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create theocraci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replace th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archie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 name="Group 12"/>
          <p:cNvGrpSpPr/>
          <p:nvPr/>
        </p:nvGrpSpPr>
        <p:grpSpPr>
          <a:xfrm>
            <a:off x="5670720" y="3241800"/>
            <a:ext cx="2401560" cy="660240"/>
            <a:chOff x="5670720" y="3241800"/>
            <a:chExt cx="2401560" cy="660240"/>
          </a:xfrm>
        </p:grpSpPr>
        <p:sp>
          <p:nvSpPr>
            <p:cNvPr id="69" name="SMARTInkAnnotation0"/>
            <p:cNvSpPr/>
            <p:nvPr/>
          </p:nvSpPr>
          <p:spPr>
            <a:xfrm>
              <a:off x="5670720" y="3241800"/>
              <a:ext cx="2401560" cy="34920"/>
            </a:xfrm>
            <a:custGeom>
              <a:avLst/>
              <a:gdLst>
                <a:gd name="textAreaLeft" fmla="*/ 0 w 2401560"/>
                <a:gd name="textAreaRight" fmla="*/ 2401920 w 2401560"/>
                <a:gd name="textAreaTop" fmla="*/ 0 h 34920"/>
                <a:gd name="textAreaBottom" fmla="*/ 35280 h 34920"/>
              </a:gdLst>
              <a:ahLst/>
              <a:rect l="textAreaLeft" t="textAreaTop" r="textAreaRight" b="textAreaBottom"/>
              <a:pathLst>
                <a:path w="2402087" h="34892">
                  <a:moveTo>
                    <a:pt x="0" y="34891"/>
                  </a:moveTo>
                  <a:lnTo>
                    <a:pt x="4740" y="34891"/>
                  </a:lnTo>
                  <a:lnTo>
                    <a:pt x="7129" y="33899"/>
                  </a:lnTo>
                  <a:lnTo>
                    <a:pt x="9713" y="32245"/>
                  </a:lnTo>
                  <a:lnTo>
                    <a:pt x="12429" y="30150"/>
                  </a:lnTo>
                  <a:lnTo>
                    <a:pt x="15231" y="28754"/>
                  </a:lnTo>
                  <a:lnTo>
                    <a:pt x="18092" y="27823"/>
                  </a:lnTo>
                  <a:lnTo>
                    <a:pt x="23916" y="26789"/>
                  </a:lnTo>
                  <a:lnTo>
                    <a:pt x="47629" y="25994"/>
                  </a:lnTo>
                  <a:lnTo>
                    <a:pt x="50604" y="24991"/>
                  </a:lnTo>
                  <a:lnTo>
                    <a:pt x="53581" y="23330"/>
                  </a:lnTo>
                  <a:lnTo>
                    <a:pt x="56556" y="21230"/>
                  </a:lnTo>
                  <a:lnTo>
                    <a:pt x="59532" y="19831"/>
                  </a:lnTo>
                  <a:lnTo>
                    <a:pt x="62508" y="18898"/>
                  </a:lnTo>
                  <a:lnTo>
                    <a:pt x="69454" y="17861"/>
                  </a:lnTo>
                  <a:lnTo>
                    <a:pt x="143481" y="17033"/>
                  </a:lnTo>
                  <a:lnTo>
                    <a:pt x="1217447" y="17031"/>
                  </a:lnTo>
                  <a:lnTo>
                    <a:pt x="1229343" y="16039"/>
                  </a:lnTo>
                  <a:lnTo>
                    <a:pt x="1241242" y="14385"/>
                  </a:lnTo>
                  <a:lnTo>
                    <a:pt x="1253143" y="12291"/>
                  </a:lnTo>
                  <a:lnTo>
                    <a:pt x="1265046" y="10895"/>
                  </a:lnTo>
                  <a:lnTo>
                    <a:pt x="1276950" y="9964"/>
                  </a:lnTo>
                  <a:lnTo>
                    <a:pt x="1300760" y="8929"/>
                  </a:lnTo>
                  <a:lnTo>
                    <a:pt x="1372195" y="8175"/>
                  </a:lnTo>
                  <a:lnTo>
                    <a:pt x="1531195" y="8102"/>
                  </a:lnTo>
                  <a:lnTo>
                    <a:pt x="1542687" y="7110"/>
                  </a:lnTo>
                  <a:lnTo>
                    <a:pt x="1554318" y="5456"/>
                  </a:lnTo>
                  <a:lnTo>
                    <a:pt x="1566039" y="3362"/>
                  </a:lnTo>
                  <a:lnTo>
                    <a:pt x="1578815" y="1965"/>
                  </a:lnTo>
                  <a:lnTo>
                    <a:pt x="1592294" y="1034"/>
                  </a:lnTo>
                  <a:lnTo>
                    <a:pt x="1619507" y="0"/>
                  </a:lnTo>
                  <a:lnTo>
                    <a:pt x="1657139" y="410"/>
                  </a:lnTo>
                  <a:lnTo>
                    <a:pt x="1669314" y="1982"/>
                  </a:lnTo>
                  <a:lnTo>
                    <a:pt x="1681400" y="4022"/>
                  </a:lnTo>
                  <a:lnTo>
                    <a:pt x="1693425" y="5382"/>
                  </a:lnTo>
                  <a:lnTo>
                    <a:pt x="1705411" y="6289"/>
                  </a:lnTo>
                  <a:lnTo>
                    <a:pt x="1729312" y="7296"/>
                  </a:lnTo>
                  <a:lnTo>
                    <a:pt x="1794677" y="8031"/>
                  </a:lnTo>
                  <a:lnTo>
                    <a:pt x="2186380" y="8102"/>
                  </a:lnTo>
                  <a:lnTo>
                    <a:pt x="2195775" y="9094"/>
                  </a:lnTo>
                  <a:lnTo>
                    <a:pt x="2205014" y="10748"/>
                  </a:lnTo>
                  <a:lnTo>
                    <a:pt x="2214150" y="12843"/>
                  </a:lnTo>
                  <a:lnTo>
                    <a:pt x="2224210" y="14239"/>
                  </a:lnTo>
                  <a:lnTo>
                    <a:pt x="2234885" y="15170"/>
                  </a:lnTo>
                  <a:lnTo>
                    <a:pt x="2256337" y="16204"/>
                  </a:lnTo>
                  <a:lnTo>
                    <a:pt x="2330536" y="16999"/>
                  </a:lnTo>
                  <a:lnTo>
                    <a:pt x="2338511" y="18002"/>
                  </a:lnTo>
                  <a:lnTo>
                    <a:pt x="2345812" y="19663"/>
                  </a:lnTo>
                  <a:lnTo>
                    <a:pt x="2352664" y="21762"/>
                  </a:lnTo>
                  <a:lnTo>
                    <a:pt x="2359217" y="23162"/>
                  </a:lnTo>
                  <a:lnTo>
                    <a:pt x="2365568" y="24095"/>
                  </a:lnTo>
                  <a:lnTo>
                    <a:pt x="2377918" y="25132"/>
                  </a:lnTo>
                  <a:lnTo>
                    <a:pt x="2402086" y="25961"/>
                  </a:lnTo>
                </a:path>
              </a:pathLst>
            </a:custGeom>
            <a:noFill/>
            <a:ln w="38160">
              <a:solidFill>
                <a:srgbClr val="ff0000"/>
              </a:solidFill>
              <a:round/>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70" name="SMARTInkAnnotation1"/>
            <p:cNvSpPr/>
            <p:nvPr/>
          </p:nvSpPr>
          <p:spPr>
            <a:xfrm>
              <a:off x="5902560" y="3544560"/>
              <a:ext cx="1910520" cy="44640"/>
            </a:xfrm>
            <a:custGeom>
              <a:avLst/>
              <a:gdLst>
                <a:gd name="textAreaLeft" fmla="*/ 0 w 1910520"/>
                <a:gd name="textAreaRight" fmla="*/ 1910880 w 1910520"/>
                <a:gd name="textAreaTop" fmla="*/ 0 h 44640"/>
                <a:gd name="textAreaBottom" fmla="*/ 45000 h 44640"/>
              </a:gdLst>
              <a:ahLst/>
              <a:rect l="textAreaLeft" t="textAreaTop" r="textAreaRight" b="textAreaBottom"/>
              <a:pathLst>
                <a:path w="1910954" h="44650">
                  <a:moveTo>
                    <a:pt x="0" y="17860"/>
                  </a:moveTo>
                  <a:lnTo>
                    <a:pt x="43114" y="17860"/>
                  </a:lnTo>
                  <a:lnTo>
                    <a:pt x="48586" y="16867"/>
                  </a:lnTo>
                  <a:lnTo>
                    <a:pt x="54219" y="15214"/>
                  </a:lnTo>
                  <a:lnTo>
                    <a:pt x="59959" y="13119"/>
                  </a:lnTo>
                  <a:lnTo>
                    <a:pt x="65769" y="11723"/>
                  </a:lnTo>
                  <a:lnTo>
                    <a:pt x="71627" y="10792"/>
                  </a:lnTo>
                  <a:lnTo>
                    <a:pt x="91999" y="9482"/>
                  </a:lnTo>
                  <a:lnTo>
                    <a:pt x="144275" y="8963"/>
                  </a:lnTo>
                  <a:lnTo>
                    <a:pt x="152738" y="7959"/>
                  </a:lnTo>
                  <a:lnTo>
                    <a:pt x="161356" y="6299"/>
                  </a:lnTo>
                  <a:lnTo>
                    <a:pt x="170079" y="4199"/>
                  </a:lnTo>
                  <a:lnTo>
                    <a:pt x="178870" y="2799"/>
                  </a:lnTo>
                  <a:lnTo>
                    <a:pt x="187707" y="1867"/>
                  </a:lnTo>
                  <a:lnTo>
                    <a:pt x="214367" y="553"/>
                  </a:lnTo>
                  <a:lnTo>
                    <a:pt x="270541" y="49"/>
                  </a:lnTo>
                  <a:lnTo>
                    <a:pt x="489931" y="0"/>
                  </a:lnTo>
                  <a:lnTo>
                    <a:pt x="503230" y="993"/>
                  </a:lnTo>
                  <a:lnTo>
                    <a:pt x="516065" y="2646"/>
                  </a:lnTo>
                  <a:lnTo>
                    <a:pt x="528590" y="4741"/>
                  </a:lnTo>
                  <a:lnTo>
                    <a:pt x="541901" y="6137"/>
                  </a:lnTo>
                  <a:lnTo>
                    <a:pt x="555736" y="7068"/>
                  </a:lnTo>
                  <a:lnTo>
                    <a:pt x="598910" y="8379"/>
                  </a:lnTo>
                  <a:lnTo>
                    <a:pt x="888652" y="8930"/>
                  </a:lnTo>
                  <a:lnTo>
                    <a:pt x="904973" y="9922"/>
                  </a:lnTo>
                  <a:lnTo>
                    <a:pt x="921808" y="11576"/>
                  </a:lnTo>
                  <a:lnTo>
                    <a:pt x="938984" y="13671"/>
                  </a:lnTo>
                  <a:lnTo>
                    <a:pt x="956388" y="15067"/>
                  </a:lnTo>
                  <a:lnTo>
                    <a:pt x="973944" y="15998"/>
                  </a:lnTo>
                  <a:lnTo>
                    <a:pt x="1027095" y="17308"/>
                  </a:lnTo>
                  <a:lnTo>
                    <a:pt x="1684702" y="17860"/>
                  </a:lnTo>
                  <a:lnTo>
                    <a:pt x="1699595" y="18852"/>
                  </a:lnTo>
                  <a:lnTo>
                    <a:pt x="1714484" y="20505"/>
                  </a:lnTo>
                  <a:lnTo>
                    <a:pt x="1729373" y="22601"/>
                  </a:lnTo>
                  <a:lnTo>
                    <a:pt x="1743266" y="23997"/>
                  </a:lnTo>
                  <a:lnTo>
                    <a:pt x="1756498" y="24928"/>
                  </a:lnTo>
                  <a:lnTo>
                    <a:pt x="1769288" y="25548"/>
                  </a:lnTo>
                  <a:lnTo>
                    <a:pt x="1782775" y="26954"/>
                  </a:lnTo>
                  <a:lnTo>
                    <a:pt x="1796727" y="28883"/>
                  </a:lnTo>
                  <a:lnTo>
                    <a:pt x="1810990" y="31162"/>
                  </a:lnTo>
                  <a:lnTo>
                    <a:pt x="1823475" y="32681"/>
                  </a:lnTo>
                  <a:lnTo>
                    <a:pt x="1834776" y="33694"/>
                  </a:lnTo>
                  <a:lnTo>
                    <a:pt x="1845285" y="34369"/>
                  </a:lnTo>
                  <a:lnTo>
                    <a:pt x="1855267" y="35811"/>
                  </a:lnTo>
                  <a:lnTo>
                    <a:pt x="1864900" y="37765"/>
                  </a:lnTo>
                  <a:lnTo>
                    <a:pt x="1874298" y="40059"/>
                  </a:lnTo>
                  <a:lnTo>
                    <a:pt x="1882547" y="41589"/>
                  </a:lnTo>
                  <a:lnTo>
                    <a:pt x="1890031" y="42609"/>
                  </a:lnTo>
                  <a:lnTo>
                    <a:pt x="1910953" y="44649"/>
                  </a:lnTo>
                </a:path>
              </a:pathLst>
            </a:custGeom>
            <a:noFill/>
            <a:ln w="38160">
              <a:solidFill>
                <a:srgbClr val="ff0000"/>
              </a:solidFill>
              <a:round/>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71" name="SMARTInkAnnotation2"/>
            <p:cNvSpPr/>
            <p:nvPr/>
          </p:nvSpPr>
          <p:spPr>
            <a:xfrm>
              <a:off x="6179400" y="3857400"/>
              <a:ext cx="1731960" cy="44640"/>
            </a:xfrm>
            <a:custGeom>
              <a:avLst/>
              <a:gdLst>
                <a:gd name="textAreaLeft" fmla="*/ 0 w 1731960"/>
                <a:gd name="textAreaRight" fmla="*/ 1732320 w 1731960"/>
                <a:gd name="textAreaTop" fmla="*/ 0 h 44640"/>
                <a:gd name="textAreaBottom" fmla="*/ 45000 h 44640"/>
              </a:gdLst>
              <a:ahLst/>
              <a:rect l="textAreaLeft" t="textAreaTop" r="textAreaRight" b="textAreaBottom"/>
              <a:pathLst>
                <a:path w="1732361" h="44649">
                  <a:moveTo>
                    <a:pt x="0" y="8929"/>
                  </a:moveTo>
                  <a:lnTo>
                    <a:pt x="132794" y="8929"/>
                  </a:lnTo>
                  <a:lnTo>
                    <a:pt x="143100" y="7937"/>
                  </a:lnTo>
                  <a:lnTo>
                    <a:pt x="153939" y="6284"/>
                  </a:lnTo>
                  <a:lnTo>
                    <a:pt x="165134" y="4188"/>
                  </a:lnTo>
                  <a:lnTo>
                    <a:pt x="176566" y="2792"/>
                  </a:lnTo>
                  <a:lnTo>
                    <a:pt x="188156" y="1861"/>
                  </a:lnTo>
                  <a:lnTo>
                    <a:pt x="226075" y="551"/>
                  </a:lnTo>
                  <a:lnTo>
                    <a:pt x="461113" y="0"/>
                  </a:lnTo>
                  <a:lnTo>
                    <a:pt x="477073" y="992"/>
                  </a:lnTo>
                  <a:lnTo>
                    <a:pt x="493665" y="2645"/>
                  </a:lnTo>
                  <a:lnTo>
                    <a:pt x="510681" y="4740"/>
                  </a:lnTo>
                  <a:lnTo>
                    <a:pt x="526986" y="6136"/>
                  </a:lnTo>
                  <a:lnTo>
                    <a:pt x="542817" y="7068"/>
                  </a:lnTo>
                  <a:lnTo>
                    <a:pt x="591444" y="8378"/>
                  </a:lnTo>
                  <a:lnTo>
                    <a:pt x="709756" y="8897"/>
                  </a:lnTo>
                  <a:lnTo>
                    <a:pt x="726178" y="9900"/>
                  </a:lnTo>
                  <a:lnTo>
                    <a:pt x="743080" y="11561"/>
                  </a:lnTo>
                  <a:lnTo>
                    <a:pt x="760301" y="13660"/>
                  </a:lnTo>
                  <a:lnTo>
                    <a:pt x="777735" y="15060"/>
                  </a:lnTo>
                  <a:lnTo>
                    <a:pt x="795311" y="15993"/>
                  </a:lnTo>
                  <a:lnTo>
                    <a:pt x="848489" y="17306"/>
                  </a:lnTo>
                  <a:lnTo>
                    <a:pt x="1451167" y="17859"/>
                  </a:lnTo>
                  <a:lnTo>
                    <a:pt x="1466515" y="18851"/>
                  </a:lnTo>
                  <a:lnTo>
                    <a:pt x="1481707" y="20505"/>
                  </a:lnTo>
                  <a:lnTo>
                    <a:pt x="1496798" y="22600"/>
                  </a:lnTo>
                  <a:lnTo>
                    <a:pt x="1511818" y="23996"/>
                  </a:lnTo>
                  <a:lnTo>
                    <a:pt x="1526792" y="24927"/>
                  </a:lnTo>
                  <a:lnTo>
                    <a:pt x="1568925" y="26237"/>
                  </a:lnTo>
                  <a:lnTo>
                    <a:pt x="1618717" y="26680"/>
                  </a:lnTo>
                  <a:lnTo>
                    <a:pt x="1629809" y="27708"/>
                  </a:lnTo>
                  <a:lnTo>
                    <a:pt x="1640179" y="29386"/>
                  </a:lnTo>
                  <a:lnTo>
                    <a:pt x="1650070" y="31497"/>
                  </a:lnTo>
                  <a:lnTo>
                    <a:pt x="1660632" y="32904"/>
                  </a:lnTo>
                  <a:lnTo>
                    <a:pt x="1671643" y="33842"/>
                  </a:lnTo>
                  <a:lnTo>
                    <a:pt x="1682953" y="34468"/>
                  </a:lnTo>
                  <a:lnTo>
                    <a:pt x="1692477" y="35877"/>
                  </a:lnTo>
                  <a:lnTo>
                    <a:pt x="1700810" y="37808"/>
                  </a:lnTo>
                  <a:lnTo>
                    <a:pt x="1708349" y="40088"/>
                  </a:lnTo>
                  <a:lnTo>
                    <a:pt x="1714369" y="41608"/>
                  </a:lnTo>
                  <a:lnTo>
                    <a:pt x="1719374" y="42622"/>
                  </a:lnTo>
                  <a:lnTo>
                    <a:pt x="1732360" y="44648"/>
                  </a:lnTo>
                </a:path>
              </a:pathLst>
            </a:custGeom>
            <a:noFill/>
            <a:ln w="38160">
              <a:solidFill>
                <a:srgbClr val="ff0000"/>
              </a:solidFill>
              <a:round/>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grpSp>
      <p:sp>
        <p:nvSpPr>
          <p:cNvPr id="72" name="SMARTInkAnnotation3"/>
          <p:cNvSpPr/>
          <p:nvPr/>
        </p:nvSpPr>
        <p:spPr>
          <a:xfrm>
            <a:off x="5653080" y="2135160"/>
            <a:ext cx="2214720" cy="34920"/>
          </a:xfrm>
          <a:custGeom>
            <a:avLst/>
            <a:gdLst>
              <a:gd name="textAreaLeft" fmla="*/ 0 w 2214720"/>
              <a:gd name="textAreaRight" fmla="*/ 2215080 w 2214720"/>
              <a:gd name="textAreaTop" fmla="*/ 0 h 34920"/>
              <a:gd name="textAreaBottom" fmla="*/ 35280 h 34920"/>
            </a:gdLst>
            <a:ahLst/>
            <a:rect l="textAreaLeft" t="textAreaTop" r="textAreaRight" b="textAreaBottom"/>
            <a:pathLst>
              <a:path w="2214563" h="34886">
                <a:moveTo>
                  <a:pt x="0" y="34885"/>
                </a:moveTo>
                <a:lnTo>
                  <a:pt x="7688" y="34885"/>
                </a:lnTo>
                <a:lnTo>
                  <a:pt x="9094" y="33892"/>
                </a:lnTo>
                <a:lnTo>
                  <a:pt x="11024" y="32239"/>
                </a:lnTo>
                <a:lnTo>
                  <a:pt x="13302" y="30144"/>
                </a:lnTo>
                <a:lnTo>
                  <a:pt x="15813" y="28748"/>
                </a:lnTo>
                <a:lnTo>
                  <a:pt x="18480" y="27817"/>
                </a:lnTo>
                <a:lnTo>
                  <a:pt x="24088" y="26782"/>
                </a:lnTo>
                <a:lnTo>
                  <a:pt x="29889" y="26323"/>
                </a:lnTo>
                <a:lnTo>
                  <a:pt x="33816" y="25208"/>
                </a:lnTo>
                <a:lnTo>
                  <a:pt x="38419" y="23472"/>
                </a:lnTo>
                <a:lnTo>
                  <a:pt x="43472" y="21324"/>
                </a:lnTo>
                <a:lnTo>
                  <a:pt x="48825" y="19891"/>
                </a:lnTo>
                <a:lnTo>
                  <a:pt x="54378" y="18936"/>
                </a:lnTo>
                <a:lnTo>
                  <a:pt x="65840" y="17874"/>
                </a:lnTo>
                <a:lnTo>
                  <a:pt x="77548" y="17403"/>
                </a:lnTo>
                <a:lnTo>
                  <a:pt x="83449" y="16285"/>
                </a:lnTo>
                <a:lnTo>
                  <a:pt x="89367" y="14547"/>
                </a:lnTo>
                <a:lnTo>
                  <a:pt x="95297" y="12397"/>
                </a:lnTo>
                <a:lnTo>
                  <a:pt x="101234" y="10963"/>
                </a:lnTo>
                <a:lnTo>
                  <a:pt x="107177" y="10007"/>
                </a:lnTo>
                <a:lnTo>
                  <a:pt x="119071" y="8945"/>
                </a:lnTo>
                <a:lnTo>
                  <a:pt x="153570" y="8207"/>
                </a:lnTo>
                <a:lnTo>
                  <a:pt x="160919" y="7178"/>
                </a:lnTo>
                <a:lnTo>
                  <a:pt x="167803" y="5500"/>
                </a:lnTo>
                <a:lnTo>
                  <a:pt x="174376" y="3388"/>
                </a:lnTo>
                <a:lnTo>
                  <a:pt x="181735" y="1981"/>
                </a:lnTo>
                <a:lnTo>
                  <a:pt x="189618" y="1042"/>
                </a:lnTo>
                <a:lnTo>
                  <a:pt x="206313" y="0"/>
                </a:lnTo>
                <a:lnTo>
                  <a:pt x="259042" y="231"/>
                </a:lnTo>
                <a:lnTo>
                  <a:pt x="267945" y="1860"/>
                </a:lnTo>
                <a:lnTo>
                  <a:pt x="276856" y="3939"/>
                </a:lnTo>
                <a:lnTo>
                  <a:pt x="285774" y="5324"/>
                </a:lnTo>
                <a:lnTo>
                  <a:pt x="294695" y="6248"/>
                </a:lnTo>
                <a:lnTo>
                  <a:pt x="313538" y="7274"/>
                </a:lnTo>
                <a:lnTo>
                  <a:pt x="375212" y="8023"/>
                </a:lnTo>
                <a:lnTo>
                  <a:pt x="793421" y="8096"/>
                </a:lnTo>
                <a:lnTo>
                  <a:pt x="807752" y="9088"/>
                </a:lnTo>
                <a:lnTo>
                  <a:pt x="822267" y="10742"/>
                </a:lnTo>
                <a:lnTo>
                  <a:pt x="836904" y="12836"/>
                </a:lnTo>
                <a:lnTo>
                  <a:pt x="850631" y="14232"/>
                </a:lnTo>
                <a:lnTo>
                  <a:pt x="863751" y="15163"/>
                </a:lnTo>
                <a:lnTo>
                  <a:pt x="889905" y="15206"/>
                </a:lnTo>
                <a:lnTo>
                  <a:pt x="903824" y="13828"/>
                </a:lnTo>
                <a:lnTo>
                  <a:pt x="918065" y="11917"/>
                </a:lnTo>
                <a:lnTo>
                  <a:pt x="932520" y="10643"/>
                </a:lnTo>
                <a:lnTo>
                  <a:pt x="947117" y="9794"/>
                </a:lnTo>
                <a:lnTo>
                  <a:pt x="975573" y="8850"/>
                </a:lnTo>
                <a:lnTo>
                  <a:pt x="1031472" y="8245"/>
                </a:lnTo>
                <a:lnTo>
                  <a:pt x="1943328" y="8096"/>
                </a:lnTo>
                <a:lnTo>
                  <a:pt x="1959324" y="9088"/>
                </a:lnTo>
                <a:lnTo>
                  <a:pt x="1975943" y="10742"/>
                </a:lnTo>
                <a:lnTo>
                  <a:pt x="1992975" y="12836"/>
                </a:lnTo>
                <a:lnTo>
                  <a:pt x="2009291" y="14232"/>
                </a:lnTo>
                <a:lnTo>
                  <a:pt x="2025129" y="15163"/>
                </a:lnTo>
                <a:lnTo>
                  <a:pt x="2040647" y="15784"/>
                </a:lnTo>
                <a:lnTo>
                  <a:pt x="2054963" y="17190"/>
                </a:lnTo>
                <a:lnTo>
                  <a:pt x="2068476" y="19119"/>
                </a:lnTo>
                <a:lnTo>
                  <a:pt x="2081452" y="21398"/>
                </a:lnTo>
                <a:lnTo>
                  <a:pt x="2094072" y="22917"/>
                </a:lnTo>
                <a:lnTo>
                  <a:pt x="2106455" y="23929"/>
                </a:lnTo>
                <a:lnTo>
                  <a:pt x="2118678" y="24605"/>
                </a:lnTo>
                <a:lnTo>
                  <a:pt x="2154843" y="25555"/>
                </a:lnTo>
                <a:lnTo>
                  <a:pt x="2164828" y="26680"/>
                </a:lnTo>
                <a:lnTo>
                  <a:pt x="2173469" y="28423"/>
                </a:lnTo>
                <a:lnTo>
                  <a:pt x="2181213" y="30577"/>
                </a:lnTo>
                <a:lnTo>
                  <a:pt x="2188361" y="32013"/>
                </a:lnTo>
                <a:lnTo>
                  <a:pt x="2195111" y="32970"/>
                </a:lnTo>
                <a:lnTo>
                  <a:pt x="2214562" y="34885"/>
                </a:lnTo>
              </a:path>
            </a:pathLst>
          </a:custGeom>
          <a:noFill/>
          <a:ln w="38160">
            <a:solidFill>
              <a:srgbClr val="0000ff"/>
            </a:solidFill>
            <a:round/>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73" name="SMARTInkAnnotation4"/>
          <p:cNvSpPr/>
          <p:nvPr/>
        </p:nvSpPr>
        <p:spPr>
          <a:xfrm>
            <a:off x="5991120" y="2401920"/>
            <a:ext cx="1812960" cy="71280"/>
          </a:xfrm>
          <a:custGeom>
            <a:avLst/>
            <a:gdLst>
              <a:gd name="textAreaLeft" fmla="*/ 0 w 1812960"/>
              <a:gd name="textAreaRight" fmla="*/ 1813320 w 1812960"/>
              <a:gd name="textAreaTop" fmla="*/ 0 h 71280"/>
              <a:gd name="textAreaBottom" fmla="*/ 71640 h 71280"/>
            </a:gdLst>
            <a:ahLst/>
            <a:rect l="textAreaLeft" t="textAreaTop" r="textAreaRight" b="textAreaBottom"/>
            <a:pathLst>
              <a:path w="1812727" h="71390">
                <a:moveTo>
                  <a:pt x="0" y="62508"/>
                </a:moveTo>
                <a:lnTo>
                  <a:pt x="34628" y="62508"/>
                </a:lnTo>
                <a:lnTo>
                  <a:pt x="39953" y="63500"/>
                </a:lnTo>
                <a:lnTo>
                  <a:pt x="45487" y="65154"/>
                </a:lnTo>
                <a:lnTo>
                  <a:pt x="51160" y="67249"/>
                </a:lnTo>
                <a:lnTo>
                  <a:pt x="56927" y="68645"/>
                </a:lnTo>
                <a:lnTo>
                  <a:pt x="74524" y="70611"/>
                </a:lnTo>
                <a:lnTo>
                  <a:pt x="128452" y="71389"/>
                </a:lnTo>
                <a:lnTo>
                  <a:pt x="184999" y="70439"/>
                </a:lnTo>
                <a:lnTo>
                  <a:pt x="196755" y="68788"/>
                </a:lnTo>
                <a:lnTo>
                  <a:pt x="208561" y="66694"/>
                </a:lnTo>
                <a:lnTo>
                  <a:pt x="221392" y="65299"/>
                </a:lnTo>
                <a:lnTo>
                  <a:pt x="263153" y="63335"/>
                </a:lnTo>
                <a:lnTo>
                  <a:pt x="321709" y="62671"/>
                </a:lnTo>
                <a:lnTo>
                  <a:pt x="352333" y="61589"/>
                </a:lnTo>
                <a:lnTo>
                  <a:pt x="368834" y="59911"/>
                </a:lnTo>
                <a:lnTo>
                  <a:pt x="385788" y="57800"/>
                </a:lnTo>
                <a:lnTo>
                  <a:pt x="404035" y="56393"/>
                </a:lnTo>
                <a:lnTo>
                  <a:pt x="442831" y="54829"/>
                </a:lnTo>
                <a:lnTo>
                  <a:pt x="498980" y="53949"/>
                </a:lnTo>
                <a:lnTo>
                  <a:pt x="558060" y="53688"/>
                </a:lnTo>
                <a:lnTo>
                  <a:pt x="579407" y="52660"/>
                </a:lnTo>
                <a:lnTo>
                  <a:pt x="601576" y="50982"/>
                </a:lnTo>
                <a:lnTo>
                  <a:pt x="624293" y="48871"/>
                </a:lnTo>
                <a:lnTo>
                  <a:pt x="646382" y="47463"/>
                </a:lnTo>
                <a:lnTo>
                  <a:pt x="689448" y="45900"/>
                </a:lnTo>
                <a:lnTo>
                  <a:pt x="779823" y="44896"/>
                </a:lnTo>
                <a:lnTo>
                  <a:pt x="1154503" y="44649"/>
                </a:lnTo>
                <a:lnTo>
                  <a:pt x="1175474" y="43657"/>
                </a:lnTo>
                <a:lnTo>
                  <a:pt x="1196399" y="42003"/>
                </a:lnTo>
                <a:lnTo>
                  <a:pt x="1217295" y="39909"/>
                </a:lnTo>
                <a:lnTo>
                  <a:pt x="1238170" y="38512"/>
                </a:lnTo>
                <a:lnTo>
                  <a:pt x="1279886" y="36961"/>
                </a:lnTo>
                <a:lnTo>
                  <a:pt x="1299742" y="35555"/>
                </a:lnTo>
                <a:lnTo>
                  <a:pt x="1318932" y="33625"/>
                </a:lnTo>
                <a:lnTo>
                  <a:pt x="1377029" y="26169"/>
                </a:lnTo>
                <a:lnTo>
                  <a:pt x="1397246" y="23399"/>
                </a:lnTo>
                <a:lnTo>
                  <a:pt x="1416677" y="21553"/>
                </a:lnTo>
                <a:lnTo>
                  <a:pt x="1454142" y="19501"/>
                </a:lnTo>
                <a:lnTo>
                  <a:pt x="1472467" y="17962"/>
                </a:lnTo>
                <a:lnTo>
                  <a:pt x="1490637" y="15944"/>
                </a:lnTo>
                <a:lnTo>
                  <a:pt x="1508703" y="13606"/>
                </a:lnTo>
                <a:lnTo>
                  <a:pt x="1525708" y="12047"/>
                </a:lnTo>
                <a:lnTo>
                  <a:pt x="1557832" y="10316"/>
                </a:lnTo>
                <a:lnTo>
                  <a:pt x="1574336" y="8862"/>
                </a:lnTo>
                <a:lnTo>
                  <a:pt x="1591292" y="6900"/>
                </a:lnTo>
                <a:lnTo>
                  <a:pt x="1608549" y="4600"/>
                </a:lnTo>
                <a:lnTo>
                  <a:pt x="1625014" y="3067"/>
                </a:lnTo>
                <a:lnTo>
                  <a:pt x="1670897" y="909"/>
                </a:lnTo>
                <a:lnTo>
                  <a:pt x="1725105" y="180"/>
                </a:lnTo>
                <a:lnTo>
                  <a:pt x="1812726" y="0"/>
                </a:lnTo>
              </a:path>
            </a:pathLst>
          </a:custGeom>
          <a:noFill/>
          <a:ln w="38160">
            <a:solidFill>
              <a:srgbClr val="0000ff"/>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74" name="SMARTInkAnnotation5"/>
          <p:cNvSpPr/>
          <p:nvPr/>
        </p:nvSpPr>
        <p:spPr>
          <a:xfrm>
            <a:off x="6143760" y="2687760"/>
            <a:ext cx="1152360" cy="54000"/>
          </a:xfrm>
          <a:custGeom>
            <a:avLst/>
            <a:gdLst>
              <a:gd name="textAreaLeft" fmla="*/ 0 w 1152360"/>
              <a:gd name="textAreaRight" fmla="*/ 1152720 w 1152360"/>
              <a:gd name="textAreaTop" fmla="*/ 0 h 54000"/>
              <a:gd name="textAreaBottom" fmla="*/ 54360 h 54000"/>
            </a:gdLst>
            <a:ahLst/>
            <a:rect l="textAreaLeft" t="textAreaTop" r="textAreaRight" b="textAreaBottom"/>
            <a:pathLst>
              <a:path w="1151930" h="53578">
                <a:moveTo>
                  <a:pt x="0" y="26788"/>
                </a:moveTo>
                <a:lnTo>
                  <a:pt x="0" y="22047"/>
                </a:lnTo>
                <a:lnTo>
                  <a:pt x="992" y="20651"/>
                </a:lnTo>
                <a:lnTo>
                  <a:pt x="2645" y="19720"/>
                </a:lnTo>
                <a:lnTo>
                  <a:pt x="7688" y="18226"/>
                </a:lnTo>
                <a:lnTo>
                  <a:pt x="10086" y="17111"/>
                </a:lnTo>
                <a:lnTo>
                  <a:pt x="18043" y="13226"/>
                </a:lnTo>
                <a:lnTo>
                  <a:pt x="22942" y="11794"/>
                </a:lnTo>
                <a:lnTo>
                  <a:pt x="33678" y="10202"/>
                </a:lnTo>
                <a:lnTo>
                  <a:pt x="39320" y="8785"/>
                </a:lnTo>
                <a:lnTo>
                  <a:pt x="45064" y="6848"/>
                </a:lnTo>
                <a:lnTo>
                  <a:pt x="50879" y="4565"/>
                </a:lnTo>
                <a:lnTo>
                  <a:pt x="57732" y="3043"/>
                </a:lnTo>
                <a:lnTo>
                  <a:pt x="65277" y="2028"/>
                </a:lnTo>
                <a:lnTo>
                  <a:pt x="98773" y="399"/>
                </a:lnTo>
                <a:lnTo>
                  <a:pt x="156593" y="34"/>
                </a:lnTo>
                <a:lnTo>
                  <a:pt x="266724" y="0"/>
                </a:lnTo>
                <a:lnTo>
                  <a:pt x="281003" y="991"/>
                </a:lnTo>
                <a:lnTo>
                  <a:pt x="295483" y="2645"/>
                </a:lnTo>
                <a:lnTo>
                  <a:pt x="310099" y="4739"/>
                </a:lnTo>
                <a:lnTo>
                  <a:pt x="324803" y="6135"/>
                </a:lnTo>
                <a:lnTo>
                  <a:pt x="354369" y="7687"/>
                </a:lnTo>
                <a:lnTo>
                  <a:pt x="370192" y="9093"/>
                </a:lnTo>
                <a:lnTo>
                  <a:pt x="386692" y="11022"/>
                </a:lnTo>
                <a:lnTo>
                  <a:pt x="403647" y="13301"/>
                </a:lnTo>
                <a:lnTo>
                  <a:pt x="420902" y="14820"/>
                </a:lnTo>
                <a:lnTo>
                  <a:pt x="438359" y="15832"/>
                </a:lnTo>
                <a:lnTo>
                  <a:pt x="455950" y="16508"/>
                </a:lnTo>
                <a:lnTo>
                  <a:pt x="473630" y="17950"/>
                </a:lnTo>
                <a:lnTo>
                  <a:pt x="491370" y="19904"/>
                </a:lnTo>
                <a:lnTo>
                  <a:pt x="509151" y="22198"/>
                </a:lnTo>
                <a:lnTo>
                  <a:pt x="526957" y="23728"/>
                </a:lnTo>
                <a:lnTo>
                  <a:pt x="544781" y="24748"/>
                </a:lnTo>
                <a:lnTo>
                  <a:pt x="580461" y="25881"/>
                </a:lnTo>
                <a:lnTo>
                  <a:pt x="616161" y="26384"/>
                </a:lnTo>
                <a:lnTo>
                  <a:pt x="635008" y="27511"/>
                </a:lnTo>
                <a:lnTo>
                  <a:pt x="654518" y="29254"/>
                </a:lnTo>
                <a:lnTo>
                  <a:pt x="674471" y="31409"/>
                </a:lnTo>
                <a:lnTo>
                  <a:pt x="694717" y="32845"/>
                </a:lnTo>
                <a:lnTo>
                  <a:pt x="715160" y="33802"/>
                </a:lnTo>
                <a:lnTo>
                  <a:pt x="756395" y="34866"/>
                </a:lnTo>
                <a:lnTo>
                  <a:pt x="797873" y="35339"/>
                </a:lnTo>
                <a:lnTo>
                  <a:pt x="818658" y="36457"/>
                </a:lnTo>
                <a:lnTo>
                  <a:pt x="839459" y="38195"/>
                </a:lnTo>
                <a:lnTo>
                  <a:pt x="860273" y="40346"/>
                </a:lnTo>
                <a:lnTo>
                  <a:pt x="881093" y="41780"/>
                </a:lnTo>
                <a:lnTo>
                  <a:pt x="901918" y="42735"/>
                </a:lnTo>
                <a:lnTo>
                  <a:pt x="943578" y="43797"/>
                </a:lnTo>
                <a:lnTo>
                  <a:pt x="1038269" y="44535"/>
                </a:lnTo>
                <a:lnTo>
                  <a:pt x="1054328" y="45564"/>
                </a:lnTo>
                <a:lnTo>
                  <a:pt x="1069995" y="47243"/>
                </a:lnTo>
                <a:lnTo>
                  <a:pt x="1085401" y="49354"/>
                </a:lnTo>
                <a:lnTo>
                  <a:pt x="1099639" y="50762"/>
                </a:lnTo>
                <a:lnTo>
                  <a:pt x="1113101" y="51700"/>
                </a:lnTo>
                <a:lnTo>
                  <a:pt x="1151929" y="53577"/>
                </a:lnTo>
              </a:path>
            </a:pathLst>
          </a:custGeom>
          <a:noFill/>
          <a:ln w="38160">
            <a:solidFill>
              <a:srgbClr val="0000ff"/>
            </a:solidFill>
            <a:round/>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75" name="Freeform 17"/>
          <p:cNvSpPr/>
          <p:nvPr/>
        </p:nvSpPr>
        <p:spPr>
          <a:xfrm>
            <a:off x="7313760" y="2741760"/>
            <a:ext cx="2880" cy="360"/>
          </a:xfrm>
          <a:custGeom>
            <a:avLst/>
            <a:gdLst>
              <a:gd name="textAreaLeft" fmla="*/ 0 w 2880"/>
              <a:gd name="textAreaRight" fmla="*/ 3240 w 2880"/>
              <a:gd name="textAreaTop" fmla="*/ 0 h 360"/>
              <a:gd name="textAreaBottom" fmla="*/ 720 h 360"/>
            </a:gdLst>
            <a:ahLst/>
            <a:rect l="textAreaLeft" t="textAreaTop" r="textAreaRight" b="textAreaBottom"/>
            <a:pathLst>
              <a:path w="2646" h="1">
                <a:moveTo>
                  <a:pt x="0" y="0"/>
                </a:moveTo>
                <a:lnTo>
                  <a:pt x="2645" y="0"/>
                </a:lnTo>
                <a:close/>
              </a:path>
            </a:pathLst>
          </a:custGeom>
          <a:solidFill>
            <a:srgbClr val="bbe0e3"/>
          </a:solidFill>
          <a:ln w="38160">
            <a:solidFill>
              <a:srgbClr val="0000ff"/>
            </a:solidFill>
            <a:round/>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Arial"/>
            </a:endParaRPr>
          </a:p>
        </p:txBody>
      </p:sp>
      <p:grpSp>
        <p:nvGrpSpPr>
          <p:cNvPr id="76" name="Group 25"/>
          <p:cNvGrpSpPr/>
          <p:nvPr/>
        </p:nvGrpSpPr>
        <p:grpSpPr>
          <a:xfrm>
            <a:off x="5200560" y="3884760"/>
            <a:ext cx="3630600" cy="2535120"/>
            <a:chOff x="5200560" y="3884760"/>
            <a:chExt cx="3630600" cy="2535120"/>
          </a:xfrm>
        </p:grpSpPr>
        <p:sp>
          <p:nvSpPr>
            <p:cNvPr id="77" name="SMARTInkAnnotation7"/>
            <p:cNvSpPr/>
            <p:nvPr/>
          </p:nvSpPr>
          <p:spPr>
            <a:xfrm>
              <a:off x="5760000" y="5438160"/>
              <a:ext cx="2553480" cy="142560"/>
            </a:xfrm>
            <a:custGeom>
              <a:avLst/>
              <a:gdLst>
                <a:gd name="textAreaLeft" fmla="*/ 0 w 2553480"/>
                <a:gd name="textAreaRight" fmla="*/ 2553840 w 2553480"/>
                <a:gd name="textAreaTop" fmla="*/ 0 h 142560"/>
                <a:gd name="textAreaBottom" fmla="*/ 142920 h 142560"/>
              </a:gdLst>
              <a:ahLst/>
              <a:rect l="textAreaLeft" t="textAreaTop" r="textAreaRight" b="textAreaBottom"/>
              <a:pathLst>
                <a:path w="2553892" h="142865">
                  <a:moveTo>
                    <a:pt x="0" y="26778"/>
                  </a:moveTo>
                  <a:lnTo>
                    <a:pt x="52034" y="26778"/>
                  </a:lnTo>
                  <a:lnTo>
                    <a:pt x="63144" y="29424"/>
                  </a:lnTo>
                  <a:lnTo>
                    <a:pt x="68885" y="31518"/>
                  </a:lnTo>
                  <a:lnTo>
                    <a:pt x="99487" y="35873"/>
                  </a:lnTo>
                  <a:lnTo>
                    <a:pt x="116646" y="40081"/>
                  </a:lnTo>
                  <a:lnTo>
                    <a:pt x="160808" y="44038"/>
                  </a:lnTo>
                  <a:lnTo>
                    <a:pt x="231100" y="44585"/>
                  </a:lnTo>
                  <a:lnTo>
                    <a:pt x="267573" y="47268"/>
                  </a:lnTo>
                  <a:lnTo>
                    <a:pt x="306161" y="51700"/>
                  </a:lnTo>
                  <a:lnTo>
                    <a:pt x="379352" y="53322"/>
                  </a:lnTo>
                  <a:lnTo>
                    <a:pt x="460171" y="53535"/>
                  </a:lnTo>
                  <a:lnTo>
                    <a:pt x="495893" y="50907"/>
                  </a:lnTo>
                  <a:lnTo>
                    <a:pt x="555051" y="46495"/>
                  </a:lnTo>
                  <a:lnTo>
                    <a:pt x="616567" y="42542"/>
                  </a:lnTo>
                  <a:lnTo>
                    <a:pt x="658006" y="38745"/>
                  </a:lnTo>
                  <a:lnTo>
                    <a:pt x="720383" y="35616"/>
                  </a:lnTo>
                  <a:lnTo>
                    <a:pt x="762024" y="31368"/>
                  </a:lnTo>
                  <a:lnTo>
                    <a:pt x="833996" y="23397"/>
                  </a:lnTo>
                  <a:lnTo>
                    <a:pt x="955159" y="15934"/>
                  </a:lnTo>
                  <a:lnTo>
                    <a:pt x="1003952" y="12036"/>
                  </a:lnTo>
                  <a:lnTo>
                    <a:pt x="1081626" y="8850"/>
                  </a:lnTo>
                  <a:lnTo>
                    <a:pt x="1134574" y="4589"/>
                  </a:lnTo>
                  <a:lnTo>
                    <a:pt x="1187873" y="2034"/>
                  </a:lnTo>
                  <a:lnTo>
                    <a:pt x="1241326" y="898"/>
                  </a:lnTo>
                  <a:lnTo>
                    <a:pt x="1549210" y="0"/>
                  </a:lnTo>
                  <a:lnTo>
                    <a:pt x="1605318" y="2640"/>
                  </a:lnTo>
                  <a:lnTo>
                    <a:pt x="1723581" y="12419"/>
                  </a:lnTo>
                  <a:lnTo>
                    <a:pt x="1904752" y="29800"/>
                  </a:lnTo>
                  <a:lnTo>
                    <a:pt x="1934600" y="33754"/>
                  </a:lnTo>
                  <a:lnTo>
                    <a:pt x="1964420" y="38374"/>
                  </a:lnTo>
                  <a:lnTo>
                    <a:pt x="1994223" y="43438"/>
                  </a:lnTo>
                  <a:lnTo>
                    <a:pt x="2024014" y="47807"/>
                  </a:lnTo>
                  <a:lnTo>
                    <a:pt x="2083571" y="55306"/>
                  </a:lnTo>
                  <a:lnTo>
                    <a:pt x="2112352" y="59688"/>
                  </a:lnTo>
                  <a:lnTo>
                    <a:pt x="2140469" y="64593"/>
                  </a:lnTo>
                  <a:lnTo>
                    <a:pt x="2195523" y="75334"/>
                  </a:lnTo>
                  <a:lnTo>
                    <a:pt x="2249757" y="86723"/>
                  </a:lnTo>
                  <a:lnTo>
                    <a:pt x="2275728" y="91546"/>
                  </a:lnTo>
                  <a:lnTo>
                    <a:pt x="2325753" y="99551"/>
                  </a:lnTo>
                  <a:lnTo>
                    <a:pt x="2349212" y="104067"/>
                  </a:lnTo>
                  <a:lnTo>
                    <a:pt x="2371798" y="109062"/>
                  </a:lnTo>
                  <a:lnTo>
                    <a:pt x="2393801" y="114376"/>
                  </a:lnTo>
                  <a:lnTo>
                    <a:pt x="2414422" y="118912"/>
                  </a:lnTo>
                  <a:lnTo>
                    <a:pt x="2453208" y="126596"/>
                  </a:lnTo>
                  <a:lnTo>
                    <a:pt x="2487645" y="130673"/>
                  </a:lnTo>
                  <a:lnTo>
                    <a:pt x="2516510" y="133477"/>
                  </a:lnTo>
                  <a:lnTo>
                    <a:pt x="2526986" y="135614"/>
                  </a:lnTo>
                  <a:lnTo>
                    <a:pt x="2553891" y="14286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SMARTInkAnnotation8"/>
            <p:cNvSpPr/>
            <p:nvPr/>
          </p:nvSpPr>
          <p:spPr>
            <a:xfrm>
              <a:off x="5670720" y="5670000"/>
              <a:ext cx="2526480" cy="71280"/>
            </a:xfrm>
            <a:custGeom>
              <a:avLst/>
              <a:gdLst>
                <a:gd name="textAreaLeft" fmla="*/ 0 w 2526480"/>
                <a:gd name="textAreaRight" fmla="*/ 2526840 w 2526480"/>
                <a:gd name="textAreaTop" fmla="*/ 0 h 71280"/>
                <a:gd name="textAreaBottom" fmla="*/ 71640 h 71280"/>
              </a:gdLst>
              <a:ahLst/>
              <a:rect l="textAreaLeft" t="textAreaTop" r="textAreaRight" b="textAreaBottom"/>
              <a:pathLst>
                <a:path w="2527103" h="71316">
                  <a:moveTo>
                    <a:pt x="0" y="62497"/>
                  </a:moveTo>
                  <a:lnTo>
                    <a:pt x="12429" y="62497"/>
                  </a:lnTo>
                  <a:lnTo>
                    <a:pt x="16223" y="61505"/>
                  </a:lnTo>
                  <a:lnTo>
                    <a:pt x="20738" y="59851"/>
                  </a:lnTo>
                  <a:lnTo>
                    <a:pt x="25731" y="57756"/>
                  </a:lnTo>
                  <a:lnTo>
                    <a:pt x="32037" y="56360"/>
                  </a:lnTo>
                  <a:lnTo>
                    <a:pt x="46981" y="54808"/>
                  </a:lnTo>
                  <a:lnTo>
                    <a:pt x="55133" y="53402"/>
                  </a:lnTo>
                  <a:lnTo>
                    <a:pt x="63545" y="51472"/>
                  </a:lnTo>
                  <a:lnTo>
                    <a:pt x="72129" y="49195"/>
                  </a:lnTo>
                  <a:lnTo>
                    <a:pt x="94896" y="44017"/>
                  </a:lnTo>
                  <a:lnTo>
                    <a:pt x="149934" y="32608"/>
                  </a:lnTo>
                  <a:lnTo>
                    <a:pt x="165440" y="30665"/>
                  </a:lnTo>
                  <a:lnTo>
                    <a:pt x="216699" y="26938"/>
                  </a:lnTo>
                  <a:lnTo>
                    <a:pt x="255392" y="22550"/>
                  </a:lnTo>
                  <a:lnTo>
                    <a:pt x="316222" y="14501"/>
                  </a:lnTo>
                  <a:lnTo>
                    <a:pt x="336823" y="12640"/>
                  </a:lnTo>
                  <a:lnTo>
                    <a:pt x="399991" y="9030"/>
                  </a:lnTo>
                  <a:lnTo>
                    <a:pt x="445334" y="4668"/>
                  </a:lnTo>
                  <a:lnTo>
                    <a:pt x="468538" y="3109"/>
                  </a:lnTo>
                  <a:lnTo>
                    <a:pt x="539119" y="913"/>
                  </a:lnTo>
                  <a:lnTo>
                    <a:pt x="814002" y="0"/>
                  </a:lnTo>
                  <a:lnTo>
                    <a:pt x="840324" y="988"/>
                  </a:lnTo>
                  <a:lnTo>
                    <a:pt x="866802" y="2640"/>
                  </a:lnTo>
                  <a:lnTo>
                    <a:pt x="893384" y="4733"/>
                  </a:lnTo>
                  <a:lnTo>
                    <a:pt x="920035" y="6128"/>
                  </a:lnTo>
                  <a:lnTo>
                    <a:pt x="973458" y="7679"/>
                  </a:lnTo>
                  <a:lnTo>
                    <a:pt x="1000207" y="9084"/>
                  </a:lnTo>
                  <a:lnTo>
                    <a:pt x="1053740" y="13292"/>
                  </a:lnTo>
                  <a:lnTo>
                    <a:pt x="1080516" y="14810"/>
                  </a:lnTo>
                  <a:lnTo>
                    <a:pt x="1134081" y="16498"/>
                  </a:lnTo>
                  <a:lnTo>
                    <a:pt x="1160866" y="17940"/>
                  </a:lnTo>
                  <a:lnTo>
                    <a:pt x="1214441" y="22189"/>
                  </a:lnTo>
                  <a:lnTo>
                    <a:pt x="1299546" y="30159"/>
                  </a:lnTo>
                  <a:lnTo>
                    <a:pt x="1328723" y="32008"/>
                  </a:lnTo>
                  <a:lnTo>
                    <a:pt x="1387601" y="34063"/>
                  </a:lnTo>
                  <a:lnTo>
                    <a:pt x="1471789" y="35220"/>
                  </a:lnTo>
                  <a:lnTo>
                    <a:pt x="1500107" y="36375"/>
                  </a:lnTo>
                  <a:lnTo>
                    <a:pt x="1586375" y="41749"/>
                  </a:lnTo>
                  <a:lnTo>
                    <a:pt x="1641680" y="43353"/>
                  </a:lnTo>
                  <a:lnTo>
                    <a:pt x="1727760" y="44257"/>
                  </a:lnTo>
                  <a:lnTo>
                    <a:pt x="1756083" y="45376"/>
                  </a:lnTo>
                  <a:lnTo>
                    <a:pt x="1783894" y="47114"/>
                  </a:lnTo>
                  <a:lnTo>
                    <a:pt x="1811364" y="49266"/>
                  </a:lnTo>
                  <a:lnTo>
                    <a:pt x="1838607" y="50699"/>
                  </a:lnTo>
                  <a:lnTo>
                    <a:pt x="1892690" y="52292"/>
                  </a:lnTo>
                  <a:lnTo>
                    <a:pt x="1919614" y="53709"/>
                  </a:lnTo>
                  <a:lnTo>
                    <a:pt x="1973342" y="57930"/>
                  </a:lnTo>
                  <a:lnTo>
                    <a:pt x="2000171" y="59452"/>
                  </a:lnTo>
                  <a:lnTo>
                    <a:pt x="2053793" y="61143"/>
                  </a:lnTo>
                  <a:lnTo>
                    <a:pt x="2129445" y="62097"/>
                  </a:lnTo>
                  <a:lnTo>
                    <a:pt x="2152856" y="63222"/>
                  </a:lnTo>
                  <a:lnTo>
                    <a:pt x="2175410" y="64965"/>
                  </a:lnTo>
                  <a:lnTo>
                    <a:pt x="2197390" y="67119"/>
                  </a:lnTo>
                  <a:lnTo>
                    <a:pt x="2218989" y="68555"/>
                  </a:lnTo>
                  <a:lnTo>
                    <a:pt x="2281579" y="70576"/>
                  </a:lnTo>
                  <a:lnTo>
                    <a:pt x="2374715" y="71315"/>
                  </a:lnTo>
                  <a:lnTo>
                    <a:pt x="2391776" y="70360"/>
                  </a:lnTo>
                  <a:lnTo>
                    <a:pt x="2408111" y="68731"/>
                  </a:lnTo>
                  <a:lnTo>
                    <a:pt x="2423962" y="66652"/>
                  </a:lnTo>
                  <a:lnTo>
                    <a:pt x="2438498" y="65268"/>
                  </a:lnTo>
                  <a:lnTo>
                    <a:pt x="2487698" y="63044"/>
                  </a:lnTo>
                  <a:lnTo>
                    <a:pt x="2505620" y="61748"/>
                  </a:lnTo>
                  <a:lnTo>
                    <a:pt x="2511789" y="60013"/>
                  </a:lnTo>
                  <a:lnTo>
                    <a:pt x="2527102" y="53567"/>
                  </a:lnTo>
                </a:path>
              </a:pathLst>
            </a:custGeom>
            <a:noFill/>
            <a:ln w="38160">
              <a:solidFill>
                <a:srgbClr val="0093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79" name="SMARTInkAnnotation9"/>
            <p:cNvSpPr/>
            <p:nvPr/>
          </p:nvSpPr>
          <p:spPr>
            <a:xfrm>
              <a:off x="5813640" y="6027120"/>
              <a:ext cx="1794600" cy="71280"/>
            </a:xfrm>
            <a:custGeom>
              <a:avLst/>
              <a:gdLst>
                <a:gd name="textAreaLeft" fmla="*/ 0 w 1794600"/>
                <a:gd name="textAreaRight" fmla="*/ 1794960 w 1794600"/>
                <a:gd name="textAreaTop" fmla="*/ 0 h 71280"/>
                <a:gd name="textAreaBottom" fmla="*/ 71640 h 71280"/>
              </a:gdLst>
              <a:ahLst/>
              <a:rect l="textAreaLeft" t="textAreaTop" r="textAreaRight" b="textAreaBottom"/>
              <a:pathLst>
                <a:path w="1794868" h="71438">
                  <a:moveTo>
                    <a:pt x="0" y="71437"/>
                  </a:moveTo>
                  <a:lnTo>
                    <a:pt x="0" y="53978"/>
                  </a:lnTo>
                  <a:lnTo>
                    <a:pt x="25900" y="52592"/>
                  </a:lnTo>
                  <a:lnTo>
                    <a:pt x="32150" y="50937"/>
                  </a:lnTo>
                  <a:lnTo>
                    <a:pt x="39293" y="48840"/>
                  </a:lnTo>
                  <a:lnTo>
                    <a:pt x="47031" y="47443"/>
                  </a:lnTo>
                  <a:lnTo>
                    <a:pt x="63567" y="45890"/>
                  </a:lnTo>
                  <a:lnTo>
                    <a:pt x="73136" y="44484"/>
                  </a:lnTo>
                  <a:lnTo>
                    <a:pt x="83484" y="42554"/>
                  </a:lnTo>
                  <a:lnTo>
                    <a:pt x="94351" y="40275"/>
                  </a:lnTo>
                  <a:lnTo>
                    <a:pt x="106557" y="38756"/>
                  </a:lnTo>
                  <a:lnTo>
                    <a:pt x="133348" y="37069"/>
                  </a:lnTo>
                  <a:lnTo>
                    <a:pt x="148430" y="35626"/>
                  </a:lnTo>
                  <a:lnTo>
                    <a:pt x="164438" y="33672"/>
                  </a:lnTo>
                  <a:lnTo>
                    <a:pt x="237644" y="23408"/>
                  </a:lnTo>
                  <a:lnTo>
                    <a:pt x="257648" y="21559"/>
                  </a:lnTo>
                  <a:lnTo>
                    <a:pt x="319977" y="17963"/>
                  </a:lnTo>
                  <a:lnTo>
                    <a:pt x="365124" y="13605"/>
                  </a:lnTo>
                  <a:lnTo>
                    <a:pt x="387283" y="12047"/>
                  </a:lnTo>
                  <a:lnTo>
                    <a:pt x="430425" y="10315"/>
                  </a:lnTo>
                  <a:lnTo>
                    <a:pt x="498501" y="9339"/>
                  </a:lnTo>
                  <a:lnTo>
                    <a:pt x="521842" y="8211"/>
                  </a:lnTo>
                  <a:lnTo>
                    <a:pt x="545340" y="6465"/>
                  </a:lnTo>
                  <a:lnTo>
                    <a:pt x="568943" y="4310"/>
                  </a:lnTo>
                  <a:lnTo>
                    <a:pt x="592615" y="2873"/>
                  </a:lnTo>
                  <a:lnTo>
                    <a:pt x="640085" y="1277"/>
                  </a:lnTo>
                  <a:lnTo>
                    <a:pt x="735235" y="251"/>
                  </a:lnTo>
                  <a:lnTo>
                    <a:pt x="1086629" y="0"/>
                  </a:lnTo>
                  <a:lnTo>
                    <a:pt x="1113357" y="993"/>
                  </a:lnTo>
                  <a:lnTo>
                    <a:pt x="1139113" y="2646"/>
                  </a:lnTo>
                  <a:lnTo>
                    <a:pt x="1164221" y="4740"/>
                  </a:lnTo>
                  <a:lnTo>
                    <a:pt x="1190882" y="6136"/>
                  </a:lnTo>
                  <a:lnTo>
                    <a:pt x="1246963" y="7688"/>
                  </a:lnTo>
                  <a:lnTo>
                    <a:pt x="1274817" y="9094"/>
                  </a:lnTo>
                  <a:lnTo>
                    <a:pt x="1355689" y="14821"/>
                  </a:lnTo>
                  <a:lnTo>
                    <a:pt x="1405870" y="16509"/>
                  </a:lnTo>
                  <a:lnTo>
                    <a:pt x="1431356" y="17951"/>
                  </a:lnTo>
                  <a:lnTo>
                    <a:pt x="1483487" y="22200"/>
                  </a:lnTo>
                  <a:lnTo>
                    <a:pt x="1508897" y="23730"/>
                  </a:lnTo>
                  <a:lnTo>
                    <a:pt x="1558298" y="25429"/>
                  </a:lnTo>
                  <a:lnTo>
                    <a:pt x="1647559" y="26520"/>
                  </a:lnTo>
                  <a:lnTo>
                    <a:pt x="1690040" y="26669"/>
                  </a:lnTo>
                  <a:lnTo>
                    <a:pt x="1708116" y="27701"/>
                  </a:lnTo>
                  <a:lnTo>
                    <a:pt x="1724134" y="29381"/>
                  </a:lnTo>
                  <a:lnTo>
                    <a:pt x="1738782" y="31494"/>
                  </a:lnTo>
                  <a:lnTo>
                    <a:pt x="1751524" y="32902"/>
                  </a:lnTo>
                  <a:lnTo>
                    <a:pt x="1762995" y="33841"/>
                  </a:lnTo>
                  <a:lnTo>
                    <a:pt x="1794867" y="35718"/>
                  </a:lnTo>
                </a:path>
              </a:pathLst>
            </a:custGeom>
            <a:noFill/>
            <a:ln w="38160">
              <a:solidFill>
                <a:srgbClr val="0093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80" name="SMARTInkAnnotation10"/>
            <p:cNvSpPr/>
            <p:nvPr/>
          </p:nvSpPr>
          <p:spPr>
            <a:xfrm>
              <a:off x="5974200" y="6210000"/>
              <a:ext cx="1446120" cy="209880"/>
            </a:xfrm>
            <a:custGeom>
              <a:avLst/>
              <a:gdLst>
                <a:gd name="textAreaLeft" fmla="*/ 0 w 1446120"/>
                <a:gd name="textAreaRight" fmla="*/ 1446480 w 1446120"/>
                <a:gd name="textAreaTop" fmla="*/ 0 h 209880"/>
                <a:gd name="textAreaBottom" fmla="*/ 210240 h 209880"/>
              </a:gdLst>
              <a:ahLst/>
              <a:rect l="textAreaLeft" t="textAreaTop" r="textAreaRight" b="textAreaBottom"/>
              <a:pathLst>
                <a:path w="1446611" h="210107">
                  <a:moveTo>
                    <a:pt x="0" y="102950"/>
                  </a:moveTo>
                  <a:lnTo>
                    <a:pt x="4741" y="93469"/>
                  </a:lnTo>
                  <a:lnTo>
                    <a:pt x="7129" y="90676"/>
                  </a:lnTo>
                  <a:lnTo>
                    <a:pt x="9714" y="88814"/>
                  </a:lnTo>
                  <a:lnTo>
                    <a:pt x="15232" y="85753"/>
                  </a:lnTo>
                  <a:lnTo>
                    <a:pt x="20991" y="81085"/>
                  </a:lnTo>
                  <a:lnTo>
                    <a:pt x="25901" y="77460"/>
                  </a:lnTo>
                  <a:lnTo>
                    <a:pt x="39293" y="68139"/>
                  </a:lnTo>
                  <a:lnTo>
                    <a:pt x="47031" y="63867"/>
                  </a:lnTo>
                  <a:lnTo>
                    <a:pt x="55167" y="60028"/>
                  </a:lnTo>
                  <a:lnTo>
                    <a:pt x="63567" y="56476"/>
                  </a:lnTo>
                  <a:lnTo>
                    <a:pt x="73136" y="53115"/>
                  </a:lnTo>
                  <a:lnTo>
                    <a:pt x="94351" y="46736"/>
                  </a:lnTo>
                  <a:lnTo>
                    <a:pt x="119655" y="40593"/>
                  </a:lnTo>
                  <a:lnTo>
                    <a:pt x="133348" y="37566"/>
                  </a:lnTo>
                  <a:lnTo>
                    <a:pt x="147438" y="33564"/>
                  </a:lnTo>
                  <a:lnTo>
                    <a:pt x="161792" y="28911"/>
                  </a:lnTo>
                  <a:lnTo>
                    <a:pt x="176323" y="23825"/>
                  </a:lnTo>
                  <a:lnTo>
                    <a:pt x="192955" y="19442"/>
                  </a:lnTo>
                  <a:lnTo>
                    <a:pt x="210988" y="15528"/>
                  </a:lnTo>
                  <a:lnTo>
                    <a:pt x="249546" y="9525"/>
                  </a:lnTo>
                  <a:lnTo>
                    <a:pt x="336183" y="3026"/>
                  </a:lnTo>
                  <a:lnTo>
                    <a:pt x="361044" y="615"/>
                  </a:lnTo>
                  <a:lnTo>
                    <a:pt x="385556" y="0"/>
                  </a:lnTo>
                  <a:lnTo>
                    <a:pt x="409834" y="582"/>
                  </a:lnTo>
                  <a:lnTo>
                    <a:pt x="433958" y="1963"/>
                  </a:lnTo>
                  <a:lnTo>
                    <a:pt x="484573" y="3496"/>
                  </a:lnTo>
                  <a:lnTo>
                    <a:pt x="510572" y="3906"/>
                  </a:lnTo>
                  <a:lnTo>
                    <a:pt x="536835" y="5170"/>
                  </a:lnTo>
                  <a:lnTo>
                    <a:pt x="589828" y="9221"/>
                  </a:lnTo>
                  <a:lnTo>
                    <a:pt x="616460" y="12683"/>
                  </a:lnTo>
                  <a:lnTo>
                    <a:pt x="643146" y="16975"/>
                  </a:lnTo>
                  <a:lnTo>
                    <a:pt x="669866" y="21820"/>
                  </a:lnTo>
                  <a:lnTo>
                    <a:pt x="696608" y="26043"/>
                  </a:lnTo>
                  <a:lnTo>
                    <a:pt x="750135" y="33381"/>
                  </a:lnTo>
                  <a:lnTo>
                    <a:pt x="776910" y="37719"/>
                  </a:lnTo>
                  <a:lnTo>
                    <a:pt x="830474" y="47831"/>
                  </a:lnTo>
                  <a:lnTo>
                    <a:pt x="856267" y="54297"/>
                  </a:lnTo>
                  <a:lnTo>
                    <a:pt x="881399" y="61585"/>
                  </a:lnTo>
                  <a:lnTo>
                    <a:pt x="1008892" y="102390"/>
                  </a:lnTo>
                  <a:lnTo>
                    <a:pt x="1058261" y="116261"/>
                  </a:lnTo>
                  <a:lnTo>
                    <a:pt x="1082539" y="123730"/>
                  </a:lnTo>
                  <a:lnTo>
                    <a:pt x="1130681" y="139966"/>
                  </a:lnTo>
                  <a:lnTo>
                    <a:pt x="1154632" y="147472"/>
                  </a:lnTo>
                  <a:lnTo>
                    <a:pt x="1269192" y="179932"/>
                  </a:lnTo>
                  <a:lnTo>
                    <a:pt x="1290629" y="185029"/>
                  </a:lnTo>
                  <a:lnTo>
                    <a:pt x="1311865" y="189419"/>
                  </a:lnTo>
                  <a:lnTo>
                    <a:pt x="1386369" y="203595"/>
                  </a:lnTo>
                  <a:lnTo>
                    <a:pt x="1412891" y="207212"/>
                  </a:lnTo>
                  <a:lnTo>
                    <a:pt x="1446610" y="210106"/>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SMARTInkAnnotation11"/>
            <p:cNvSpPr/>
            <p:nvPr/>
          </p:nvSpPr>
          <p:spPr>
            <a:xfrm>
              <a:off x="5200560" y="3884760"/>
              <a:ext cx="800640" cy="859320"/>
            </a:xfrm>
            <a:custGeom>
              <a:avLst/>
              <a:gdLst>
                <a:gd name="textAreaLeft" fmla="*/ 0 w 800640"/>
                <a:gd name="textAreaRight" fmla="*/ 801000 w 800640"/>
                <a:gd name="textAreaTop" fmla="*/ 0 h 859320"/>
                <a:gd name="textAreaBottom" fmla="*/ 859680 h 859320"/>
              </a:gdLst>
              <a:ahLst/>
              <a:rect l="textAreaLeft" t="textAreaTop" r="textAreaRight" b="textAreaBottom"/>
              <a:pathLst>
                <a:path w="800757" h="859795">
                  <a:moveTo>
                    <a:pt x="800756" y="330398"/>
                  </a:moveTo>
                  <a:lnTo>
                    <a:pt x="800756" y="287215"/>
                  </a:lnTo>
                  <a:lnTo>
                    <a:pt x="796015" y="260938"/>
                  </a:lnTo>
                  <a:lnTo>
                    <a:pt x="788397" y="239334"/>
                  </a:lnTo>
                  <a:lnTo>
                    <a:pt x="778395" y="217496"/>
                  </a:lnTo>
                  <a:lnTo>
                    <a:pt x="767336" y="197868"/>
                  </a:lnTo>
                  <a:lnTo>
                    <a:pt x="750515" y="179222"/>
                  </a:lnTo>
                  <a:lnTo>
                    <a:pt x="729809" y="162006"/>
                  </a:lnTo>
                  <a:lnTo>
                    <a:pt x="707377" y="147739"/>
                  </a:lnTo>
                  <a:lnTo>
                    <a:pt x="694847" y="141156"/>
                  </a:lnTo>
                  <a:lnTo>
                    <a:pt x="681533" y="134784"/>
                  </a:lnTo>
                  <a:lnTo>
                    <a:pt x="667695" y="128551"/>
                  </a:lnTo>
                  <a:lnTo>
                    <a:pt x="652517" y="123404"/>
                  </a:lnTo>
                  <a:lnTo>
                    <a:pt x="636446" y="118980"/>
                  </a:lnTo>
                  <a:lnTo>
                    <a:pt x="619779" y="115039"/>
                  </a:lnTo>
                  <a:lnTo>
                    <a:pt x="602713" y="113403"/>
                  </a:lnTo>
                  <a:lnTo>
                    <a:pt x="585383" y="113305"/>
                  </a:lnTo>
                  <a:lnTo>
                    <a:pt x="567877" y="114232"/>
                  </a:lnTo>
                  <a:lnTo>
                    <a:pt x="550253" y="115842"/>
                  </a:lnTo>
                  <a:lnTo>
                    <a:pt x="532551" y="117907"/>
                  </a:lnTo>
                  <a:lnTo>
                    <a:pt x="514796" y="120277"/>
                  </a:lnTo>
                  <a:lnTo>
                    <a:pt x="495022" y="123840"/>
                  </a:lnTo>
                  <a:lnTo>
                    <a:pt x="473902" y="128201"/>
                  </a:lnTo>
                  <a:lnTo>
                    <a:pt x="451885" y="133093"/>
                  </a:lnTo>
                  <a:lnTo>
                    <a:pt x="430261" y="139329"/>
                  </a:lnTo>
                  <a:lnTo>
                    <a:pt x="408900" y="146464"/>
                  </a:lnTo>
                  <a:lnTo>
                    <a:pt x="387713" y="154198"/>
                  </a:lnTo>
                  <a:lnTo>
                    <a:pt x="366644" y="163321"/>
                  </a:lnTo>
                  <a:lnTo>
                    <a:pt x="345653" y="173373"/>
                  </a:lnTo>
                  <a:lnTo>
                    <a:pt x="257319" y="218022"/>
                  </a:lnTo>
                  <a:lnTo>
                    <a:pt x="236058" y="231668"/>
                  </a:lnTo>
                  <a:lnTo>
                    <a:pt x="215931" y="246719"/>
                  </a:lnTo>
                  <a:lnTo>
                    <a:pt x="196560" y="262705"/>
                  </a:lnTo>
                  <a:lnTo>
                    <a:pt x="177693" y="279317"/>
                  </a:lnTo>
                  <a:lnTo>
                    <a:pt x="140855" y="313649"/>
                  </a:lnTo>
                  <a:lnTo>
                    <a:pt x="123689" y="332130"/>
                  </a:lnTo>
                  <a:lnTo>
                    <a:pt x="107284" y="351396"/>
                  </a:lnTo>
                  <a:lnTo>
                    <a:pt x="91387" y="371186"/>
                  </a:lnTo>
                  <a:lnTo>
                    <a:pt x="77812" y="390332"/>
                  </a:lnTo>
                  <a:lnTo>
                    <a:pt x="65785" y="409049"/>
                  </a:lnTo>
                  <a:lnTo>
                    <a:pt x="54791" y="427480"/>
                  </a:lnTo>
                  <a:lnTo>
                    <a:pt x="44484" y="446713"/>
                  </a:lnTo>
                  <a:lnTo>
                    <a:pt x="34638" y="466481"/>
                  </a:lnTo>
                  <a:lnTo>
                    <a:pt x="25097" y="486605"/>
                  </a:lnTo>
                  <a:lnTo>
                    <a:pt x="17743" y="506965"/>
                  </a:lnTo>
                  <a:lnTo>
                    <a:pt x="11849" y="527484"/>
                  </a:lnTo>
                  <a:lnTo>
                    <a:pt x="6927" y="548110"/>
                  </a:lnTo>
                  <a:lnTo>
                    <a:pt x="3646" y="567813"/>
                  </a:lnTo>
                  <a:lnTo>
                    <a:pt x="1459" y="586901"/>
                  </a:lnTo>
                  <a:lnTo>
                    <a:pt x="0" y="605580"/>
                  </a:lnTo>
                  <a:lnTo>
                    <a:pt x="1012" y="623986"/>
                  </a:lnTo>
                  <a:lnTo>
                    <a:pt x="3672" y="642209"/>
                  </a:lnTo>
                  <a:lnTo>
                    <a:pt x="7429" y="660311"/>
                  </a:lnTo>
                  <a:lnTo>
                    <a:pt x="12910" y="677340"/>
                  </a:lnTo>
                  <a:lnTo>
                    <a:pt x="19541" y="693654"/>
                  </a:lnTo>
                  <a:lnTo>
                    <a:pt x="26938" y="709490"/>
                  </a:lnTo>
                  <a:lnTo>
                    <a:pt x="35838" y="724017"/>
                  </a:lnTo>
                  <a:lnTo>
                    <a:pt x="56310" y="750741"/>
                  </a:lnTo>
                  <a:lnTo>
                    <a:pt x="81285" y="775847"/>
                  </a:lnTo>
                  <a:lnTo>
                    <a:pt x="94889" y="788098"/>
                  </a:lnTo>
                  <a:lnTo>
                    <a:pt x="109913" y="799243"/>
                  </a:lnTo>
                  <a:lnTo>
                    <a:pt x="125881" y="809648"/>
                  </a:lnTo>
                  <a:lnTo>
                    <a:pt x="142480" y="819562"/>
                  </a:lnTo>
                  <a:lnTo>
                    <a:pt x="159499" y="828156"/>
                  </a:lnTo>
                  <a:lnTo>
                    <a:pt x="176798" y="835869"/>
                  </a:lnTo>
                  <a:lnTo>
                    <a:pt x="194284" y="842996"/>
                  </a:lnTo>
                  <a:lnTo>
                    <a:pt x="212886" y="848739"/>
                  </a:lnTo>
                  <a:lnTo>
                    <a:pt x="232234" y="853560"/>
                  </a:lnTo>
                  <a:lnTo>
                    <a:pt x="252077" y="857767"/>
                  </a:lnTo>
                  <a:lnTo>
                    <a:pt x="271259" y="859578"/>
                  </a:lnTo>
                  <a:lnTo>
                    <a:pt x="290000" y="859794"/>
                  </a:lnTo>
                  <a:lnTo>
                    <a:pt x="308447" y="858946"/>
                  </a:lnTo>
                  <a:lnTo>
                    <a:pt x="327691" y="857389"/>
                  </a:lnTo>
                  <a:lnTo>
                    <a:pt x="367593" y="853012"/>
                  </a:lnTo>
                  <a:lnTo>
                    <a:pt x="386965" y="849464"/>
                  </a:lnTo>
                  <a:lnTo>
                    <a:pt x="405833" y="845113"/>
                  </a:lnTo>
                  <a:lnTo>
                    <a:pt x="424364" y="840230"/>
                  </a:lnTo>
                  <a:lnTo>
                    <a:pt x="442672" y="833005"/>
                  </a:lnTo>
                  <a:lnTo>
                    <a:pt x="460830" y="824219"/>
                  </a:lnTo>
                  <a:lnTo>
                    <a:pt x="478888" y="814393"/>
                  </a:lnTo>
                  <a:lnTo>
                    <a:pt x="495888" y="803874"/>
                  </a:lnTo>
                  <a:lnTo>
                    <a:pt x="512183" y="792892"/>
                  </a:lnTo>
                  <a:lnTo>
                    <a:pt x="528007" y="781603"/>
                  </a:lnTo>
                  <a:lnTo>
                    <a:pt x="543517" y="768123"/>
                  </a:lnTo>
                  <a:lnTo>
                    <a:pt x="558817" y="753183"/>
                  </a:lnTo>
                  <a:lnTo>
                    <a:pt x="573979" y="737270"/>
                  </a:lnTo>
                  <a:lnTo>
                    <a:pt x="588056" y="720709"/>
                  </a:lnTo>
                  <a:lnTo>
                    <a:pt x="601409" y="703714"/>
                  </a:lnTo>
                  <a:lnTo>
                    <a:pt x="614280" y="686432"/>
                  </a:lnTo>
                  <a:lnTo>
                    <a:pt x="625837" y="667965"/>
                  </a:lnTo>
                  <a:lnTo>
                    <a:pt x="636518" y="648708"/>
                  </a:lnTo>
                  <a:lnTo>
                    <a:pt x="646615" y="628925"/>
                  </a:lnTo>
                  <a:lnTo>
                    <a:pt x="655331" y="608791"/>
                  </a:lnTo>
                  <a:lnTo>
                    <a:pt x="663126" y="588423"/>
                  </a:lnTo>
                  <a:lnTo>
                    <a:pt x="670308" y="567899"/>
                  </a:lnTo>
                  <a:lnTo>
                    <a:pt x="676087" y="546279"/>
                  </a:lnTo>
                  <a:lnTo>
                    <a:pt x="680933" y="523928"/>
                  </a:lnTo>
                  <a:lnTo>
                    <a:pt x="685155" y="501090"/>
                  </a:lnTo>
                  <a:lnTo>
                    <a:pt x="692492" y="454547"/>
                  </a:lnTo>
                  <a:lnTo>
                    <a:pt x="695837" y="431024"/>
                  </a:lnTo>
                  <a:lnTo>
                    <a:pt x="698068" y="407404"/>
                  </a:lnTo>
                  <a:lnTo>
                    <a:pt x="699555" y="383720"/>
                  </a:lnTo>
                  <a:lnTo>
                    <a:pt x="700547" y="359992"/>
                  </a:lnTo>
                  <a:lnTo>
                    <a:pt x="700215" y="336237"/>
                  </a:lnTo>
                  <a:lnTo>
                    <a:pt x="699002" y="312463"/>
                  </a:lnTo>
                  <a:lnTo>
                    <a:pt x="697201" y="288676"/>
                  </a:lnTo>
                  <a:lnTo>
                    <a:pt x="694016" y="265872"/>
                  </a:lnTo>
                  <a:lnTo>
                    <a:pt x="689909" y="243725"/>
                  </a:lnTo>
                  <a:lnTo>
                    <a:pt x="685186" y="222014"/>
                  </a:lnTo>
                  <a:lnTo>
                    <a:pt x="679061" y="201587"/>
                  </a:lnTo>
                  <a:lnTo>
                    <a:pt x="672001" y="182017"/>
                  </a:lnTo>
                  <a:lnTo>
                    <a:pt x="664317" y="163016"/>
                  </a:lnTo>
                  <a:lnTo>
                    <a:pt x="656219" y="145388"/>
                  </a:lnTo>
                  <a:lnTo>
                    <a:pt x="647843" y="128675"/>
                  </a:lnTo>
                  <a:lnTo>
                    <a:pt x="639282" y="112573"/>
                  </a:lnTo>
                  <a:lnTo>
                    <a:pt x="629607" y="97869"/>
                  </a:lnTo>
                  <a:lnTo>
                    <a:pt x="619188" y="84097"/>
                  </a:lnTo>
                  <a:lnTo>
                    <a:pt x="597027" y="59205"/>
                  </a:lnTo>
                  <a:lnTo>
                    <a:pt x="573950" y="38219"/>
                  </a:lnTo>
                  <a:lnTo>
                    <a:pt x="555755" y="21616"/>
                  </a:lnTo>
                  <a:lnTo>
                    <a:pt x="532865"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SMARTInkAnnotation12"/>
            <p:cNvSpPr/>
            <p:nvPr/>
          </p:nvSpPr>
          <p:spPr>
            <a:xfrm>
              <a:off x="7599240" y="3947040"/>
              <a:ext cx="1231920" cy="1326240"/>
            </a:xfrm>
            <a:custGeom>
              <a:avLst/>
              <a:gdLst>
                <a:gd name="textAreaLeft" fmla="*/ 0 w 1231920"/>
                <a:gd name="textAreaRight" fmla="*/ 1232280 w 1231920"/>
                <a:gd name="textAreaTop" fmla="*/ 0 h 1326240"/>
                <a:gd name="textAreaBottom" fmla="*/ 1326600 h 1326240"/>
              </a:gdLst>
              <a:ahLst/>
              <a:rect l="textAreaLeft" t="textAreaTop" r="textAreaRight" b="textAreaBottom"/>
              <a:pathLst>
                <a:path w="1232297" h="1326816">
                  <a:moveTo>
                    <a:pt x="0" y="884039"/>
                  </a:moveTo>
                  <a:lnTo>
                    <a:pt x="7688" y="919534"/>
                  </a:lnTo>
                  <a:lnTo>
                    <a:pt x="11412" y="959269"/>
                  </a:lnTo>
                  <a:lnTo>
                    <a:pt x="15949" y="992319"/>
                  </a:lnTo>
                  <a:lnTo>
                    <a:pt x="17294" y="1027247"/>
                  </a:lnTo>
                  <a:lnTo>
                    <a:pt x="20337" y="1065378"/>
                  </a:lnTo>
                  <a:lnTo>
                    <a:pt x="24914" y="1093619"/>
                  </a:lnTo>
                  <a:lnTo>
                    <a:pt x="30255" y="1122707"/>
                  </a:lnTo>
                  <a:lnTo>
                    <a:pt x="34100" y="1162233"/>
                  </a:lnTo>
                  <a:lnTo>
                    <a:pt x="37645" y="1189583"/>
                  </a:lnTo>
                  <a:lnTo>
                    <a:pt x="42573" y="1227579"/>
                  </a:lnTo>
                  <a:lnTo>
                    <a:pt x="46679" y="1257688"/>
                  </a:lnTo>
                  <a:lnTo>
                    <a:pt x="52496" y="1276325"/>
                  </a:lnTo>
                  <a:lnTo>
                    <a:pt x="73291" y="1316772"/>
                  </a:lnTo>
                  <a:lnTo>
                    <a:pt x="77634" y="1321356"/>
                  </a:lnTo>
                  <a:lnTo>
                    <a:pt x="82515" y="1324412"/>
                  </a:lnTo>
                  <a:lnTo>
                    <a:pt x="87752" y="1326450"/>
                  </a:lnTo>
                  <a:lnTo>
                    <a:pt x="93227" y="1326815"/>
                  </a:lnTo>
                  <a:lnTo>
                    <a:pt x="104604" y="1324577"/>
                  </a:lnTo>
                  <a:lnTo>
                    <a:pt x="126905" y="1312997"/>
                  </a:lnTo>
                  <a:lnTo>
                    <a:pt x="157105" y="1287518"/>
                  </a:lnTo>
                  <a:lnTo>
                    <a:pt x="184918" y="1263454"/>
                  </a:lnTo>
                  <a:lnTo>
                    <a:pt x="216131" y="1235231"/>
                  </a:lnTo>
                  <a:lnTo>
                    <a:pt x="246540" y="1202844"/>
                  </a:lnTo>
                  <a:lnTo>
                    <a:pt x="276591" y="1165959"/>
                  </a:lnTo>
                  <a:lnTo>
                    <a:pt x="341046" y="1080949"/>
                  </a:lnTo>
                  <a:lnTo>
                    <a:pt x="359325" y="1057976"/>
                  </a:lnTo>
                  <a:lnTo>
                    <a:pt x="398156" y="1011285"/>
                  </a:lnTo>
                  <a:lnTo>
                    <a:pt x="417242" y="986730"/>
                  </a:lnTo>
                  <a:lnTo>
                    <a:pt x="435919" y="961429"/>
                  </a:lnTo>
                  <a:lnTo>
                    <a:pt x="533765" y="823932"/>
                  </a:lnTo>
                  <a:lnTo>
                    <a:pt x="616338" y="712204"/>
                  </a:lnTo>
                  <a:lnTo>
                    <a:pt x="637111" y="683163"/>
                  </a:lnTo>
                  <a:lnTo>
                    <a:pt x="658897" y="654872"/>
                  </a:lnTo>
                  <a:lnTo>
                    <a:pt x="681358" y="627081"/>
                  </a:lnTo>
                  <a:lnTo>
                    <a:pt x="750893" y="542659"/>
                  </a:lnTo>
                  <a:lnTo>
                    <a:pt x="774439" y="513578"/>
                  </a:lnTo>
                  <a:lnTo>
                    <a:pt x="821769" y="457452"/>
                  </a:lnTo>
                  <a:lnTo>
                    <a:pt x="912087" y="353401"/>
                  </a:lnTo>
                  <a:lnTo>
                    <a:pt x="934487" y="328867"/>
                  </a:lnTo>
                  <a:lnTo>
                    <a:pt x="1001954" y="257405"/>
                  </a:lnTo>
                  <a:lnTo>
                    <a:pt x="1041617" y="213290"/>
                  </a:lnTo>
                  <a:lnTo>
                    <a:pt x="1114595" y="130363"/>
                  </a:lnTo>
                  <a:lnTo>
                    <a:pt x="1146912" y="95973"/>
                  </a:lnTo>
                  <a:lnTo>
                    <a:pt x="1188256" y="53462"/>
                  </a:lnTo>
                  <a:lnTo>
                    <a:pt x="1208092" y="30706"/>
                  </a:lnTo>
                  <a:lnTo>
                    <a:pt x="1232296"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63"/>
                                        </p:tgtEl>
                                        <p:attrNameLst>
                                          <p:attrName>style.visibility</p:attrName>
                                        </p:attrNameLst>
                                      </p:cBhvr>
                                      <p:to>
                                        <p:strVal val="visible"/>
                                      </p:to>
                                    </p:set>
                                    <p:anim calcmode="lin" valueType="num">
                                      <p:cBhvr additive="repl">
                                        <p:cTn id="7" dur="500" fill="hold"/>
                                        <p:tgtEl>
                                          <p:spTgt spid="63"/>
                                        </p:tgtEl>
                                        <p:attrNameLst>
                                          <p:attrName>ppt_x</p:attrName>
                                        </p:attrNameLst>
                                      </p:cBhvr>
                                      <p:tavLst>
                                        <p:tav tm="0">
                                          <p:val>
                                            <p:strVal val="1+#ppt_w/2"/>
                                          </p:val>
                                        </p:tav>
                                        <p:tav tm="100000">
                                          <p:val>
                                            <p:strVal val="#ppt_x"/>
                                          </p:val>
                                        </p:tav>
                                      </p:tavLst>
                                    </p:anim>
                                    <p:anim calcmode="lin" valueType="num">
                                      <p:cBhvr additive="repl">
                                        <p:cTn id="8"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4">
                                  <p:stCondLst>
                                    <p:cond delay="0"/>
                                  </p:stCondLst>
                                  <p:childTnLst>
                                    <p:set>
                                      <p:cBhvr>
                                        <p:cTn id="12" dur="1" fill="hold">
                                          <p:stCondLst>
                                            <p:cond delay="0"/>
                                          </p:stCondLst>
                                        </p:cTn>
                                        <p:tgtEl>
                                          <p:spTgt spid="65"/>
                                        </p:tgtEl>
                                        <p:attrNameLst>
                                          <p:attrName>style.visibility</p:attrName>
                                        </p:attrNameLst>
                                      </p:cBhvr>
                                      <p:to>
                                        <p:strVal val="visible"/>
                                      </p:to>
                                    </p:set>
                                    <p:anim calcmode="lin" valueType="num">
                                      <p:cBhvr additive="repl">
                                        <p:cTn id="13" dur="500" fill="hold"/>
                                        <p:tgtEl>
                                          <p:spTgt spid="65"/>
                                        </p:tgtEl>
                                        <p:attrNameLst>
                                          <p:attrName>ppt_w</p:attrName>
                                        </p:attrNameLst>
                                      </p:cBhvr>
                                      <p:tavLst>
                                        <p:tav tm="0">
                                          <p:val>
                                            <p:strVal val="#ppt_w*2.5"/>
                                          </p:val>
                                        </p:tav>
                                        <p:tav tm="100000">
                                          <p:val>
                                            <p:strVal val="#ppt_w"/>
                                          </p:val>
                                        </p:tav>
                                      </p:tavLst>
                                    </p:anim>
                                    <p:anim calcmode="lin" valueType="num">
                                      <p:cBhvr additive="repl">
                                        <p:cTn id="14" dur="500" fill="hold"/>
                                        <p:tgtEl>
                                          <p:spTgt spid="65"/>
                                        </p:tgtEl>
                                        <p:attrNameLst>
                                          <p:attrName>ppt_h</p:attrName>
                                        </p:attrNameLst>
                                      </p:cBhvr>
                                      <p:tavLst>
                                        <p:tav tm="0">
                                          <p:val>
                                            <p:strVal val="#ppt_h*0.01"/>
                                          </p:val>
                                        </p:tav>
                                        <p:tav tm="100000">
                                          <p:val>
                                            <p:strVal val="#ppt_h"/>
                                          </p:val>
                                        </p:tav>
                                      </p:tavLst>
                                    </p:anim>
                                    <p:anim calcmode="lin" valueType="num">
                                      <p:cBhvr additive="repl">
                                        <p:cTn id="15" dur="500" fill="hold"/>
                                        <p:tgtEl>
                                          <p:spTgt spid="65"/>
                                        </p:tgtEl>
                                        <p:attrNameLst>
                                          <p:attrName>ppt_x</p:attrName>
                                        </p:attrNameLst>
                                      </p:cBhvr>
                                      <p:tavLst>
                                        <p:tav tm="0">
                                          <p:val>
                                            <p:strVal val="#ppt_x"/>
                                          </p:val>
                                        </p:tav>
                                        <p:tav tm="100000">
                                          <p:val>
                                            <p:strVal val="#ppt_x"/>
                                          </p:val>
                                        </p:tav>
                                      </p:tavLst>
                                    </p:anim>
                                    <p:anim calcmode="lin" valueType="num">
                                      <p:cBhvr additive="repl">
                                        <p:cTn id="16" dur="500" fill="hold"/>
                                        <p:tgtEl>
                                          <p:spTgt spid="65"/>
                                        </p:tgtEl>
                                        <p:attrNameLst>
                                          <p:attrName>ppt_y</p:attrName>
                                        </p:attrNameLst>
                                      </p:cBhvr>
                                      <p:tavLst>
                                        <p:tav tm="0">
                                          <p:val>
                                            <p:strVal val="#ppt_h+1"/>
                                          </p:val>
                                        </p:tav>
                                        <p:tav tm="100000">
                                          <p:val>
                                            <p:strVal val="#ppt_y"/>
                                          </p:val>
                                        </p:tav>
                                      </p:tavLst>
                                    </p:anim>
                                    <p:animEffect filter="fade" transition="in">
                                      <p:cBhvr additive="repl">
                                        <p:cTn id="17" dur="500"/>
                                        <p:tgtEl>
                                          <p:spTgt spid="6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66"/>
                                        </p:tgtEl>
                                        <p:attrNameLst>
                                          <p:attrName>style.visibility</p:attrName>
                                        </p:attrNameLst>
                                      </p:cBhvr>
                                      <p:to>
                                        <p:strVal val="visible"/>
                                      </p:to>
                                    </p:set>
                                    <p:animEffect filter="wipe(up)" transition="in">
                                      <p:cBhvr additive="repl">
                                        <p:cTn id="22" dur="500"/>
                                        <p:tgtEl>
                                          <p:spTgt spid="6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68"/>
                                        </p:tgtEl>
                                        <p:attrNameLst>
                                          <p:attrName>style.visibility</p:attrName>
                                        </p:attrNameLst>
                                      </p:cBhvr>
                                      <p:to>
                                        <p:strVal val="visible"/>
                                      </p:to>
                                    </p:set>
                                    <p:anim calcmode="lin" valueType="num">
                                      <p:cBhvr additive="repl">
                                        <p:cTn id="27" dur="500" fill="hold"/>
                                        <p:tgtEl>
                                          <p:spTgt spid="68"/>
                                        </p:tgtEl>
                                        <p:attrNameLst>
                                          <p:attrName>ppt_w</p:attrName>
                                        </p:attrNameLst>
                                      </p:cBhvr>
                                      <p:tavLst>
                                        <p:tav tm="0">
                                          <p:val>
                                            <p:strVal val="0"/>
                                          </p:val>
                                        </p:tav>
                                        <p:tav tm="100000">
                                          <p:val>
                                            <p:strVal val="#ppt_w"/>
                                          </p:val>
                                        </p:tav>
                                      </p:tavLst>
                                    </p:anim>
                                    <p:anim calcmode="lin" valueType="num">
                                      <p:cBhvr additive="repl">
                                        <p:cTn id="28" dur="500" fill="hold"/>
                                        <p:tgtEl>
                                          <p:spTgt spid="68"/>
                                        </p:tgtEl>
                                        <p:attrNameLst>
                                          <p:attrName>ppt_h</p:attrName>
                                        </p:attrNameLst>
                                      </p:cBhvr>
                                      <p:tavLst>
                                        <p:tav tm="0">
                                          <p:val>
                                            <p:strVal val="0"/>
                                          </p:val>
                                        </p:tav>
                                        <p:tav tm="100000">
                                          <p:val>
                                            <p:strVal val="#ppt_h"/>
                                          </p:val>
                                        </p:tav>
                                      </p:tavLst>
                                    </p:anim>
                                    <p:animEffect filter="fade" transition="in">
                                      <p:cBhvr additive="repl">
                                        <p:cTn id="29" dur="500"/>
                                        <p:tgtEl>
                                          <p:spTgt spid="6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72"/>
                                        </p:tgtEl>
                                        <p:attrNameLst>
                                          <p:attrName>style.visibility</p:attrName>
                                        </p:attrNameLst>
                                      </p:cBhvr>
                                      <p:to>
                                        <p:strVal val="visible"/>
                                      </p:to>
                                    </p:set>
                                    <p:animEffect filter="wheel(8)" transition="in">
                                      <p:cBhvr additive="repl">
                                        <p:cTn id="34" dur="2000"/>
                                        <p:tgtEl>
                                          <p:spTgt spid="7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74"/>
                                        </p:tgtEl>
                                        <p:attrNameLst>
                                          <p:attrName>style.visibility</p:attrName>
                                        </p:attrNameLst>
                                      </p:cBhvr>
                                      <p:to>
                                        <p:strVal val="visible"/>
                                      </p:to>
                                    </p:set>
                                    <p:anim calcmode="lin" valueType="num">
                                      <p:cBhvr additive="repl">
                                        <p:cTn id="39" dur="500" fill="hold"/>
                                        <p:tgtEl>
                                          <p:spTgt spid="74"/>
                                        </p:tgtEl>
                                        <p:attrNameLst>
                                          <p:attrName>ppt_w</p:attrName>
                                        </p:attrNameLst>
                                      </p:cBhvr>
                                      <p:tavLst>
                                        <p:tav tm="0">
                                          <p:val>
                                            <p:strVal val="0"/>
                                          </p:val>
                                        </p:tav>
                                        <p:tav tm="100000">
                                          <p:val>
                                            <p:strVal val="#ppt_w"/>
                                          </p:val>
                                        </p:tav>
                                      </p:tavLst>
                                    </p:anim>
                                    <p:anim calcmode="lin" valueType="num">
                                      <p:cBhvr additive="repl">
                                        <p:cTn id="40"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repl">
                                        <p:cTn id="45" dur="500" fill="hold"/>
                                        <p:tgtEl>
                                          <p:spTgt spid="76"/>
                                        </p:tgtEl>
                                        <p:attrNameLst>
                                          <p:attrName>ppt_w</p:attrName>
                                        </p:attrNameLst>
                                      </p:cBhvr>
                                      <p:tavLst>
                                        <p:tav tm="0">
                                          <p:val>
                                            <p:strVal val="#ppt_w*0.05"/>
                                          </p:val>
                                        </p:tav>
                                        <p:tav tm="100000">
                                          <p:val>
                                            <p:strVal val="#ppt_w"/>
                                          </p:val>
                                        </p:tav>
                                      </p:tavLst>
                                    </p:anim>
                                    <p:anim calcmode="lin" valueType="num">
                                      <p:cBhvr additive="repl">
                                        <p:cTn id="46" dur="500" fill="hold"/>
                                        <p:tgtEl>
                                          <p:spTgt spid="76"/>
                                        </p:tgtEl>
                                        <p:attrNameLst>
                                          <p:attrName>ppt_h</p:attrName>
                                        </p:attrNameLst>
                                      </p:cBhvr>
                                      <p:tavLst>
                                        <p:tav tm="0">
                                          <p:val>
                                            <p:strVal val="#ppt_h"/>
                                          </p:val>
                                        </p:tav>
                                        <p:tav tm="100000">
                                          <p:val>
                                            <p:strVal val="#ppt_h"/>
                                          </p:val>
                                        </p:tav>
                                      </p:tavLst>
                                    </p:anim>
                                    <p:anim calcmode="lin" valueType="num">
                                      <p:cBhvr additive="repl">
                                        <p:cTn id="47" dur="500" fill="hold"/>
                                        <p:tgtEl>
                                          <p:spTgt spid="76"/>
                                        </p:tgtEl>
                                        <p:attrNameLst>
                                          <p:attrName>ppt_x</p:attrName>
                                        </p:attrNameLst>
                                      </p:cBhvr>
                                      <p:tavLst>
                                        <p:tav tm="0">
                                          <p:val>
                                            <p:strVal val="#ppt_x-.2"/>
                                          </p:val>
                                        </p:tav>
                                        <p:tav tm="100000">
                                          <p:val>
                                            <p:strVal val="#ppt_x"/>
                                          </p:val>
                                        </p:tav>
                                      </p:tavLst>
                                    </p:anim>
                                    <p:anim calcmode="lin" valueType="num">
                                      <p:cBhvr additive="repl">
                                        <p:cTn id="48" dur="500" fill="hold"/>
                                        <p:tgtEl>
                                          <p:spTgt spid="76"/>
                                        </p:tgtEl>
                                        <p:attrNameLst>
                                          <p:attrName>ppt_y</p:attrName>
                                        </p:attrNameLst>
                                      </p:cBhvr>
                                      <p:tavLst>
                                        <p:tav tm="0">
                                          <p:val>
                                            <p:strVal val="#ppt_y"/>
                                          </p:val>
                                        </p:tav>
                                        <p:tav tm="100000">
                                          <p:val>
                                            <p:strVal val="#ppt_y"/>
                                          </p:val>
                                        </p:tav>
                                      </p:tavLst>
                                    </p:anim>
                                    <p:animEffect filter="fade" transition="in">
                                      <p:cBhvr additive="repl">
                                        <p:cTn id="4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57200" y="15228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ENLIGHTENMENT</a:t>
            </a:r>
            <a:endParaRPr b="0" lang="en-US" sz="3600" spc="-1" strike="noStrike">
              <a:solidFill>
                <a:srgbClr val="000000"/>
              </a:solidFill>
              <a:latin typeface="Arial"/>
            </a:endParaRPr>
          </a:p>
        </p:txBody>
      </p:sp>
      <p:sp>
        <p:nvSpPr>
          <p:cNvPr id="84" name="Text Box 3"/>
          <p:cNvSpPr/>
          <p:nvPr/>
        </p:nvSpPr>
        <p:spPr>
          <a:xfrm>
            <a:off x="609480" y="91440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Gothic"/>
              </a:rPr>
              <a:t>Lets look at a couple samples of how questions look on the OGT that will test your knowledge of the Enlightenment</a:t>
            </a:r>
            <a:endParaRPr b="0" lang="en-US" sz="1800" spc="-1" strike="noStrike">
              <a:solidFill>
                <a:srgbClr val="000000"/>
              </a:solidFill>
              <a:latin typeface="Arial"/>
            </a:endParaRPr>
          </a:p>
        </p:txBody>
      </p:sp>
      <p:sp>
        <p:nvSpPr>
          <p:cNvPr id="85" name="Text Box 4"/>
          <p:cNvSpPr/>
          <p:nvPr/>
        </p:nvSpPr>
        <p:spPr>
          <a:xfrm>
            <a:off x="304920" y="16765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5"/>
          <p:cNvSpPr/>
          <p:nvPr/>
        </p:nvSpPr>
        <p:spPr>
          <a:xfrm>
            <a:off x="304920" y="2819520"/>
            <a:ext cx="3809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law was a fundamental id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Enlighte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concept is an application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law to the government’s r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conomic lives of its citizens?</a:t>
            </a:r>
            <a:endParaRPr b="0" lang="en-US" sz="1800" spc="-1" strike="noStrike">
              <a:solidFill>
                <a:srgbClr val="000000"/>
              </a:solidFill>
              <a:latin typeface="Arial"/>
            </a:endParaRPr>
          </a:p>
        </p:txBody>
      </p:sp>
      <p:sp>
        <p:nvSpPr>
          <p:cNvPr id="87" name="AutoShape 6"/>
          <p:cNvSpPr/>
          <p:nvPr/>
        </p:nvSpPr>
        <p:spPr>
          <a:xfrm>
            <a:off x="4267080" y="3276720"/>
            <a:ext cx="762120" cy="9144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7"/>
          <p:cNvSpPr/>
          <p:nvPr/>
        </p:nvSpPr>
        <p:spPr>
          <a:xfrm>
            <a:off x="5410080" y="1981080"/>
            <a:ext cx="342900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markets based 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ly and deman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government control 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hieve a favorable balanc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trad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griculture based on tena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rming and serfdom</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lower taxes on the mos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vileged groups in society</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14"/>
          <p:cNvSpPr/>
          <p:nvPr/>
        </p:nvSpPr>
        <p:spPr>
          <a:xfrm>
            <a:off x="2776680" y="4518000"/>
            <a:ext cx="2880" cy="360"/>
          </a:xfrm>
          <a:custGeom>
            <a:avLst/>
            <a:gdLst>
              <a:gd name="textAreaLeft" fmla="*/ 0 w 2880"/>
              <a:gd name="textAreaRight" fmla="*/ 3240 w 2880"/>
              <a:gd name="textAreaTop" fmla="*/ 0 h 360"/>
              <a:gd name="textAreaBottom" fmla="*/ 720 h 360"/>
            </a:gdLst>
            <a:ahLst/>
            <a:rect l="textAreaLeft" t="textAreaTop" r="textAreaRight" b="textAreaBottom"/>
            <a:pathLst>
              <a:path w="2647" h="1">
                <a:moveTo>
                  <a:pt x="0" y="0"/>
                </a:moveTo>
                <a:lnTo>
                  <a:pt x="2646" y="0"/>
                </a:lnTo>
                <a:close/>
              </a:path>
            </a:pathLst>
          </a:custGeom>
          <a:solidFill>
            <a:srgbClr val="bbe0e3"/>
          </a:solidFill>
          <a:ln w="38160">
            <a:solidFill>
              <a:srgbClr val="ff0000"/>
            </a:solidFill>
            <a:round/>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Arial"/>
            </a:endParaRPr>
          </a:p>
        </p:txBody>
      </p:sp>
      <p:grpSp>
        <p:nvGrpSpPr>
          <p:cNvPr id="90" name="Group 24"/>
          <p:cNvGrpSpPr/>
          <p:nvPr/>
        </p:nvGrpSpPr>
        <p:grpSpPr>
          <a:xfrm>
            <a:off x="5464080" y="3009960"/>
            <a:ext cx="3090960" cy="500040"/>
            <a:chOff x="5464080" y="3009960"/>
            <a:chExt cx="3090960" cy="500040"/>
          </a:xfrm>
        </p:grpSpPr>
        <p:sp>
          <p:nvSpPr>
            <p:cNvPr id="91" name="SMARTInkAnnotation24"/>
            <p:cNvSpPr/>
            <p:nvPr/>
          </p:nvSpPr>
          <p:spPr>
            <a:xfrm>
              <a:off x="5464080" y="3009960"/>
              <a:ext cx="2590920" cy="53280"/>
            </a:xfrm>
            <a:custGeom>
              <a:avLst/>
              <a:gdLst>
                <a:gd name="textAreaLeft" fmla="*/ 0 w 2590920"/>
                <a:gd name="textAreaRight" fmla="*/ 2591280 w 2590920"/>
                <a:gd name="textAreaTop" fmla="*/ 0 h 53280"/>
                <a:gd name="textAreaBottom" fmla="*/ 53640 h 53280"/>
              </a:gdLst>
              <a:ahLst/>
              <a:rect l="textAreaLeft" t="textAreaTop" r="textAreaRight" b="textAreaBottom"/>
              <a:pathLst>
                <a:path w="2589611" h="53579">
                  <a:moveTo>
                    <a:pt x="0" y="8930"/>
                  </a:moveTo>
                  <a:lnTo>
                    <a:pt x="7689" y="1242"/>
                  </a:lnTo>
                  <a:lnTo>
                    <a:pt x="11025" y="552"/>
                  </a:lnTo>
                  <a:lnTo>
                    <a:pt x="87979" y="0"/>
                  </a:lnTo>
                  <a:lnTo>
                    <a:pt x="181610" y="0"/>
                  </a:lnTo>
                  <a:lnTo>
                    <a:pt x="187550" y="992"/>
                  </a:lnTo>
                  <a:lnTo>
                    <a:pt x="192502" y="2646"/>
                  </a:lnTo>
                  <a:lnTo>
                    <a:pt x="196796" y="4741"/>
                  </a:lnTo>
                  <a:lnTo>
                    <a:pt x="202634" y="6137"/>
                  </a:lnTo>
                  <a:lnTo>
                    <a:pt x="217060" y="7688"/>
                  </a:lnTo>
                  <a:lnTo>
                    <a:pt x="255704" y="8821"/>
                  </a:lnTo>
                  <a:lnTo>
                    <a:pt x="261750" y="9849"/>
                  </a:lnTo>
                  <a:lnTo>
                    <a:pt x="267766" y="11528"/>
                  </a:lnTo>
                  <a:lnTo>
                    <a:pt x="273761" y="13638"/>
                  </a:lnTo>
                  <a:lnTo>
                    <a:pt x="280734" y="15045"/>
                  </a:lnTo>
                  <a:lnTo>
                    <a:pt x="296419" y="16609"/>
                  </a:lnTo>
                  <a:lnTo>
                    <a:pt x="375783" y="17845"/>
                  </a:lnTo>
                  <a:lnTo>
                    <a:pt x="413656" y="18850"/>
                  </a:lnTo>
                  <a:lnTo>
                    <a:pt x="421621" y="20504"/>
                  </a:lnTo>
                  <a:lnTo>
                    <a:pt x="429909" y="22599"/>
                  </a:lnTo>
                  <a:lnTo>
                    <a:pt x="438411" y="23996"/>
                  </a:lnTo>
                  <a:lnTo>
                    <a:pt x="455795" y="25548"/>
                  </a:lnTo>
                  <a:lnTo>
                    <a:pt x="536033" y="26768"/>
                  </a:lnTo>
                  <a:lnTo>
                    <a:pt x="741164" y="26789"/>
                  </a:lnTo>
                  <a:lnTo>
                    <a:pt x="750094" y="27781"/>
                  </a:lnTo>
                  <a:lnTo>
                    <a:pt x="759024" y="29435"/>
                  </a:lnTo>
                  <a:lnTo>
                    <a:pt x="767953" y="31530"/>
                  </a:lnTo>
                  <a:lnTo>
                    <a:pt x="785813" y="31211"/>
                  </a:lnTo>
                  <a:lnTo>
                    <a:pt x="794742" y="29737"/>
                  </a:lnTo>
                  <a:lnTo>
                    <a:pt x="812602" y="28099"/>
                  </a:lnTo>
                  <a:lnTo>
                    <a:pt x="848321" y="27048"/>
                  </a:lnTo>
                  <a:lnTo>
                    <a:pt x="857250" y="27954"/>
                  </a:lnTo>
                  <a:lnTo>
                    <a:pt x="866180" y="29550"/>
                  </a:lnTo>
                  <a:lnTo>
                    <a:pt x="875110" y="31607"/>
                  </a:lnTo>
                  <a:lnTo>
                    <a:pt x="884039" y="32977"/>
                  </a:lnTo>
                  <a:lnTo>
                    <a:pt x="901899" y="34501"/>
                  </a:lnTo>
                  <a:lnTo>
                    <a:pt x="910828" y="33914"/>
                  </a:lnTo>
                  <a:lnTo>
                    <a:pt x="919758" y="32532"/>
                  </a:lnTo>
                  <a:lnTo>
                    <a:pt x="928688" y="30618"/>
                  </a:lnTo>
                  <a:lnTo>
                    <a:pt x="937617" y="29341"/>
                  </a:lnTo>
                  <a:lnTo>
                    <a:pt x="955477" y="27923"/>
                  </a:lnTo>
                  <a:lnTo>
                    <a:pt x="1035844" y="26819"/>
                  </a:lnTo>
                  <a:lnTo>
                    <a:pt x="1169789" y="26789"/>
                  </a:lnTo>
                  <a:lnTo>
                    <a:pt x="1179711" y="25797"/>
                  </a:lnTo>
                  <a:lnTo>
                    <a:pt x="1190294" y="24143"/>
                  </a:lnTo>
                  <a:lnTo>
                    <a:pt x="1201318" y="22049"/>
                  </a:lnTo>
                  <a:lnTo>
                    <a:pt x="1211645" y="20652"/>
                  </a:lnTo>
                  <a:lnTo>
                    <a:pt x="1231056" y="19101"/>
                  </a:lnTo>
                  <a:lnTo>
                    <a:pt x="1303686" y="17908"/>
                  </a:lnTo>
                  <a:lnTo>
                    <a:pt x="1848445" y="17860"/>
                  </a:lnTo>
                  <a:lnTo>
                    <a:pt x="1856383" y="16867"/>
                  </a:lnTo>
                  <a:lnTo>
                    <a:pt x="1863659" y="15214"/>
                  </a:lnTo>
                  <a:lnTo>
                    <a:pt x="1870495" y="13119"/>
                  </a:lnTo>
                  <a:lnTo>
                    <a:pt x="1878027" y="11723"/>
                  </a:lnTo>
                  <a:lnTo>
                    <a:pt x="1894335" y="10171"/>
                  </a:lnTo>
                  <a:lnTo>
                    <a:pt x="1973494" y="8962"/>
                  </a:lnTo>
                  <a:lnTo>
                    <a:pt x="2169882" y="8930"/>
                  </a:lnTo>
                  <a:lnTo>
                    <a:pt x="2178822" y="9922"/>
                  </a:lnTo>
                  <a:lnTo>
                    <a:pt x="2187759" y="11576"/>
                  </a:lnTo>
                  <a:lnTo>
                    <a:pt x="2196693" y="13670"/>
                  </a:lnTo>
                  <a:lnTo>
                    <a:pt x="2205627" y="15067"/>
                  </a:lnTo>
                  <a:lnTo>
                    <a:pt x="2223490" y="16618"/>
                  </a:lnTo>
                  <a:lnTo>
                    <a:pt x="2296171" y="17827"/>
                  </a:lnTo>
                  <a:lnTo>
                    <a:pt x="2362655" y="18850"/>
                  </a:lnTo>
                  <a:lnTo>
                    <a:pt x="2370838" y="20504"/>
                  </a:lnTo>
                  <a:lnTo>
                    <a:pt x="2378278" y="22599"/>
                  </a:lnTo>
                  <a:lnTo>
                    <a:pt x="2386214" y="23996"/>
                  </a:lnTo>
                  <a:lnTo>
                    <a:pt x="2402969" y="25548"/>
                  </a:lnTo>
                  <a:lnTo>
                    <a:pt x="2429136" y="26421"/>
                  </a:lnTo>
                  <a:lnTo>
                    <a:pt x="2436988" y="27536"/>
                  </a:lnTo>
                  <a:lnTo>
                    <a:pt x="2444205" y="29271"/>
                  </a:lnTo>
                  <a:lnTo>
                    <a:pt x="2451002" y="31421"/>
                  </a:lnTo>
                  <a:lnTo>
                    <a:pt x="2458509" y="32853"/>
                  </a:lnTo>
                  <a:lnTo>
                    <a:pt x="2474788" y="34445"/>
                  </a:lnTo>
                  <a:lnTo>
                    <a:pt x="2495947" y="35342"/>
                  </a:lnTo>
                  <a:lnTo>
                    <a:pt x="2503355" y="36460"/>
                  </a:lnTo>
                  <a:lnTo>
                    <a:pt x="2511272" y="38197"/>
                  </a:lnTo>
                  <a:lnTo>
                    <a:pt x="2519524" y="40348"/>
                  </a:lnTo>
                  <a:lnTo>
                    <a:pt x="2527012" y="41781"/>
                  </a:lnTo>
                  <a:lnTo>
                    <a:pt x="2540621" y="43374"/>
                  </a:lnTo>
                  <a:lnTo>
                    <a:pt x="2547029" y="44791"/>
                  </a:lnTo>
                  <a:lnTo>
                    <a:pt x="2553285" y="46728"/>
                  </a:lnTo>
                  <a:lnTo>
                    <a:pt x="2559439" y="49011"/>
                  </a:lnTo>
                  <a:lnTo>
                    <a:pt x="2564536" y="50534"/>
                  </a:lnTo>
                  <a:lnTo>
                    <a:pt x="2568925" y="51549"/>
                  </a:lnTo>
                  <a:lnTo>
                    <a:pt x="2579843" y="52977"/>
                  </a:lnTo>
                  <a:lnTo>
                    <a:pt x="2589610" y="53578"/>
                  </a:lnTo>
                </a:path>
              </a:pathLst>
            </a:custGeom>
            <a:noFill/>
            <a:ln w="38160">
              <a:solidFill>
                <a:srgbClr val="ff0000"/>
              </a:solidFill>
              <a:round/>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92" name="SMARTInkAnnotation25"/>
            <p:cNvSpPr/>
            <p:nvPr/>
          </p:nvSpPr>
          <p:spPr>
            <a:xfrm>
              <a:off x="5731920" y="3233160"/>
              <a:ext cx="2823120" cy="53280"/>
            </a:xfrm>
            <a:custGeom>
              <a:avLst/>
              <a:gdLst>
                <a:gd name="textAreaLeft" fmla="*/ 0 w 2823120"/>
                <a:gd name="textAreaRight" fmla="*/ 2823480 w 2823120"/>
                <a:gd name="textAreaTop" fmla="*/ 0 h 53280"/>
                <a:gd name="textAreaBottom" fmla="*/ 53640 h 53280"/>
              </a:gdLst>
              <a:ahLst/>
              <a:rect l="textAreaLeft" t="textAreaTop" r="textAreaRight" b="textAreaBottom"/>
              <a:pathLst>
                <a:path w="2821782" h="53507">
                  <a:moveTo>
                    <a:pt x="0" y="26716"/>
                  </a:moveTo>
                  <a:lnTo>
                    <a:pt x="7689" y="19028"/>
                  </a:lnTo>
                  <a:lnTo>
                    <a:pt x="11024" y="18338"/>
                  </a:lnTo>
                  <a:lnTo>
                    <a:pt x="96365" y="17787"/>
                  </a:lnTo>
                  <a:lnTo>
                    <a:pt x="141262" y="17787"/>
                  </a:lnTo>
                  <a:lnTo>
                    <a:pt x="146761" y="18779"/>
                  </a:lnTo>
                  <a:lnTo>
                    <a:pt x="152411" y="20433"/>
                  </a:lnTo>
                  <a:lnTo>
                    <a:pt x="158162" y="22527"/>
                  </a:lnTo>
                  <a:lnTo>
                    <a:pt x="162988" y="23924"/>
                  </a:lnTo>
                  <a:lnTo>
                    <a:pt x="170996" y="25475"/>
                  </a:lnTo>
                  <a:lnTo>
                    <a:pt x="259095" y="26710"/>
                  </a:lnTo>
                  <a:lnTo>
                    <a:pt x="343639" y="26716"/>
                  </a:lnTo>
                  <a:lnTo>
                    <a:pt x="351132" y="25724"/>
                  </a:lnTo>
                  <a:lnTo>
                    <a:pt x="359104" y="24070"/>
                  </a:lnTo>
                  <a:lnTo>
                    <a:pt x="367395" y="21976"/>
                  </a:lnTo>
                  <a:lnTo>
                    <a:pt x="375898" y="20580"/>
                  </a:lnTo>
                  <a:lnTo>
                    <a:pt x="393285" y="19028"/>
                  </a:lnTo>
                  <a:lnTo>
                    <a:pt x="480971" y="17819"/>
                  </a:lnTo>
                  <a:lnTo>
                    <a:pt x="597038" y="17787"/>
                  </a:lnTo>
                  <a:lnTo>
                    <a:pt x="607377" y="16795"/>
                  </a:lnTo>
                  <a:lnTo>
                    <a:pt x="618238" y="15141"/>
                  </a:lnTo>
                  <a:lnTo>
                    <a:pt x="629448" y="13047"/>
                  </a:lnTo>
                  <a:lnTo>
                    <a:pt x="639898" y="11650"/>
                  </a:lnTo>
                  <a:lnTo>
                    <a:pt x="659446" y="10098"/>
                  </a:lnTo>
                  <a:lnTo>
                    <a:pt x="743206" y="8906"/>
                  </a:lnTo>
                  <a:lnTo>
                    <a:pt x="1092408" y="8857"/>
                  </a:lnTo>
                  <a:lnTo>
                    <a:pt x="1103319" y="7865"/>
                  </a:lnTo>
                  <a:lnTo>
                    <a:pt x="1113570" y="6211"/>
                  </a:lnTo>
                  <a:lnTo>
                    <a:pt x="1123380" y="4116"/>
                  </a:lnTo>
                  <a:lnTo>
                    <a:pt x="1133889" y="2720"/>
                  </a:lnTo>
                  <a:lnTo>
                    <a:pt x="1156148" y="1169"/>
                  </a:lnTo>
                  <a:lnTo>
                    <a:pt x="1238323" y="0"/>
                  </a:lnTo>
                  <a:lnTo>
                    <a:pt x="1272998" y="941"/>
                  </a:lnTo>
                  <a:lnTo>
                    <a:pt x="1283244" y="2588"/>
                  </a:lnTo>
                  <a:lnTo>
                    <a:pt x="1293050" y="4678"/>
                  </a:lnTo>
                  <a:lnTo>
                    <a:pt x="1303557" y="6071"/>
                  </a:lnTo>
                  <a:lnTo>
                    <a:pt x="1325814" y="7618"/>
                  </a:lnTo>
                  <a:lnTo>
                    <a:pt x="1407987" y="8785"/>
                  </a:lnTo>
                  <a:lnTo>
                    <a:pt x="2253267" y="8857"/>
                  </a:lnTo>
                  <a:lnTo>
                    <a:pt x="2264178" y="9849"/>
                  </a:lnTo>
                  <a:lnTo>
                    <a:pt x="2274429" y="11503"/>
                  </a:lnTo>
                  <a:lnTo>
                    <a:pt x="2284240" y="13598"/>
                  </a:lnTo>
                  <a:lnTo>
                    <a:pt x="2294747" y="14994"/>
                  </a:lnTo>
                  <a:lnTo>
                    <a:pt x="2317007" y="16545"/>
                  </a:lnTo>
                  <a:lnTo>
                    <a:pt x="2401963" y="17754"/>
                  </a:lnTo>
                  <a:lnTo>
                    <a:pt x="2611658" y="17787"/>
                  </a:lnTo>
                  <a:lnTo>
                    <a:pt x="2619190" y="18779"/>
                  </a:lnTo>
                  <a:lnTo>
                    <a:pt x="2627190" y="20433"/>
                  </a:lnTo>
                  <a:lnTo>
                    <a:pt x="2635499" y="22527"/>
                  </a:lnTo>
                  <a:lnTo>
                    <a:pt x="2643021" y="23924"/>
                  </a:lnTo>
                  <a:lnTo>
                    <a:pt x="2656674" y="25475"/>
                  </a:lnTo>
                  <a:lnTo>
                    <a:pt x="2698407" y="26608"/>
                  </a:lnTo>
                  <a:lnTo>
                    <a:pt x="2705797" y="27636"/>
                  </a:lnTo>
                  <a:lnTo>
                    <a:pt x="2712709" y="29314"/>
                  </a:lnTo>
                  <a:lnTo>
                    <a:pt x="2719301" y="31425"/>
                  </a:lnTo>
                  <a:lnTo>
                    <a:pt x="2725679" y="32832"/>
                  </a:lnTo>
                  <a:lnTo>
                    <a:pt x="2738059" y="34395"/>
                  </a:lnTo>
                  <a:lnTo>
                    <a:pt x="2744138" y="35805"/>
                  </a:lnTo>
                  <a:lnTo>
                    <a:pt x="2750175" y="37736"/>
                  </a:lnTo>
                  <a:lnTo>
                    <a:pt x="2756184" y="40016"/>
                  </a:lnTo>
                  <a:lnTo>
                    <a:pt x="2762175" y="41536"/>
                  </a:lnTo>
                  <a:lnTo>
                    <a:pt x="2768153" y="42550"/>
                  </a:lnTo>
                  <a:lnTo>
                    <a:pt x="2792006" y="44176"/>
                  </a:lnTo>
                  <a:lnTo>
                    <a:pt x="2796969" y="45301"/>
                  </a:lnTo>
                  <a:lnTo>
                    <a:pt x="2801272" y="47043"/>
                  </a:lnTo>
                  <a:lnTo>
                    <a:pt x="2805132" y="49198"/>
                  </a:lnTo>
                  <a:lnTo>
                    <a:pt x="2808697" y="50634"/>
                  </a:lnTo>
                  <a:lnTo>
                    <a:pt x="2815305" y="52229"/>
                  </a:lnTo>
                  <a:lnTo>
                    <a:pt x="2821781" y="53506"/>
                  </a:lnTo>
                </a:path>
              </a:pathLst>
            </a:custGeom>
            <a:noFill/>
            <a:ln w="38160">
              <a:solidFill>
                <a:srgbClr val="ff0000"/>
              </a:solidFill>
              <a:round/>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93" name="SMARTInkAnnotation26"/>
            <p:cNvSpPr/>
            <p:nvPr/>
          </p:nvSpPr>
          <p:spPr>
            <a:xfrm>
              <a:off x="5651640" y="3501360"/>
              <a:ext cx="1072080" cy="8640"/>
            </a:xfrm>
            <a:custGeom>
              <a:avLst/>
              <a:gdLst>
                <a:gd name="textAreaLeft" fmla="*/ 0 w 1072080"/>
                <a:gd name="textAreaRight" fmla="*/ 1072440 w 1072080"/>
                <a:gd name="textAreaTop" fmla="*/ 0 h 8640"/>
                <a:gd name="textAreaBottom" fmla="*/ 8640 h 8640"/>
              </a:gdLst>
              <a:ahLst/>
              <a:rect l="textAreaLeft" t="textAreaTop" r="textAreaRight" b="textAreaBottom"/>
              <a:pathLst>
                <a:path w="1071563" h="8931">
                  <a:moveTo>
                    <a:pt x="0" y="8930"/>
                  </a:moveTo>
                  <a:lnTo>
                    <a:pt x="30753" y="1241"/>
                  </a:lnTo>
                  <a:lnTo>
                    <a:pt x="34393" y="827"/>
                  </a:lnTo>
                  <a:lnTo>
                    <a:pt x="38804" y="552"/>
                  </a:lnTo>
                  <a:lnTo>
                    <a:pt x="43728" y="368"/>
                  </a:lnTo>
                  <a:lnTo>
                    <a:pt x="64880" y="109"/>
                  </a:lnTo>
                  <a:lnTo>
                    <a:pt x="224974" y="0"/>
                  </a:lnTo>
                  <a:lnTo>
                    <a:pt x="232334" y="993"/>
                  </a:lnTo>
                  <a:lnTo>
                    <a:pt x="239225" y="2646"/>
                  </a:lnTo>
                  <a:lnTo>
                    <a:pt x="245804" y="4741"/>
                  </a:lnTo>
                  <a:lnTo>
                    <a:pt x="253166" y="6137"/>
                  </a:lnTo>
                  <a:lnTo>
                    <a:pt x="261051" y="7068"/>
                  </a:lnTo>
                  <a:lnTo>
                    <a:pt x="269283" y="7688"/>
                  </a:lnTo>
                  <a:lnTo>
                    <a:pt x="276757" y="8103"/>
                  </a:lnTo>
                  <a:lnTo>
                    <a:pt x="290352" y="8562"/>
                  </a:lnTo>
                  <a:lnTo>
                    <a:pt x="331004" y="8881"/>
                  </a:lnTo>
                  <a:lnTo>
                    <a:pt x="816708" y="8930"/>
                  </a:lnTo>
                  <a:lnTo>
                    <a:pt x="828237" y="7937"/>
                  </a:lnTo>
                  <a:lnTo>
                    <a:pt x="839892" y="6284"/>
                  </a:lnTo>
                  <a:lnTo>
                    <a:pt x="851631" y="4189"/>
                  </a:lnTo>
                  <a:lnTo>
                    <a:pt x="863426" y="2793"/>
                  </a:lnTo>
                  <a:lnTo>
                    <a:pt x="875258" y="1862"/>
                  </a:lnTo>
                  <a:lnTo>
                    <a:pt x="887115" y="1241"/>
                  </a:lnTo>
                  <a:lnTo>
                    <a:pt x="908226" y="552"/>
                  </a:lnTo>
                  <a:lnTo>
                    <a:pt x="946033" y="109"/>
                  </a:lnTo>
                  <a:lnTo>
                    <a:pt x="1071562" y="0"/>
                  </a:lnTo>
                </a:path>
              </a:pathLst>
            </a:custGeom>
            <a:noFill/>
            <a:ln w="38160">
              <a:solidFill>
                <a:srgbClr val="ff0000"/>
              </a:solidFill>
              <a:round/>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grpSp>
      <p:grpSp>
        <p:nvGrpSpPr>
          <p:cNvPr id="94" name="Group 29"/>
          <p:cNvGrpSpPr/>
          <p:nvPr/>
        </p:nvGrpSpPr>
        <p:grpSpPr>
          <a:xfrm>
            <a:off x="5607000" y="4029120"/>
            <a:ext cx="3046320" cy="587160"/>
            <a:chOff x="5607000" y="4029120"/>
            <a:chExt cx="3046320" cy="587160"/>
          </a:xfrm>
        </p:grpSpPr>
        <p:sp>
          <p:nvSpPr>
            <p:cNvPr id="95" name="SMARTInkAnnotation27"/>
            <p:cNvSpPr/>
            <p:nvPr/>
          </p:nvSpPr>
          <p:spPr>
            <a:xfrm>
              <a:off x="6973920" y="4241880"/>
              <a:ext cx="946800" cy="374400"/>
            </a:xfrm>
            <a:custGeom>
              <a:avLst/>
              <a:gdLst>
                <a:gd name="textAreaLeft" fmla="*/ 0 w 946800"/>
                <a:gd name="textAreaRight" fmla="*/ 947160 w 946800"/>
                <a:gd name="textAreaTop" fmla="*/ 0 h 374400"/>
                <a:gd name="textAreaBottom" fmla="*/ 374760 h 374400"/>
              </a:gdLst>
              <a:ahLst/>
              <a:rect l="textAreaLeft" t="textAreaTop" r="textAreaRight" b="textAreaBottom"/>
              <a:pathLst>
                <a:path w="946356" h="375038">
                  <a:moveTo>
                    <a:pt x="901744" y="98227"/>
                  </a:moveTo>
                  <a:lnTo>
                    <a:pt x="901744" y="84665"/>
                  </a:lnTo>
                  <a:lnTo>
                    <a:pt x="900752" y="83233"/>
                  </a:lnTo>
                  <a:lnTo>
                    <a:pt x="899098" y="82278"/>
                  </a:lnTo>
                  <a:lnTo>
                    <a:pt x="894054" y="80744"/>
                  </a:lnTo>
                  <a:lnTo>
                    <a:pt x="888442" y="80479"/>
                  </a:lnTo>
                  <a:lnTo>
                    <a:pt x="885930" y="79449"/>
                  </a:lnTo>
                  <a:lnTo>
                    <a:pt x="876596" y="72688"/>
                  </a:lnTo>
                  <a:lnTo>
                    <a:pt x="873039" y="71994"/>
                  </a:lnTo>
                  <a:lnTo>
                    <a:pt x="870700" y="71808"/>
                  </a:lnTo>
                  <a:lnTo>
                    <a:pt x="868150" y="70693"/>
                  </a:lnTo>
                  <a:lnTo>
                    <a:pt x="859819" y="65374"/>
                  </a:lnTo>
                  <a:lnTo>
                    <a:pt x="854006" y="63782"/>
                  </a:lnTo>
                  <a:lnTo>
                    <a:pt x="845156" y="62885"/>
                  </a:lnTo>
                  <a:lnTo>
                    <a:pt x="842190" y="61768"/>
                  </a:lnTo>
                  <a:lnTo>
                    <a:pt x="833276" y="56446"/>
                  </a:lnTo>
                  <a:lnTo>
                    <a:pt x="824351" y="53436"/>
                  </a:lnTo>
                  <a:lnTo>
                    <a:pt x="818399" y="49216"/>
                  </a:lnTo>
                  <a:lnTo>
                    <a:pt x="814431" y="47693"/>
                  </a:lnTo>
                  <a:lnTo>
                    <a:pt x="796450" y="45250"/>
                  </a:lnTo>
                  <a:lnTo>
                    <a:pt x="783050" y="44767"/>
                  </a:lnTo>
                  <a:lnTo>
                    <a:pt x="779950" y="43736"/>
                  </a:lnTo>
                  <a:lnTo>
                    <a:pt x="770847" y="38535"/>
                  </a:lnTo>
                  <a:lnTo>
                    <a:pt x="761866" y="35561"/>
                  </a:lnTo>
                  <a:lnTo>
                    <a:pt x="752921" y="29830"/>
                  </a:lnTo>
                  <a:lnTo>
                    <a:pt x="746965" y="28140"/>
                  </a:lnTo>
                  <a:lnTo>
                    <a:pt x="734065" y="26064"/>
                  </a:lnTo>
                  <a:lnTo>
                    <a:pt x="716083" y="19774"/>
                  </a:lnTo>
                  <a:lnTo>
                    <a:pt x="698591" y="17120"/>
                  </a:lnTo>
                  <a:lnTo>
                    <a:pt x="683351" y="11797"/>
                  </a:lnTo>
                  <a:lnTo>
                    <a:pt x="654776" y="9181"/>
                  </a:lnTo>
                  <a:lnTo>
                    <a:pt x="644475" y="9041"/>
                  </a:lnTo>
                  <a:lnTo>
                    <a:pt x="639942" y="8012"/>
                  </a:lnTo>
                  <a:lnTo>
                    <a:pt x="627830" y="2815"/>
                  </a:lnTo>
                  <a:lnTo>
                    <a:pt x="606462" y="556"/>
                  </a:lnTo>
                  <a:lnTo>
                    <a:pt x="577219" y="73"/>
                  </a:lnTo>
                  <a:lnTo>
                    <a:pt x="422408" y="0"/>
                  </a:lnTo>
                  <a:lnTo>
                    <a:pt x="410562" y="2646"/>
                  </a:lnTo>
                  <a:lnTo>
                    <a:pt x="398683" y="6137"/>
                  </a:lnTo>
                  <a:lnTo>
                    <a:pt x="374888" y="8378"/>
                  </a:lnTo>
                  <a:lnTo>
                    <a:pt x="346241" y="8881"/>
                  </a:lnTo>
                  <a:lnTo>
                    <a:pt x="340908" y="8897"/>
                  </a:lnTo>
                  <a:lnTo>
                    <a:pt x="329692" y="11561"/>
                  </a:lnTo>
                  <a:lnTo>
                    <a:pt x="318093" y="15060"/>
                  </a:lnTo>
                  <a:lnTo>
                    <a:pt x="288540" y="17491"/>
                  </a:lnTo>
                  <a:lnTo>
                    <a:pt x="275444" y="17750"/>
                  </a:lnTo>
                  <a:lnTo>
                    <a:pt x="265870" y="20457"/>
                  </a:lnTo>
                  <a:lnTo>
                    <a:pt x="255000" y="23975"/>
                  </a:lnTo>
                  <a:lnTo>
                    <a:pt x="226175" y="27534"/>
                  </a:lnTo>
                  <a:lnTo>
                    <a:pt x="210333" y="32853"/>
                  </a:lnTo>
                  <a:lnTo>
                    <a:pt x="194063" y="35862"/>
                  </a:lnTo>
                  <a:lnTo>
                    <a:pt x="181525" y="41604"/>
                  </a:lnTo>
                  <a:lnTo>
                    <a:pt x="160014" y="46693"/>
                  </a:lnTo>
                  <a:lnTo>
                    <a:pt x="148422" y="50518"/>
                  </a:lnTo>
                  <a:lnTo>
                    <a:pt x="131732" y="53664"/>
                  </a:lnTo>
                  <a:lnTo>
                    <a:pt x="123615" y="57916"/>
                  </a:lnTo>
                  <a:lnTo>
                    <a:pt x="109328" y="68730"/>
                  </a:lnTo>
                  <a:lnTo>
                    <a:pt x="95012" y="76478"/>
                  </a:lnTo>
                  <a:lnTo>
                    <a:pt x="72877" y="84595"/>
                  </a:lnTo>
                  <a:lnTo>
                    <a:pt x="60731" y="92644"/>
                  </a:lnTo>
                  <a:lnTo>
                    <a:pt x="54025" y="101037"/>
                  </a:lnTo>
                  <a:lnTo>
                    <a:pt x="47738" y="110390"/>
                  </a:lnTo>
                  <a:lnTo>
                    <a:pt x="38621" y="121233"/>
                  </a:lnTo>
                  <a:lnTo>
                    <a:pt x="29634" y="130730"/>
                  </a:lnTo>
                  <a:lnTo>
                    <a:pt x="5799" y="154772"/>
                  </a:lnTo>
                  <a:lnTo>
                    <a:pt x="3815" y="158744"/>
                  </a:lnTo>
                  <a:lnTo>
                    <a:pt x="1610" y="168449"/>
                  </a:lnTo>
                  <a:lnTo>
                    <a:pt x="629" y="176730"/>
                  </a:lnTo>
                  <a:lnTo>
                    <a:pt x="78" y="186971"/>
                  </a:lnTo>
                  <a:lnTo>
                    <a:pt x="0" y="190132"/>
                  </a:lnTo>
                  <a:lnTo>
                    <a:pt x="2560" y="198936"/>
                  </a:lnTo>
                  <a:lnTo>
                    <a:pt x="6013" y="208471"/>
                  </a:lnTo>
                  <a:lnTo>
                    <a:pt x="7957" y="219417"/>
                  </a:lnTo>
                  <a:lnTo>
                    <a:pt x="8412" y="225842"/>
                  </a:lnTo>
                  <a:lnTo>
                    <a:pt x="11259" y="234650"/>
                  </a:lnTo>
                  <a:lnTo>
                    <a:pt x="15833" y="244187"/>
                  </a:lnTo>
                  <a:lnTo>
                    <a:pt x="23985" y="255135"/>
                  </a:lnTo>
                  <a:lnTo>
                    <a:pt x="32685" y="264663"/>
                  </a:lnTo>
                  <a:lnTo>
                    <a:pt x="44512" y="276770"/>
                  </a:lnTo>
                  <a:lnTo>
                    <a:pt x="73019" y="305342"/>
                  </a:lnTo>
                  <a:lnTo>
                    <a:pt x="87563" y="315147"/>
                  </a:lnTo>
                  <a:lnTo>
                    <a:pt x="109262" y="326357"/>
                  </a:lnTo>
                  <a:lnTo>
                    <a:pt x="137619" y="337173"/>
                  </a:lnTo>
                  <a:lnTo>
                    <a:pt x="149052" y="342670"/>
                  </a:lnTo>
                  <a:lnTo>
                    <a:pt x="163394" y="345774"/>
                  </a:lnTo>
                  <a:lnTo>
                    <a:pt x="178697" y="348146"/>
                  </a:lnTo>
                  <a:lnTo>
                    <a:pt x="204691" y="355108"/>
                  </a:lnTo>
                  <a:lnTo>
                    <a:pt x="225574" y="359217"/>
                  </a:lnTo>
                  <a:lnTo>
                    <a:pt x="247968" y="364073"/>
                  </a:lnTo>
                  <a:lnTo>
                    <a:pt x="273312" y="365713"/>
                  </a:lnTo>
                  <a:lnTo>
                    <a:pt x="285427" y="368583"/>
                  </a:lnTo>
                  <a:lnTo>
                    <a:pt x="298419" y="372174"/>
                  </a:lnTo>
                  <a:lnTo>
                    <a:pt x="321476" y="374195"/>
                  </a:lnTo>
                  <a:lnTo>
                    <a:pt x="347547" y="374879"/>
                  </a:lnTo>
                  <a:lnTo>
                    <a:pt x="394483" y="375037"/>
                  </a:lnTo>
                  <a:lnTo>
                    <a:pt x="408734" y="372396"/>
                  </a:lnTo>
                  <a:lnTo>
                    <a:pt x="422675" y="368908"/>
                  </a:lnTo>
                  <a:lnTo>
                    <a:pt x="446267" y="366944"/>
                  </a:lnTo>
                  <a:lnTo>
                    <a:pt x="475164" y="366281"/>
                  </a:lnTo>
                  <a:lnTo>
                    <a:pt x="504501" y="366149"/>
                  </a:lnTo>
                  <a:lnTo>
                    <a:pt x="528058" y="361387"/>
                  </a:lnTo>
                  <a:lnTo>
                    <a:pt x="553889" y="358432"/>
                  </a:lnTo>
                  <a:lnTo>
                    <a:pt x="583148" y="351296"/>
                  </a:lnTo>
                  <a:lnTo>
                    <a:pt x="606923" y="348166"/>
                  </a:lnTo>
                  <a:lnTo>
                    <a:pt x="635883" y="341368"/>
                  </a:lnTo>
                  <a:lnTo>
                    <a:pt x="651623" y="339243"/>
                  </a:lnTo>
                  <a:lnTo>
                    <a:pt x="680542" y="329793"/>
                  </a:lnTo>
                  <a:lnTo>
                    <a:pt x="709883" y="318373"/>
                  </a:lnTo>
                  <a:lnTo>
                    <a:pt x="722546" y="315132"/>
                  </a:lnTo>
                  <a:lnTo>
                    <a:pt x="751583" y="308311"/>
                  </a:lnTo>
                  <a:lnTo>
                    <a:pt x="778854" y="297409"/>
                  </a:lnTo>
                  <a:lnTo>
                    <a:pt x="797311" y="289646"/>
                  </a:lnTo>
                  <a:lnTo>
                    <a:pt x="821326" y="283874"/>
                  </a:lnTo>
                  <a:lnTo>
                    <a:pt x="845179" y="273473"/>
                  </a:lnTo>
                  <a:lnTo>
                    <a:pt x="867885" y="258912"/>
                  </a:lnTo>
                  <a:lnTo>
                    <a:pt x="881789" y="250017"/>
                  </a:lnTo>
                  <a:lnTo>
                    <a:pt x="892193" y="241097"/>
                  </a:lnTo>
                  <a:lnTo>
                    <a:pt x="901559" y="232171"/>
                  </a:lnTo>
                  <a:lnTo>
                    <a:pt x="931506" y="202406"/>
                  </a:lnTo>
                  <a:lnTo>
                    <a:pt x="933491" y="199430"/>
                  </a:lnTo>
                  <a:lnTo>
                    <a:pt x="937278" y="190500"/>
                  </a:lnTo>
                  <a:lnTo>
                    <a:pt x="941680" y="184547"/>
                  </a:lnTo>
                  <a:lnTo>
                    <a:pt x="943251" y="180578"/>
                  </a:lnTo>
                  <a:lnTo>
                    <a:pt x="944995" y="170877"/>
                  </a:lnTo>
                  <a:lnTo>
                    <a:pt x="945771" y="162596"/>
                  </a:lnTo>
                  <a:lnTo>
                    <a:pt x="946208" y="152357"/>
                  </a:lnTo>
                  <a:lnTo>
                    <a:pt x="946355" y="140008"/>
                  </a:lnTo>
                  <a:lnTo>
                    <a:pt x="945375" y="136995"/>
                  </a:lnTo>
                  <a:lnTo>
                    <a:pt x="940248" y="128014"/>
                  </a:lnTo>
                  <a:lnTo>
                    <a:pt x="937295" y="119069"/>
                  </a:lnTo>
                  <a:lnTo>
                    <a:pt x="933088" y="113112"/>
                  </a:lnTo>
                  <a:lnTo>
                    <a:pt x="925266" y="107158"/>
                  </a:lnTo>
                  <a:lnTo>
                    <a:pt x="920402" y="104181"/>
                  </a:lnTo>
                  <a:lnTo>
                    <a:pt x="909705" y="100873"/>
                  </a:lnTo>
                  <a:lnTo>
                    <a:pt x="904075" y="99990"/>
                  </a:lnTo>
                  <a:lnTo>
                    <a:pt x="892527" y="93720"/>
                  </a:lnTo>
                  <a:lnTo>
                    <a:pt x="886670" y="89269"/>
                  </a:lnTo>
                  <a:lnTo>
                    <a:pt x="874870" y="84324"/>
                  </a:lnTo>
                  <a:lnTo>
                    <a:pt x="846385" y="76408"/>
                  </a:lnTo>
                  <a:lnTo>
                    <a:pt x="820850" y="68170"/>
                  </a:lnTo>
                  <a:lnTo>
                    <a:pt x="791690" y="57490"/>
                  </a:lnTo>
                  <a:lnTo>
                    <a:pt x="766940" y="54737"/>
                  </a:lnTo>
                  <a:lnTo>
                    <a:pt x="740754" y="52929"/>
                  </a:lnTo>
                  <a:lnTo>
                    <a:pt x="715137" y="47543"/>
                  </a:lnTo>
                  <a:lnTo>
                    <a:pt x="693546" y="45506"/>
                  </a:lnTo>
                  <a:lnTo>
                    <a:pt x="660642" y="44649"/>
                  </a:ln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SMARTInkAnnotation28"/>
            <p:cNvSpPr/>
            <p:nvPr/>
          </p:nvSpPr>
          <p:spPr>
            <a:xfrm>
              <a:off x="5607000" y="4029120"/>
              <a:ext cx="3046320" cy="61200"/>
            </a:xfrm>
            <a:custGeom>
              <a:avLst/>
              <a:gdLst>
                <a:gd name="textAreaLeft" fmla="*/ 0 w 3046320"/>
                <a:gd name="textAreaRight" fmla="*/ 3046680 w 3046320"/>
                <a:gd name="textAreaTop" fmla="*/ 0 h 61200"/>
                <a:gd name="textAreaBottom" fmla="*/ 61560 h 61200"/>
              </a:gdLst>
              <a:ahLst/>
              <a:rect l="textAreaLeft" t="textAreaTop" r="textAreaRight" b="textAreaBottom"/>
              <a:pathLst>
                <a:path w="3045025" h="61443">
                  <a:moveTo>
                    <a:pt x="0" y="61442"/>
                  </a:moveTo>
                  <a:lnTo>
                    <a:pt x="7689" y="53754"/>
                  </a:lnTo>
                  <a:lnTo>
                    <a:pt x="11025" y="53065"/>
                  </a:lnTo>
                  <a:lnTo>
                    <a:pt x="41919" y="51542"/>
                  </a:lnTo>
                  <a:lnTo>
                    <a:pt x="46797" y="49881"/>
                  </a:lnTo>
                  <a:lnTo>
                    <a:pt x="52034" y="47782"/>
                  </a:lnTo>
                  <a:lnTo>
                    <a:pt x="57510" y="46382"/>
                  </a:lnTo>
                  <a:lnTo>
                    <a:pt x="68885" y="44827"/>
                  </a:lnTo>
                  <a:lnTo>
                    <a:pt x="139902" y="43593"/>
                  </a:lnTo>
                  <a:lnTo>
                    <a:pt x="145854" y="42597"/>
                  </a:lnTo>
                  <a:lnTo>
                    <a:pt x="151807" y="40942"/>
                  </a:lnTo>
                  <a:lnTo>
                    <a:pt x="157759" y="38845"/>
                  </a:lnTo>
                  <a:lnTo>
                    <a:pt x="164704" y="37448"/>
                  </a:lnTo>
                  <a:lnTo>
                    <a:pt x="180358" y="35895"/>
                  </a:lnTo>
                  <a:lnTo>
                    <a:pt x="232327" y="34762"/>
                  </a:lnTo>
                  <a:lnTo>
                    <a:pt x="241205" y="33734"/>
                  </a:lnTo>
                  <a:lnTo>
                    <a:pt x="250100" y="32056"/>
                  </a:lnTo>
                  <a:lnTo>
                    <a:pt x="259007" y="29945"/>
                  </a:lnTo>
                  <a:lnTo>
                    <a:pt x="267921" y="28538"/>
                  </a:lnTo>
                  <a:lnTo>
                    <a:pt x="285764" y="26974"/>
                  </a:lnTo>
                  <a:lnTo>
                    <a:pt x="378547" y="25756"/>
                  </a:lnTo>
                  <a:lnTo>
                    <a:pt x="659586" y="25724"/>
                  </a:lnTo>
                  <a:lnTo>
                    <a:pt x="672888" y="24731"/>
                  </a:lnTo>
                  <a:lnTo>
                    <a:pt x="685725" y="23078"/>
                  </a:lnTo>
                  <a:lnTo>
                    <a:pt x="698252" y="20983"/>
                  </a:lnTo>
                  <a:lnTo>
                    <a:pt x="711564" y="19587"/>
                  </a:lnTo>
                  <a:lnTo>
                    <a:pt x="739584" y="18035"/>
                  </a:lnTo>
                  <a:lnTo>
                    <a:pt x="828211" y="16867"/>
                  </a:lnTo>
                  <a:lnTo>
                    <a:pt x="1382479" y="16794"/>
                  </a:lnTo>
                  <a:lnTo>
                    <a:pt x="1395918" y="15801"/>
                  </a:lnTo>
                  <a:lnTo>
                    <a:pt x="1408847" y="14148"/>
                  </a:lnTo>
                  <a:lnTo>
                    <a:pt x="1421434" y="12053"/>
                  </a:lnTo>
                  <a:lnTo>
                    <a:pt x="1434787" y="10657"/>
                  </a:lnTo>
                  <a:lnTo>
                    <a:pt x="1462852" y="9106"/>
                  </a:lnTo>
                  <a:lnTo>
                    <a:pt x="1546169" y="7973"/>
                  </a:lnTo>
                  <a:lnTo>
                    <a:pt x="1918260" y="7864"/>
                  </a:lnTo>
                  <a:lnTo>
                    <a:pt x="1932692" y="6872"/>
                  </a:lnTo>
                  <a:lnTo>
                    <a:pt x="1947274" y="5218"/>
                  </a:lnTo>
                  <a:lnTo>
                    <a:pt x="1961955" y="3123"/>
                  </a:lnTo>
                  <a:lnTo>
                    <a:pt x="1975712" y="1727"/>
                  </a:lnTo>
                  <a:lnTo>
                    <a:pt x="2001582" y="176"/>
                  </a:lnTo>
                  <a:lnTo>
                    <a:pt x="2095568" y="0"/>
                  </a:lnTo>
                  <a:lnTo>
                    <a:pt x="2109437" y="1629"/>
                  </a:lnTo>
                  <a:lnTo>
                    <a:pt x="2123643" y="3707"/>
                  </a:lnTo>
                  <a:lnTo>
                    <a:pt x="2137081" y="5093"/>
                  </a:lnTo>
                  <a:lnTo>
                    <a:pt x="2162598" y="6633"/>
                  </a:lnTo>
                  <a:lnTo>
                    <a:pt x="2247708" y="7756"/>
                  </a:lnTo>
                  <a:lnTo>
                    <a:pt x="2381261" y="7862"/>
                  </a:lnTo>
                  <a:lnTo>
                    <a:pt x="2396140" y="8854"/>
                  </a:lnTo>
                  <a:lnTo>
                    <a:pt x="2411021" y="10509"/>
                  </a:lnTo>
                  <a:lnTo>
                    <a:pt x="2425902" y="12604"/>
                  </a:lnTo>
                  <a:lnTo>
                    <a:pt x="2439792" y="14001"/>
                  </a:lnTo>
                  <a:lnTo>
                    <a:pt x="2465807" y="15552"/>
                  </a:lnTo>
                  <a:lnTo>
                    <a:pt x="2507508" y="16426"/>
                  </a:lnTo>
                  <a:lnTo>
                    <a:pt x="2522968" y="17541"/>
                  </a:lnTo>
                  <a:lnTo>
                    <a:pt x="2539229" y="19276"/>
                  </a:lnTo>
                  <a:lnTo>
                    <a:pt x="2556023" y="21425"/>
                  </a:lnTo>
                  <a:lnTo>
                    <a:pt x="2572179" y="22858"/>
                  </a:lnTo>
                  <a:lnTo>
                    <a:pt x="2603360" y="24450"/>
                  </a:lnTo>
                  <a:lnTo>
                    <a:pt x="2618620" y="25867"/>
                  </a:lnTo>
                  <a:lnTo>
                    <a:pt x="2633755" y="27803"/>
                  </a:lnTo>
                  <a:lnTo>
                    <a:pt x="2648806" y="30087"/>
                  </a:lnTo>
                  <a:lnTo>
                    <a:pt x="2663800" y="31609"/>
                  </a:lnTo>
                  <a:lnTo>
                    <a:pt x="2693690" y="33300"/>
                  </a:lnTo>
                  <a:lnTo>
                    <a:pt x="2733667" y="34252"/>
                  </a:lnTo>
                  <a:lnTo>
                    <a:pt x="2747164" y="35378"/>
                  </a:lnTo>
                  <a:lnTo>
                    <a:pt x="2761122" y="37121"/>
                  </a:lnTo>
                  <a:lnTo>
                    <a:pt x="2775389" y="39275"/>
                  </a:lnTo>
                  <a:lnTo>
                    <a:pt x="2788869" y="40711"/>
                  </a:lnTo>
                  <a:lnTo>
                    <a:pt x="2814430" y="42307"/>
                  </a:lnTo>
                  <a:lnTo>
                    <a:pt x="2851133" y="43205"/>
                  </a:lnTo>
                  <a:lnTo>
                    <a:pt x="2863177" y="44323"/>
                  </a:lnTo>
                  <a:lnTo>
                    <a:pt x="2875175" y="46061"/>
                  </a:lnTo>
                  <a:lnTo>
                    <a:pt x="2887143" y="48211"/>
                  </a:lnTo>
                  <a:lnTo>
                    <a:pt x="2898098" y="49645"/>
                  </a:lnTo>
                  <a:lnTo>
                    <a:pt x="2918208" y="51238"/>
                  </a:lnTo>
                  <a:lnTo>
                    <a:pt x="2946263" y="52135"/>
                  </a:lnTo>
                  <a:lnTo>
                    <a:pt x="2955371" y="53253"/>
                  </a:lnTo>
                  <a:lnTo>
                    <a:pt x="2964419" y="54990"/>
                  </a:lnTo>
                  <a:lnTo>
                    <a:pt x="2973428" y="57141"/>
                  </a:lnTo>
                  <a:lnTo>
                    <a:pt x="2982410" y="58575"/>
                  </a:lnTo>
                  <a:lnTo>
                    <a:pt x="3000328" y="60168"/>
                  </a:lnTo>
                  <a:lnTo>
                    <a:pt x="3045024" y="61442"/>
                  </a:lnTo>
                </a:path>
              </a:pathLst>
            </a:custGeom>
            <a:noFill/>
            <a:ln w="38160">
              <a:solidFill>
                <a:srgbClr val="0000ff"/>
              </a:solidFill>
              <a:round/>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97" name="SMARTInkAnnotation29"/>
            <p:cNvSpPr/>
            <p:nvPr/>
          </p:nvSpPr>
          <p:spPr>
            <a:xfrm>
              <a:off x="5722920" y="4304160"/>
              <a:ext cx="2260080" cy="26640"/>
            </a:xfrm>
            <a:custGeom>
              <a:avLst/>
              <a:gdLst>
                <a:gd name="textAreaLeft" fmla="*/ 0 w 2260080"/>
                <a:gd name="textAreaRight" fmla="*/ 2260080 w 2260080"/>
                <a:gd name="textAreaTop" fmla="*/ 0 h 26640"/>
                <a:gd name="textAreaBottom" fmla="*/ 27000 h 26640"/>
              </a:gdLst>
              <a:ahLst/>
              <a:rect l="textAreaLeft" t="textAreaTop" r="textAreaRight" b="textAreaBottom"/>
              <a:pathLst>
                <a:path w="2259212" h="26790">
                  <a:moveTo>
                    <a:pt x="0" y="17859"/>
                  </a:moveTo>
                  <a:lnTo>
                    <a:pt x="0" y="13119"/>
                  </a:lnTo>
                  <a:lnTo>
                    <a:pt x="992" y="11722"/>
                  </a:lnTo>
                  <a:lnTo>
                    <a:pt x="2646" y="10791"/>
                  </a:lnTo>
                  <a:lnTo>
                    <a:pt x="7689" y="9297"/>
                  </a:lnTo>
                  <a:lnTo>
                    <a:pt x="29889" y="8940"/>
                  </a:lnTo>
                  <a:lnTo>
                    <a:pt x="32825" y="7944"/>
                  </a:lnTo>
                  <a:lnTo>
                    <a:pt x="35774" y="6289"/>
                  </a:lnTo>
                  <a:lnTo>
                    <a:pt x="38732" y="4193"/>
                  </a:lnTo>
                  <a:lnTo>
                    <a:pt x="41696" y="2795"/>
                  </a:lnTo>
                  <a:lnTo>
                    <a:pt x="44665" y="1863"/>
                  </a:lnTo>
                  <a:lnTo>
                    <a:pt x="47636" y="1242"/>
                  </a:lnTo>
                  <a:lnTo>
                    <a:pt x="56229" y="552"/>
                  </a:lnTo>
                  <a:lnTo>
                    <a:pt x="123338" y="5"/>
                  </a:lnTo>
                  <a:lnTo>
                    <a:pt x="1226311" y="0"/>
                  </a:lnTo>
                  <a:lnTo>
                    <a:pt x="1239221" y="992"/>
                  </a:lnTo>
                  <a:lnTo>
                    <a:pt x="1252788" y="2645"/>
                  </a:lnTo>
                  <a:lnTo>
                    <a:pt x="1266793" y="4740"/>
                  </a:lnTo>
                  <a:lnTo>
                    <a:pt x="1280099" y="6137"/>
                  </a:lnTo>
                  <a:lnTo>
                    <a:pt x="1292939" y="7068"/>
                  </a:lnTo>
                  <a:lnTo>
                    <a:pt x="1305468" y="7688"/>
                  </a:lnTo>
                  <a:lnTo>
                    <a:pt x="1332617" y="8378"/>
                  </a:lnTo>
                  <a:lnTo>
                    <a:pt x="1466086" y="8920"/>
                  </a:lnTo>
                  <a:lnTo>
                    <a:pt x="1479438" y="9915"/>
                  </a:lnTo>
                  <a:lnTo>
                    <a:pt x="1493300" y="11571"/>
                  </a:lnTo>
                  <a:lnTo>
                    <a:pt x="1507502" y="13667"/>
                  </a:lnTo>
                  <a:lnTo>
                    <a:pt x="1520939" y="15064"/>
                  </a:lnTo>
                  <a:lnTo>
                    <a:pt x="1533865" y="15996"/>
                  </a:lnTo>
                  <a:lnTo>
                    <a:pt x="1546452" y="16617"/>
                  </a:lnTo>
                  <a:lnTo>
                    <a:pt x="1573667" y="17307"/>
                  </a:lnTo>
                  <a:lnTo>
                    <a:pt x="2183062" y="17859"/>
                  </a:lnTo>
                  <a:lnTo>
                    <a:pt x="2193562" y="18852"/>
                  </a:lnTo>
                  <a:lnTo>
                    <a:pt x="2203539" y="20505"/>
                  </a:lnTo>
                  <a:lnTo>
                    <a:pt x="2213167" y="22600"/>
                  </a:lnTo>
                  <a:lnTo>
                    <a:pt x="2221570" y="23996"/>
                  </a:lnTo>
                  <a:lnTo>
                    <a:pt x="2229156" y="24927"/>
                  </a:lnTo>
                  <a:lnTo>
                    <a:pt x="2236198" y="25548"/>
                  </a:lnTo>
                  <a:lnTo>
                    <a:pt x="2246668" y="26237"/>
                  </a:lnTo>
                  <a:lnTo>
                    <a:pt x="2259211" y="26789"/>
                  </a:lnTo>
                </a:path>
              </a:pathLst>
            </a:custGeom>
            <a:noFill/>
            <a:ln w="38160">
              <a:solidFill>
                <a:srgbClr val="0000ff"/>
              </a:solidFill>
              <a:round/>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grpSp>
      <p:grpSp>
        <p:nvGrpSpPr>
          <p:cNvPr id="98" name="Group 35"/>
          <p:cNvGrpSpPr/>
          <p:nvPr/>
        </p:nvGrpSpPr>
        <p:grpSpPr>
          <a:xfrm>
            <a:off x="5189400" y="1581120"/>
            <a:ext cx="3498840" cy="3670200"/>
            <a:chOff x="5189400" y="1581120"/>
            <a:chExt cx="3498840" cy="3670200"/>
          </a:xfrm>
        </p:grpSpPr>
        <p:sp>
          <p:nvSpPr>
            <p:cNvPr id="99" name="SMARTInkAnnotation30"/>
            <p:cNvSpPr/>
            <p:nvPr/>
          </p:nvSpPr>
          <p:spPr>
            <a:xfrm>
              <a:off x="5518800" y="4912920"/>
              <a:ext cx="2758680" cy="70560"/>
            </a:xfrm>
            <a:custGeom>
              <a:avLst/>
              <a:gdLst>
                <a:gd name="textAreaLeft" fmla="*/ 0 w 2758680"/>
                <a:gd name="textAreaRight" fmla="*/ 2759040 w 2758680"/>
                <a:gd name="textAreaTop" fmla="*/ 0 h 70560"/>
                <a:gd name="textAreaBottom" fmla="*/ 70920 h 70560"/>
              </a:gdLst>
              <a:ahLst/>
              <a:rect l="textAreaLeft" t="textAreaTop" r="textAreaRight" b="textAreaBottom"/>
              <a:pathLst>
                <a:path w="2759275" h="70611">
                  <a:moveTo>
                    <a:pt x="0" y="8102"/>
                  </a:moveTo>
                  <a:lnTo>
                    <a:pt x="126426" y="8102"/>
                  </a:lnTo>
                  <a:lnTo>
                    <a:pt x="135878" y="7111"/>
                  </a:lnTo>
                  <a:lnTo>
                    <a:pt x="146148" y="5457"/>
                  </a:lnTo>
                  <a:lnTo>
                    <a:pt x="156963" y="3362"/>
                  </a:lnTo>
                  <a:lnTo>
                    <a:pt x="167150" y="1965"/>
                  </a:lnTo>
                  <a:lnTo>
                    <a:pt x="196701" y="0"/>
                  </a:lnTo>
                  <a:lnTo>
                    <a:pt x="230151" y="409"/>
                  </a:lnTo>
                  <a:lnTo>
                    <a:pt x="241738" y="1982"/>
                  </a:lnTo>
                  <a:lnTo>
                    <a:pt x="253433" y="4022"/>
                  </a:lnTo>
                  <a:lnTo>
                    <a:pt x="265198" y="5382"/>
                  </a:lnTo>
                  <a:lnTo>
                    <a:pt x="312595" y="7565"/>
                  </a:lnTo>
                  <a:lnTo>
                    <a:pt x="403575" y="8071"/>
                  </a:lnTo>
                  <a:lnTo>
                    <a:pt x="459322" y="9088"/>
                  </a:lnTo>
                  <a:lnTo>
                    <a:pt x="473895" y="10744"/>
                  </a:lnTo>
                  <a:lnTo>
                    <a:pt x="488571" y="12840"/>
                  </a:lnTo>
                  <a:lnTo>
                    <a:pt x="502323" y="14237"/>
                  </a:lnTo>
                  <a:lnTo>
                    <a:pt x="541633" y="16204"/>
                  </a:lnTo>
                  <a:lnTo>
                    <a:pt x="613551" y="16923"/>
                  </a:lnTo>
                  <a:lnTo>
                    <a:pt x="2248518" y="17032"/>
                  </a:lnTo>
                  <a:lnTo>
                    <a:pt x="2267957" y="18024"/>
                  </a:lnTo>
                  <a:lnTo>
                    <a:pt x="2287862" y="19678"/>
                  </a:lnTo>
                  <a:lnTo>
                    <a:pt x="2308078" y="21772"/>
                  </a:lnTo>
                  <a:lnTo>
                    <a:pt x="2327507" y="23169"/>
                  </a:lnTo>
                  <a:lnTo>
                    <a:pt x="2382305" y="25135"/>
                  </a:lnTo>
                  <a:lnTo>
                    <a:pt x="2431392" y="26709"/>
                  </a:lnTo>
                  <a:lnTo>
                    <a:pt x="2448413" y="28444"/>
                  </a:lnTo>
                  <a:lnTo>
                    <a:pt x="2465713" y="30593"/>
                  </a:lnTo>
                  <a:lnTo>
                    <a:pt x="2481215" y="32026"/>
                  </a:lnTo>
                  <a:lnTo>
                    <a:pt x="2522987" y="34042"/>
                  </a:lnTo>
                  <a:lnTo>
                    <a:pt x="2565350" y="35632"/>
                  </a:lnTo>
                  <a:lnTo>
                    <a:pt x="2578397" y="37370"/>
                  </a:lnTo>
                  <a:lnTo>
                    <a:pt x="2591065" y="39520"/>
                  </a:lnTo>
                  <a:lnTo>
                    <a:pt x="2603478" y="40954"/>
                  </a:lnTo>
                  <a:lnTo>
                    <a:pt x="2627855" y="42547"/>
                  </a:lnTo>
                  <a:lnTo>
                    <a:pt x="2638918" y="43964"/>
                  </a:lnTo>
                  <a:lnTo>
                    <a:pt x="2649272" y="45900"/>
                  </a:lnTo>
                  <a:lnTo>
                    <a:pt x="2659150" y="48184"/>
                  </a:lnTo>
                  <a:lnTo>
                    <a:pt x="2669704" y="49706"/>
                  </a:lnTo>
                  <a:lnTo>
                    <a:pt x="2692015" y="51397"/>
                  </a:lnTo>
                  <a:lnTo>
                    <a:pt x="2701535" y="52841"/>
                  </a:lnTo>
                  <a:lnTo>
                    <a:pt x="2709868" y="54795"/>
                  </a:lnTo>
                  <a:lnTo>
                    <a:pt x="2717407" y="57090"/>
                  </a:lnTo>
                  <a:lnTo>
                    <a:pt x="2724418" y="59613"/>
                  </a:lnTo>
                  <a:lnTo>
                    <a:pt x="2731076" y="62286"/>
                  </a:lnTo>
                  <a:lnTo>
                    <a:pt x="2737498" y="65060"/>
                  </a:lnTo>
                  <a:lnTo>
                    <a:pt x="2742772" y="66910"/>
                  </a:lnTo>
                  <a:lnTo>
                    <a:pt x="2747281" y="68144"/>
                  </a:lnTo>
                  <a:lnTo>
                    <a:pt x="2759274" y="70610"/>
                  </a:lnTo>
                </a:path>
              </a:pathLst>
            </a:custGeom>
            <a:noFill/>
            <a:ln w="38160">
              <a:solidFill>
                <a:srgbClr val="009300"/>
              </a:solidFill>
              <a:round/>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Arial"/>
              </a:endParaRPr>
            </a:p>
          </p:txBody>
        </p:sp>
        <p:sp>
          <p:nvSpPr>
            <p:cNvPr id="100" name="SMARTInkAnnotation31"/>
            <p:cNvSpPr/>
            <p:nvPr/>
          </p:nvSpPr>
          <p:spPr>
            <a:xfrm>
              <a:off x="5804640" y="5171040"/>
              <a:ext cx="2472840" cy="80280"/>
            </a:xfrm>
            <a:custGeom>
              <a:avLst/>
              <a:gdLst>
                <a:gd name="textAreaLeft" fmla="*/ 0 w 2472840"/>
                <a:gd name="textAreaRight" fmla="*/ 2473200 w 2472840"/>
                <a:gd name="textAreaTop" fmla="*/ 0 h 80280"/>
                <a:gd name="textAreaBottom" fmla="*/ 80640 h 80280"/>
              </a:gdLst>
              <a:ahLst/>
              <a:rect l="textAreaLeft" t="textAreaTop" r="textAreaRight" b="textAreaBottom"/>
              <a:pathLst>
                <a:path w="2473525" h="80368">
                  <a:moveTo>
                    <a:pt x="0" y="80367"/>
                  </a:moveTo>
                  <a:lnTo>
                    <a:pt x="4741" y="80367"/>
                  </a:lnTo>
                  <a:lnTo>
                    <a:pt x="7129" y="79375"/>
                  </a:lnTo>
                  <a:lnTo>
                    <a:pt x="9714" y="77721"/>
                  </a:lnTo>
                  <a:lnTo>
                    <a:pt x="16251" y="72678"/>
                  </a:lnTo>
                  <a:lnTo>
                    <a:pt x="31800" y="70691"/>
                  </a:lnTo>
                  <a:lnTo>
                    <a:pt x="37075" y="68954"/>
                  </a:lnTo>
                  <a:lnTo>
                    <a:pt x="42576" y="66805"/>
                  </a:lnTo>
                  <a:lnTo>
                    <a:pt x="48228" y="64381"/>
                  </a:lnTo>
                  <a:lnTo>
                    <a:pt x="59799" y="59041"/>
                  </a:lnTo>
                  <a:lnTo>
                    <a:pt x="66655" y="57219"/>
                  </a:lnTo>
                  <a:lnTo>
                    <a:pt x="82211" y="55196"/>
                  </a:lnTo>
                  <a:lnTo>
                    <a:pt x="90527" y="53665"/>
                  </a:lnTo>
                  <a:lnTo>
                    <a:pt x="99046" y="51652"/>
                  </a:lnTo>
                  <a:lnTo>
                    <a:pt x="138848" y="41291"/>
                  </a:lnTo>
                  <a:lnTo>
                    <a:pt x="173212" y="32629"/>
                  </a:lnTo>
                  <a:lnTo>
                    <a:pt x="184928" y="30682"/>
                  </a:lnTo>
                  <a:lnTo>
                    <a:pt x="208530" y="28519"/>
                  </a:lnTo>
                  <a:lnTo>
                    <a:pt x="220379" y="26950"/>
                  </a:lnTo>
                  <a:lnTo>
                    <a:pt x="232247" y="24912"/>
                  </a:lnTo>
                  <a:lnTo>
                    <a:pt x="284552" y="14511"/>
                  </a:lnTo>
                  <a:lnTo>
                    <a:pt x="298843" y="12651"/>
                  </a:lnTo>
                  <a:lnTo>
                    <a:pt x="327949" y="10583"/>
                  </a:lnTo>
                  <a:lnTo>
                    <a:pt x="342657" y="9040"/>
                  </a:lnTo>
                  <a:lnTo>
                    <a:pt x="357422" y="7018"/>
                  </a:lnTo>
                  <a:lnTo>
                    <a:pt x="372226" y="4679"/>
                  </a:lnTo>
                  <a:lnTo>
                    <a:pt x="388050" y="3119"/>
                  </a:lnTo>
                  <a:lnTo>
                    <a:pt x="453573" y="616"/>
                  </a:lnTo>
                  <a:lnTo>
                    <a:pt x="954236" y="0"/>
                  </a:lnTo>
                  <a:lnTo>
                    <a:pt x="972509" y="992"/>
                  </a:lnTo>
                  <a:lnTo>
                    <a:pt x="990644" y="2645"/>
                  </a:lnTo>
                  <a:lnTo>
                    <a:pt x="1008687" y="4740"/>
                  </a:lnTo>
                  <a:lnTo>
                    <a:pt x="1044610" y="7067"/>
                  </a:lnTo>
                  <a:lnTo>
                    <a:pt x="1120920" y="8561"/>
                  </a:lnTo>
                  <a:lnTo>
                    <a:pt x="1140186" y="9676"/>
                  </a:lnTo>
                  <a:lnTo>
                    <a:pt x="1158983" y="11412"/>
                  </a:lnTo>
                  <a:lnTo>
                    <a:pt x="1177468" y="13561"/>
                  </a:lnTo>
                  <a:lnTo>
                    <a:pt x="1213882" y="15949"/>
                  </a:lnTo>
                  <a:lnTo>
                    <a:pt x="1285765" y="17482"/>
                  </a:lnTo>
                  <a:lnTo>
                    <a:pt x="1303662" y="18600"/>
                  </a:lnTo>
                  <a:lnTo>
                    <a:pt x="1321545" y="20337"/>
                  </a:lnTo>
                  <a:lnTo>
                    <a:pt x="1339421" y="22487"/>
                  </a:lnTo>
                  <a:lnTo>
                    <a:pt x="1377804" y="24877"/>
                  </a:lnTo>
                  <a:lnTo>
                    <a:pt x="1454295" y="26411"/>
                  </a:lnTo>
                  <a:lnTo>
                    <a:pt x="1864660" y="26789"/>
                  </a:lnTo>
                  <a:lnTo>
                    <a:pt x="1883068" y="25797"/>
                  </a:lnTo>
                  <a:lnTo>
                    <a:pt x="1901294" y="24143"/>
                  </a:lnTo>
                  <a:lnTo>
                    <a:pt x="1919396" y="22048"/>
                  </a:lnTo>
                  <a:lnTo>
                    <a:pt x="1958031" y="19721"/>
                  </a:lnTo>
                  <a:lnTo>
                    <a:pt x="2034685" y="18227"/>
                  </a:lnTo>
                  <a:lnTo>
                    <a:pt x="2052974" y="17112"/>
                  </a:lnTo>
                  <a:lnTo>
                    <a:pt x="2071117" y="15376"/>
                  </a:lnTo>
                  <a:lnTo>
                    <a:pt x="2089167" y="13227"/>
                  </a:lnTo>
                  <a:lnTo>
                    <a:pt x="2125097" y="10840"/>
                  </a:lnTo>
                  <a:lnTo>
                    <a:pt x="2191930" y="9306"/>
                  </a:lnTo>
                  <a:lnTo>
                    <a:pt x="2473524" y="8929"/>
                  </a:lnTo>
                </a:path>
              </a:pathLst>
            </a:custGeom>
            <a:noFill/>
            <a:ln w="38160">
              <a:solidFill>
                <a:srgbClr val="009300"/>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sp>
          <p:nvSpPr>
            <p:cNvPr id="101" name="SMARTInkAnnotation32"/>
            <p:cNvSpPr/>
            <p:nvPr/>
          </p:nvSpPr>
          <p:spPr>
            <a:xfrm>
              <a:off x="5189400" y="1832760"/>
              <a:ext cx="702000" cy="612000"/>
            </a:xfrm>
            <a:custGeom>
              <a:avLst/>
              <a:gdLst>
                <a:gd name="textAreaLeft" fmla="*/ 0 w 702000"/>
                <a:gd name="textAreaRight" fmla="*/ 702360 w 702000"/>
                <a:gd name="textAreaTop" fmla="*/ 0 h 612000"/>
                <a:gd name="textAreaBottom" fmla="*/ 612360 h 612000"/>
              </a:gdLst>
              <a:ahLst/>
              <a:rect l="textAreaLeft" t="textAreaTop" r="textAreaRight" b="textAreaBottom"/>
              <a:pathLst>
                <a:path w="702302" h="612279">
                  <a:moveTo>
                    <a:pt x="535099" y="167731"/>
                  </a:moveTo>
                  <a:lnTo>
                    <a:pt x="535099" y="158249"/>
                  </a:lnTo>
                  <a:lnTo>
                    <a:pt x="532454" y="148303"/>
                  </a:lnTo>
                  <a:lnTo>
                    <a:pt x="530359" y="142873"/>
                  </a:lnTo>
                  <a:lnTo>
                    <a:pt x="527970" y="139252"/>
                  </a:lnTo>
                  <a:lnTo>
                    <a:pt x="525385" y="136839"/>
                  </a:lnTo>
                  <a:lnTo>
                    <a:pt x="522670" y="135230"/>
                  </a:lnTo>
                  <a:lnTo>
                    <a:pt x="517008" y="125504"/>
                  </a:lnTo>
                  <a:lnTo>
                    <a:pt x="510191" y="112252"/>
                  </a:lnTo>
                  <a:lnTo>
                    <a:pt x="496190" y="93635"/>
                  </a:lnTo>
                  <a:lnTo>
                    <a:pt x="484324" y="75551"/>
                  </a:lnTo>
                  <a:lnTo>
                    <a:pt x="467689" y="57626"/>
                  </a:lnTo>
                  <a:lnTo>
                    <a:pt x="452553" y="45704"/>
                  </a:lnTo>
                  <a:lnTo>
                    <a:pt x="432038" y="32576"/>
                  </a:lnTo>
                  <a:lnTo>
                    <a:pt x="416865" y="25641"/>
                  </a:lnTo>
                  <a:lnTo>
                    <a:pt x="401191" y="20244"/>
                  </a:lnTo>
                  <a:lnTo>
                    <a:pt x="387611" y="17845"/>
                  </a:lnTo>
                  <a:lnTo>
                    <a:pt x="369668" y="16779"/>
                  </a:lnTo>
                  <a:lnTo>
                    <a:pt x="349457" y="16305"/>
                  </a:lnTo>
                  <a:lnTo>
                    <a:pt x="330552" y="16094"/>
                  </a:lnTo>
                  <a:lnTo>
                    <a:pt x="312229" y="21292"/>
                  </a:lnTo>
                  <a:lnTo>
                    <a:pt x="293171" y="29225"/>
                  </a:lnTo>
                  <a:lnTo>
                    <a:pt x="271471" y="36058"/>
                  </a:lnTo>
                  <a:lnTo>
                    <a:pt x="260129" y="41253"/>
                  </a:lnTo>
                  <a:lnTo>
                    <a:pt x="248598" y="47693"/>
                  </a:lnTo>
                  <a:lnTo>
                    <a:pt x="236942" y="54964"/>
                  </a:lnTo>
                  <a:lnTo>
                    <a:pt x="225203" y="61795"/>
                  </a:lnTo>
                  <a:lnTo>
                    <a:pt x="201575" y="74676"/>
                  </a:lnTo>
                  <a:lnTo>
                    <a:pt x="180491" y="92308"/>
                  </a:lnTo>
                  <a:lnTo>
                    <a:pt x="151887" y="121901"/>
                  </a:lnTo>
                  <a:lnTo>
                    <a:pt x="110814" y="163308"/>
                  </a:lnTo>
                  <a:lnTo>
                    <a:pt x="100438" y="175696"/>
                  </a:lnTo>
                  <a:lnTo>
                    <a:pt x="90545" y="188916"/>
                  </a:lnTo>
                  <a:lnTo>
                    <a:pt x="80971" y="202690"/>
                  </a:lnTo>
                  <a:lnTo>
                    <a:pt x="72605" y="215842"/>
                  </a:lnTo>
                  <a:lnTo>
                    <a:pt x="65043" y="228578"/>
                  </a:lnTo>
                  <a:lnTo>
                    <a:pt x="58017" y="241038"/>
                  </a:lnTo>
                  <a:lnTo>
                    <a:pt x="51349" y="254305"/>
                  </a:lnTo>
                  <a:lnTo>
                    <a:pt x="44920" y="268111"/>
                  </a:lnTo>
                  <a:lnTo>
                    <a:pt x="32484" y="295688"/>
                  </a:lnTo>
                  <a:lnTo>
                    <a:pt x="20342" y="321173"/>
                  </a:lnTo>
                  <a:lnTo>
                    <a:pt x="15318" y="334518"/>
                  </a:lnTo>
                  <a:lnTo>
                    <a:pt x="10977" y="348375"/>
                  </a:lnTo>
                  <a:lnTo>
                    <a:pt x="7090" y="362574"/>
                  </a:lnTo>
                  <a:lnTo>
                    <a:pt x="4500" y="376009"/>
                  </a:lnTo>
                  <a:lnTo>
                    <a:pt x="2773" y="388934"/>
                  </a:lnTo>
                  <a:lnTo>
                    <a:pt x="1621" y="401520"/>
                  </a:lnTo>
                  <a:lnTo>
                    <a:pt x="853" y="413879"/>
                  </a:lnTo>
                  <a:lnTo>
                    <a:pt x="0" y="438195"/>
                  </a:lnTo>
                  <a:lnTo>
                    <a:pt x="765" y="450236"/>
                  </a:lnTo>
                  <a:lnTo>
                    <a:pt x="2267" y="462231"/>
                  </a:lnTo>
                  <a:lnTo>
                    <a:pt x="4260" y="474197"/>
                  </a:lnTo>
                  <a:lnTo>
                    <a:pt x="7574" y="486143"/>
                  </a:lnTo>
                  <a:lnTo>
                    <a:pt x="11767" y="498076"/>
                  </a:lnTo>
                  <a:lnTo>
                    <a:pt x="16547" y="510000"/>
                  </a:lnTo>
                  <a:lnTo>
                    <a:pt x="21718" y="520926"/>
                  </a:lnTo>
                  <a:lnTo>
                    <a:pt x="27150" y="531186"/>
                  </a:lnTo>
                  <a:lnTo>
                    <a:pt x="38477" y="549532"/>
                  </a:lnTo>
                  <a:lnTo>
                    <a:pt x="50126" y="564300"/>
                  </a:lnTo>
                  <a:lnTo>
                    <a:pt x="67209" y="577479"/>
                  </a:lnTo>
                  <a:lnTo>
                    <a:pt x="87039" y="588958"/>
                  </a:lnTo>
                  <a:lnTo>
                    <a:pt x="105774" y="597367"/>
                  </a:lnTo>
                  <a:lnTo>
                    <a:pt x="126669" y="604412"/>
                  </a:lnTo>
                  <a:lnTo>
                    <a:pt x="137796" y="607679"/>
                  </a:lnTo>
                  <a:lnTo>
                    <a:pt x="150176" y="609858"/>
                  </a:lnTo>
                  <a:lnTo>
                    <a:pt x="163390" y="611310"/>
                  </a:lnTo>
                  <a:lnTo>
                    <a:pt x="177160" y="612278"/>
                  </a:lnTo>
                  <a:lnTo>
                    <a:pt x="191301" y="611932"/>
                  </a:lnTo>
                  <a:lnTo>
                    <a:pt x="205689" y="610708"/>
                  </a:lnTo>
                  <a:lnTo>
                    <a:pt x="220243" y="608901"/>
                  </a:lnTo>
                  <a:lnTo>
                    <a:pt x="234906" y="606704"/>
                  </a:lnTo>
                  <a:lnTo>
                    <a:pt x="264427" y="601616"/>
                  </a:lnTo>
                  <a:lnTo>
                    <a:pt x="280237" y="597878"/>
                  </a:lnTo>
                  <a:lnTo>
                    <a:pt x="296730" y="593402"/>
                  </a:lnTo>
                  <a:lnTo>
                    <a:pt x="313679" y="588433"/>
                  </a:lnTo>
                  <a:lnTo>
                    <a:pt x="329939" y="582144"/>
                  </a:lnTo>
                  <a:lnTo>
                    <a:pt x="345739" y="574975"/>
                  </a:lnTo>
                  <a:lnTo>
                    <a:pt x="411485" y="542082"/>
                  </a:lnTo>
                  <a:lnTo>
                    <a:pt x="427884" y="533384"/>
                  </a:lnTo>
                  <a:lnTo>
                    <a:pt x="459336" y="515782"/>
                  </a:lnTo>
                  <a:lnTo>
                    <a:pt x="474669" y="505929"/>
                  </a:lnTo>
                  <a:lnTo>
                    <a:pt x="489851" y="495392"/>
                  </a:lnTo>
                  <a:lnTo>
                    <a:pt x="504934" y="484398"/>
                  </a:lnTo>
                  <a:lnTo>
                    <a:pt x="537568" y="461599"/>
                  </a:lnTo>
                  <a:lnTo>
                    <a:pt x="554604" y="449963"/>
                  </a:lnTo>
                  <a:lnTo>
                    <a:pt x="569930" y="438237"/>
                  </a:lnTo>
                  <a:lnTo>
                    <a:pt x="584117" y="426451"/>
                  </a:lnTo>
                  <a:lnTo>
                    <a:pt x="597543" y="414625"/>
                  </a:lnTo>
                  <a:lnTo>
                    <a:pt x="609471" y="401780"/>
                  </a:lnTo>
                  <a:lnTo>
                    <a:pt x="620399" y="388256"/>
                  </a:lnTo>
                  <a:lnTo>
                    <a:pt x="659325" y="335645"/>
                  </a:lnTo>
                  <a:lnTo>
                    <a:pt x="667526" y="322338"/>
                  </a:lnTo>
                  <a:lnTo>
                    <a:pt x="674977" y="308505"/>
                  </a:lnTo>
                  <a:lnTo>
                    <a:pt x="681930" y="294322"/>
                  </a:lnTo>
                  <a:lnTo>
                    <a:pt x="687556" y="279906"/>
                  </a:lnTo>
                  <a:lnTo>
                    <a:pt x="692300" y="265335"/>
                  </a:lnTo>
                  <a:lnTo>
                    <a:pt x="696454" y="250659"/>
                  </a:lnTo>
                  <a:lnTo>
                    <a:pt x="699224" y="236907"/>
                  </a:lnTo>
                  <a:lnTo>
                    <a:pt x="701070" y="223770"/>
                  </a:lnTo>
                  <a:lnTo>
                    <a:pt x="702301" y="211043"/>
                  </a:lnTo>
                  <a:lnTo>
                    <a:pt x="701138" y="197598"/>
                  </a:lnTo>
                  <a:lnTo>
                    <a:pt x="698378" y="183673"/>
                  </a:lnTo>
                  <a:lnTo>
                    <a:pt x="694553" y="169429"/>
                  </a:lnTo>
                  <a:lnTo>
                    <a:pt x="690018" y="155965"/>
                  </a:lnTo>
                  <a:lnTo>
                    <a:pt x="685012" y="143019"/>
                  </a:lnTo>
                  <a:lnTo>
                    <a:pt x="679690" y="130421"/>
                  </a:lnTo>
                  <a:lnTo>
                    <a:pt x="673165" y="119045"/>
                  </a:lnTo>
                  <a:lnTo>
                    <a:pt x="665838" y="108484"/>
                  </a:lnTo>
                  <a:lnTo>
                    <a:pt x="657977" y="98467"/>
                  </a:lnTo>
                  <a:lnTo>
                    <a:pt x="638660" y="79400"/>
                  </a:lnTo>
                  <a:lnTo>
                    <a:pt x="627952" y="70148"/>
                  </a:lnTo>
                  <a:lnTo>
                    <a:pt x="615853" y="61996"/>
                  </a:lnTo>
                  <a:lnTo>
                    <a:pt x="602825" y="54577"/>
                  </a:lnTo>
                  <a:lnTo>
                    <a:pt x="589180" y="47646"/>
                  </a:lnTo>
                  <a:lnTo>
                    <a:pt x="574130" y="41042"/>
                  </a:lnTo>
                  <a:lnTo>
                    <a:pt x="558143" y="34654"/>
                  </a:lnTo>
                  <a:lnTo>
                    <a:pt x="541532" y="28411"/>
                  </a:lnTo>
                  <a:lnTo>
                    <a:pt x="525497" y="23257"/>
                  </a:lnTo>
                  <a:lnTo>
                    <a:pt x="509847" y="18829"/>
                  </a:lnTo>
                  <a:lnTo>
                    <a:pt x="494451" y="14885"/>
                  </a:lnTo>
                  <a:lnTo>
                    <a:pt x="478235" y="11263"/>
                  </a:lnTo>
                  <a:lnTo>
                    <a:pt x="444342" y="4593"/>
                  </a:lnTo>
                  <a:lnTo>
                    <a:pt x="426969" y="2417"/>
                  </a:lnTo>
                  <a:lnTo>
                    <a:pt x="409435" y="967"/>
                  </a:lnTo>
                  <a:lnTo>
                    <a:pt x="391791" y="0"/>
                  </a:lnTo>
                  <a:lnTo>
                    <a:pt x="375068" y="348"/>
                  </a:lnTo>
                  <a:lnTo>
                    <a:pt x="358958" y="1572"/>
                  </a:lnTo>
                  <a:lnTo>
                    <a:pt x="343258" y="3380"/>
                  </a:lnTo>
                  <a:lnTo>
                    <a:pt x="327830" y="4585"/>
                  </a:lnTo>
                  <a:lnTo>
                    <a:pt x="312583" y="5389"/>
                  </a:lnTo>
                  <a:lnTo>
                    <a:pt x="297458" y="5924"/>
                  </a:lnTo>
                  <a:lnTo>
                    <a:pt x="284399" y="7274"/>
                  </a:lnTo>
                  <a:lnTo>
                    <a:pt x="272715" y="9166"/>
                  </a:lnTo>
                  <a:lnTo>
                    <a:pt x="240420" y="15926"/>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SMARTInkAnnotation33"/>
            <p:cNvSpPr/>
            <p:nvPr/>
          </p:nvSpPr>
          <p:spPr>
            <a:xfrm>
              <a:off x="7777800" y="1581120"/>
              <a:ext cx="910440" cy="990720"/>
            </a:xfrm>
            <a:custGeom>
              <a:avLst/>
              <a:gdLst>
                <a:gd name="textAreaLeft" fmla="*/ 0 w 910440"/>
                <a:gd name="textAreaRight" fmla="*/ 910800 w 910440"/>
                <a:gd name="textAreaTop" fmla="*/ 0 h 990720"/>
                <a:gd name="textAreaBottom" fmla="*/ 991080 h 990720"/>
              </a:gdLst>
              <a:ahLst/>
              <a:rect l="textAreaLeft" t="textAreaTop" r="textAreaRight" b="textAreaBottom"/>
              <a:pathLst>
                <a:path w="910829" h="990625">
                  <a:moveTo>
                    <a:pt x="0" y="759024"/>
                  </a:moveTo>
                  <a:lnTo>
                    <a:pt x="6138" y="772289"/>
                  </a:lnTo>
                  <a:lnTo>
                    <a:pt x="7689" y="779141"/>
                  </a:lnTo>
                  <a:lnTo>
                    <a:pt x="11024" y="785493"/>
                  </a:lnTo>
                  <a:lnTo>
                    <a:pt x="13303" y="788576"/>
                  </a:lnTo>
                  <a:lnTo>
                    <a:pt x="15834" y="799940"/>
                  </a:lnTo>
                  <a:lnTo>
                    <a:pt x="17460" y="826747"/>
                  </a:lnTo>
                  <a:lnTo>
                    <a:pt x="17742" y="849866"/>
                  </a:lnTo>
                  <a:lnTo>
                    <a:pt x="22565" y="875567"/>
                  </a:lnTo>
                  <a:lnTo>
                    <a:pt x="25955" y="904782"/>
                  </a:lnTo>
                  <a:lnTo>
                    <a:pt x="26625" y="935541"/>
                  </a:lnTo>
                  <a:lnTo>
                    <a:pt x="26757" y="961020"/>
                  </a:lnTo>
                  <a:lnTo>
                    <a:pt x="27760" y="966117"/>
                  </a:lnTo>
                  <a:lnTo>
                    <a:pt x="33853" y="981428"/>
                  </a:lnTo>
                  <a:lnTo>
                    <a:pt x="34475" y="984684"/>
                  </a:lnTo>
                  <a:lnTo>
                    <a:pt x="35882" y="986854"/>
                  </a:lnTo>
                  <a:lnTo>
                    <a:pt x="37812" y="988301"/>
                  </a:lnTo>
                  <a:lnTo>
                    <a:pt x="40090" y="989266"/>
                  </a:lnTo>
                  <a:lnTo>
                    <a:pt x="45269" y="990338"/>
                  </a:lnTo>
                  <a:lnTo>
                    <a:pt x="48038" y="990624"/>
                  </a:lnTo>
                  <a:lnTo>
                    <a:pt x="50877" y="989822"/>
                  </a:lnTo>
                  <a:lnTo>
                    <a:pt x="56677" y="986286"/>
                  </a:lnTo>
                  <a:lnTo>
                    <a:pt x="81167" y="963368"/>
                  </a:lnTo>
                  <a:lnTo>
                    <a:pt x="86854" y="957761"/>
                  </a:lnTo>
                  <a:lnTo>
                    <a:pt x="104338" y="930908"/>
                  </a:lnTo>
                  <a:lnTo>
                    <a:pt x="122087" y="902557"/>
                  </a:lnTo>
                  <a:lnTo>
                    <a:pt x="136612" y="881686"/>
                  </a:lnTo>
                  <a:lnTo>
                    <a:pt x="152989" y="858189"/>
                  </a:lnTo>
                  <a:lnTo>
                    <a:pt x="271036" y="678444"/>
                  </a:lnTo>
                  <a:lnTo>
                    <a:pt x="311377" y="620275"/>
                  </a:lnTo>
                  <a:lnTo>
                    <a:pt x="326647" y="600048"/>
                  </a:lnTo>
                  <a:lnTo>
                    <a:pt x="359488" y="559053"/>
                  </a:lnTo>
                  <a:lnTo>
                    <a:pt x="446788" y="455343"/>
                  </a:lnTo>
                  <a:lnTo>
                    <a:pt x="464546" y="434531"/>
                  </a:lnTo>
                  <a:lnTo>
                    <a:pt x="483331" y="413711"/>
                  </a:lnTo>
                  <a:lnTo>
                    <a:pt x="522722" y="372057"/>
                  </a:lnTo>
                  <a:lnTo>
                    <a:pt x="650633" y="242442"/>
                  </a:lnTo>
                  <a:lnTo>
                    <a:pt x="728705" y="164280"/>
                  </a:lnTo>
                  <a:lnTo>
                    <a:pt x="743771" y="150199"/>
                  </a:lnTo>
                  <a:lnTo>
                    <a:pt x="758777" y="136844"/>
                  </a:lnTo>
                  <a:lnTo>
                    <a:pt x="786696" y="112413"/>
                  </a:lnTo>
                  <a:lnTo>
                    <a:pt x="809025" y="91634"/>
                  </a:lnTo>
                  <a:lnTo>
                    <a:pt x="831517" y="72476"/>
                  </a:lnTo>
                  <a:lnTo>
                    <a:pt x="852758" y="55032"/>
                  </a:lnTo>
                  <a:lnTo>
                    <a:pt x="875874" y="34055"/>
                  </a:lnTo>
                  <a:lnTo>
                    <a:pt x="898816" y="11835"/>
                  </a:lnTo>
                  <a:lnTo>
                    <a:pt x="910828"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84"/>
                                        </p:tgtEl>
                                        <p:attrNameLst>
                                          <p:attrName>style.visibility</p:attrName>
                                        </p:attrNameLst>
                                      </p:cBhvr>
                                      <p:to>
                                        <p:strVal val="visible"/>
                                      </p:to>
                                    </p:set>
                                    <p:anim calcmode="lin" valueType="num">
                                      <p:cBhvr additive="repl">
                                        <p:cTn id="56" dur="1000" fill="hold"/>
                                        <p:tgtEl>
                                          <p:spTgt spid="8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7" dur="1000" fill="hold"/>
                                        <p:tgtEl>
                                          <p:spTgt spid="8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8" dur="1000" fill="hold"/>
                                        <p:tgtEl>
                                          <p:spTgt spid="84"/>
                                        </p:tgtEl>
                                        <p:attrNameLst>
                                          <p:attrName>ppt_y</p:attrName>
                                        </p:attrNameLst>
                                      </p:cBhvr>
                                      <p:tavLst>
                                        <p:tav tm="0">
                                          <p:val>
                                            <p:strVal val="#ppt_y"/>
                                          </p:val>
                                        </p:tav>
                                        <p:tav tm="100000">
                                          <p:val>
                                            <p:strVal val="#ppt_y"/>
                                          </p:val>
                                        </p:tav>
                                      </p:tavLst>
                                    </p:anim>
                                    <p:animEffect filter="fade" transition="in">
                                      <p:cBhvr additive="repl">
                                        <p:cTn id="59" dur="1000"/>
                                        <p:tgtEl>
                                          <p:spTgt spid="8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86"/>
                                        </p:tgtEl>
                                        <p:attrNameLst>
                                          <p:attrName>style.visibility</p:attrName>
                                        </p:attrNameLst>
                                      </p:cBhvr>
                                      <p:to>
                                        <p:strVal val="visible"/>
                                      </p:to>
                                    </p:set>
                                    <p:animEffect filter="fade" transition="in">
                                      <p:cBhvr additive="repl">
                                        <p:cTn id="64" dur="1000"/>
                                        <p:tgtEl>
                                          <p:spTgt spid="86"/>
                                        </p:tgtEl>
                                      </p:cBhvr>
                                    </p:animEffect>
                                    <p:anim calcmode="lin" valueType="num">
                                      <p:cBhvr additive="repl">
                                        <p:cTn id="65" dur="1000" fill="hold"/>
                                        <p:tgtEl>
                                          <p:spTgt spid="86"/>
                                        </p:tgtEl>
                                        <p:attrNameLst>
                                          <p:attrName>ppt_x</p:attrName>
                                        </p:attrNameLst>
                                      </p:cBhvr>
                                      <p:tavLst>
                                        <p:tav tm="0">
                                          <p:val>
                                            <p:strVal val="#ppt_x-.1"/>
                                          </p:val>
                                        </p:tav>
                                        <p:tav tm="100000">
                                          <p:val>
                                            <p:strVal val="#ppt_x"/>
                                          </p:val>
                                        </p:tav>
                                      </p:tavLst>
                                    </p:anim>
                                    <p:anim calcmode="lin" valueType="num">
                                      <p:cBhvr additive="repl">
                                        <p:cTn id="66" dur="10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87"/>
                                        </p:tgtEl>
                                        <p:attrNameLst>
                                          <p:attrName>style.visibility</p:attrName>
                                        </p:attrNameLst>
                                      </p:cBhvr>
                                      <p:to>
                                        <p:strVal val="visible"/>
                                      </p:to>
                                    </p:set>
                                    <p:anim calcmode="lin" valueType="num">
                                      <p:cBhvr additive="repl">
                                        <p:cTn id="71" dur="5000" fill="hold"/>
                                        <p:tgtEl>
                                          <p:spTgt spid="87"/>
                                        </p:tgtEl>
                                        <p:attrNameLst>
                                          <p:attrName>ppt_w</p:attrName>
                                        </p:attrNameLst>
                                      </p:cBhvr>
                                      <p:tavLst>
                                        <p:tav tm="0">
                                          <p:val>
                                            <p:strVal val="#ppt_w"/>
                                          </p:val>
                                        </p:tav>
                                        <p:tav tm="100000">
                                          <p:val>
                                            <p:strVal val="#ppt_w"/>
                                          </p:val>
                                        </p:tav>
                                      </p:tavLst>
                                    </p:anim>
                                    <p:anim calcmode="lin" valueType="num">
                                      <p:cBhvr additive="repl">
                                        <p:cTn id="72" dur="5000" fill="hold"/>
                                        <p:tgtEl>
                                          <p:spTgt spid="87"/>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88"/>
                                        </p:tgtEl>
                                        <p:attrNameLst>
                                          <p:attrName>style.visibility</p:attrName>
                                        </p:attrNameLst>
                                      </p:cBhvr>
                                      <p:to>
                                        <p:strVal val="visible"/>
                                      </p:to>
                                    </p:set>
                                    <p:animEffect filter="fade" transition="in">
                                      <p:cBhvr additive="repl">
                                        <p:cTn id="77" dur="2000"/>
                                        <p:tgtEl>
                                          <p:spTgt spid="8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90"/>
                                        </p:tgtEl>
                                        <p:attrNameLst>
                                          <p:attrName>style.visibility</p:attrName>
                                        </p:attrNameLst>
                                      </p:cBhvr>
                                      <p:to>
                                        <p:strVal val="visible"/>
                                      </p:to>
                                    </p:set>
                                    <p:anim calcmode="lin" valueType="num">
                                      <p:cBhvr additive="repl">
                                        <p:cTn id="82" dur="1000" fill="hold"/>
                                        <p:tgtEl>
                                          <p:spTgt spid="90"/>
                                        </p:tgtEl>
                                        <p:attrNameLst>
                                          <p:attrName>ppt_w</p:attrName>
                                        </p:attrNameLst>
                                      </p:cBhvr>
                                      <p:tavLst>
                                        <p:tav tm="0">
                                          <p:val>
                                            <p:strVal val="#ppt_w*0.70"/>
                                          </p:val>
                                        </p:tav>
                                        <p:tav tm="100000">
                                          <p:val>
                                            <p:strVal val="#ppt_w"/>
                                          </p:val>
                                        </p:tav>
                                      </p:tavLst>
                                    </p:anim>
                                    <p:anim calcmode="lin" valueType="num">
                                      <p:cBhvr additive="repl">
                                        <p:cTn id="83" dur="1000" fill="hold"/>
                                        <p:tgtEl>
                                          <p:spTgt spid="90"/>
                                        </p:tgtEl>
                                        <p:attrNameLst>
                                          <p:attrName>ppt_h</p:attrName>
                                        </p:attrNameLst>
                                      </p:cBhvr>
                                      <p:tavLst>
                                        <p:tav tm="0">
                                          <p:val>
                                            <p:strVal val="#ppt_h"/>
                                          </p:val>
                                        </p:tav>
                                        <p:tav tm="100000">
                                          <p:val>
                                            <p:strVal val="#ppt_h"/>
                                          </p:val>
                                        </p:tav>
                                      </p:tavLst>
                                    </p:anim>
                                    <p:animEffect filter="fade" transition="in">
                                      <p:cBhvr additive="repl">
                                        <p:cTn id="84" dur="1000"/>
                                        <p:tgtEl>
                                          <p:spTgt spid="9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94"/>
                                        </p:tgtEl>
                                        <p:attrNameLst>
                                          <p:attrName>style.visibility</p:attrName>
                                        </p:attrNameLst>
                                      </p:cBhvr>
                                      <p:to>
                                        <p:strVal val="visible"/>
                                      </p:to>
                                    </p:set>
                                    <p:anim calcmode="lin" valueType="num">
                                      <p:cBhvr additive="repl">
                                        <p:cTn id="89" dur="1000" fill="hold"/>
                                        <p:tgtEl>
                                          <p:spTgt spid="94"/>
                                        </p:tgtEl>
                                        <p:attrNameLst>
                                          <p:attrName>ppt_x</p:attrName>
                                        </p:attrNameLst>
                                      </p:cBhvr>
                                      <p:tavLst>
                                        <p:tav tm="0">
                                          <p:val>
                                            <p:strVal val="#ppt_x-.2"/>
                                          </p:val>
                                        </p:tav>
                                        <p:tav tm="100000">
                                          <p:val>
                                            <p:strVal val="#ppt_x"/>
                                          </p:val>
                                        </p:tav>
                                      </p:tavLst>
                                    </p:anim>
                                    <p:anim calcmode="lin" valueType="num">
                                      <p:cBhvr additive="repl">
                                        <p:cTn id="90"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91"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457200" y="15228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ENLIGHTENMENT</a:t>
            </a:r>
            <a:endParaRPr b="0" lang="en-US" sz="3600" spc="-1" strike="noStrike">
              <a:solidFill>
                <a:srgbClr val="000000"/>
              </a:solidFill>
              <a:latin typeface="Arial"/>
            </a:endParaRPr>
          </a:p>
        </p:txBody>
      </p:sp>
      <p:sp>
        <p:nvSpPr>
          <p:cNvPr id="104" name="Text Box 3"/>
          <p:cNvSpPr/>
          <p:nvPr/>
        </p:nvSpPr>
        <p:spPr>
          <a:xfrm>
            <a:off x="609480" y="91440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Gothic"/>
              </a:rPr>
              <a:t>Lets look at a couple samples of how questions look on the OGT that will test your knowledge of the Enlightenment</a:t>
            </a:r>
            <a:endParaRPr b="0" lang="en-US" sz="1800" spc="-1" strike="noStrike">
              <a:solidFill>
                <a:srgbClr val="000000"/>
              </a:solidFill>
              <a:latin typeface="Arial"/>
            </a:endParaRPr>
          </a:p>
        </p:txBody>
      </p:sp>
      <p:sp>
        <p:nvSpPr>
          <p:cNvPr id="105" name="Text Box 4"/>
          <p:cNvSpPr/>
          <p:nvPr/>
        </p:nvSpPr>
        <p:spPr>
          <a:xfrm>
            <a:off x="304920" y="16765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304920" y="2209680"/>
            <a:ext cx="3809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Enlightenment, a number of writers explored the relationship between governments and the people they governed. For example, Rousseau wrote </a:t>
            </a:r>
            <a:r>
              <a:rPr b="0" i="1" lang="en-US" sz="1800" spc="-1" strike="noStrike">
                <a:solidFill>
                  <a:srgbClr val="000000"/>
                </a:solidFill>
                <a:latin typeface="Arial"/>
              </a:rPr>
              <a:t>The Social Contract</a:t>
            </a:r>
            <a:r>
              <a:rPr b="0" lang="en-US" sz="1800" spc="-1" strike="noStrike">
                <a:solidFill>
                  <a:srgbClr val="000000"/>
                </a:solidFill>
                <a:latin typeface="Arial"/>
              </a:rPr>
              <a:t>, in which he examined ideas ab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ity will and the common g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id these ideas influence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and French Revolutions?</a:t>
            </a:r>
            <a:endParaRPr b="0" lang="en-US" sz="1800" spc="-1" strike="noStrike">
              <a:solidFill>
                <a:srgbClr val="000000"/>
              </a:solidFill>
              <a:latin typeface="Arial"/>
            </a:endParaRPr>
          </a:p>
        </p:txBody>
      </p:sp>
      <p:sp>
        <p:nvSpPr>
          <p:cNvPr id="107" name="AutoShape 6"/>
          <p:cNvSpPr/>
          <p:nvPr/>
        </p:nvSpPr>
        <p:spPr>
          <a:xfrm>
            <a:off x="4267080" y="3276720"/>
            <a:ext cx="762120" cy="9144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7"/>
          <p:cNvSpPr/>
          <p:nvPr/>
        </p:nvSpPr>
        <p:spPr>
          <a:xfrm>
            <a:off x="5410080" y="1981080"/>
            <a:ext cx="3429000" cy="4757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encouraged loyalty 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ablished governme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ey supported moveme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social and politica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They encouraged th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mation of American an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ench constitutional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archi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They supported the efforts of</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vernments to maintai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rol over their subjects.</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Group 11"/>
          <p:cNvGrpSpPr/>
          <p:nvPr/>
        </p:nvGrpSpPr>
        <p:grpSpPr>
          <a:xfrm>
            <a:off x="5643720" y="2170080"/>
            <a:ext cx="2911320" cy="285840"/>
            <a:chOff x="5643720" y="2170080"/>
            <a:chExt cx="2911320" cy="285840"/>
          </a:xfrm>
        </p:grpSpPr>
        <p:sp>
          <p:nvSpPr>
            <p:cNvPr id="110" name="SMARTInkAnnotation34"/>
            <p:cNvSpPr/>
            <p:nvPr/>
          </p:nvSpPr>
          <p:spPr>
            <a:xfrm>
              <a:off x="5643720" y="2170080"/>
              <a:ext cx="2911320" cy="53640"/>
            </a:xfrm>
            <a:custGeom>
              <a:avLst/>
              <a:gdLst>
                <a:gd name="textAreaLeft" fmla="*/ 0 w 2911320"/>
                <a:gd name="textAreaRight" fmla="*/ 2911680 w 2911320"/>
                <a:gd name="textAreaTop" fmla="*/ 0 h 53640"/>
                <a:gd name="textAreaBottom" fmla="*/ 54000 h 53640"/>
              </a:gdLst>
              <a:ahLst/>
              <a:rect l="textAreaLeft" t="textAreaTop" r="textAreaRight" b="textAreaBottom"/>
              <a:pathLst>
                <a:path w="2911079" h="53579">
                  <a:moveTo>
                    <a:pt x="0" y="35718"/>
                  </a:moveTo>
                  <a:lnTo>
                    <a:pt x="20991" y="35718"/>
                  </a:lnTo>
                  <a:lnTo>
                    <a:pt x="24908" y="34726"/>
                  </a:lnTo>
                  <a:lnTo>
                    <a:pt x="29503" y="33072"/>
                  </a:lnTo>
                  <a:lnTo>
                    <a:pt x="34552" y="30978"/>
                  </a:lnTo>
                  <a:lnTo>
                    <a:pt x="38909" y="29581"/>
                  </a:lnTo>
                  <a:lnTo>
                    <a:pt x="46398" y="28030"/>
                  </a:lnTo>
                  <a:lnTo>
                    <a:pt x="133999" y="26790"/>
                  </a:lnTo>
                  <a:lnTo>
                    <a:pt x="139934" y="26790"/>
                  </a:lnTo>
                  <a:lnTo>
                    <a:pt x="145875" y="25797"/>
                  </a:lnTo>
                  <a:lnTo>
                    <a:pt x="151821" y="24143"/>
                  </a:lnTo>
                  <a:lnTo>
                    <a:pt x="157768" y="22048"/>
                  </a:lnTo>
                  <a:lnTo>
                    <a:pt x="164710" y="20652"/>
                  </a:lnTo>
                  <a:lnTo>
                    <a:pt x="180361" y="19100"/>
                  </a:lnTo>
                  <a:lnTo>
                    <a:pt x="271010" y="17865"/>
                  </a:lnTo>
                  <a:lnTo>
                    <a:pt x="567278" y="17859"/>
                  </a:lnTo>
                  <a:lnTo>
                    <a:pt x="577616" y="18851"/>
                  </a:lnTo>
                  <a:lnTo>
                    <a:pt x="587483" y="20505"/>
                  </a:lnTo>
                  <a:lnTo>
                    <a:pt x="597038" y="22600"/>
                  </a:lnTo>
                  <a:lnTo>
                    <a:pt x="607377" y="23996"/>
                  </a:lnTo>
                  <a:lnTo>
                    <a:pt x="629448" y="25548"/>
                  </a:lnTo>
                  <a:lnTo>
                    <a:pt x="716292" y="26740"/>
                  </a:lnTo>
                  <a:lnTo>
                    <a:pt x="768022" y="27775"/>
                  </a:lnTo>
                  <a:lnTo>
                    <a:pt x="778913" y="29430"/>
                  </a:lnTo>
                  <a:lnTo>
                    <a:pt x="790143" y="31526"/>
                  </a:lnTo>
                  <a:lnTo>
                    <a:pt x="801598" y="32924"/>
                  </a:lnTo>
                  <a:lnTo>
                    <a:pt x="824909" y="34476"/>
                  </a:lnTo>
                  <a:lnTo>
                    <a:pt x="912706" y="35670"/>
                  </a:lnTo>
                  <a:lnTo>
                    <a:pt x="1065619" y="35718"/>
                  </a:lnTo>
                  <a:lnTo>
                    <a:pt x="1077523" y="34726"/>
                  </a:lnTo>
                  <a:lnTo>
                    <a:pt x="1089427" y="33072"/>
                  </a:lnTo>
                  <a:lnTo>
                    <a:pt x="1101331" y="30978"/>
                  </a:lnTo>
                  <a:lnTo>
                    <a:pt x="1112245" y="29581"/>
                  </a:lnTo>
                  <a:lnTo>
                    <a:pt x="1132307" y="28030"/>
                  </a:lnTo>
                  <a:lnTo>
                    <a:pt x="1220884" y="26837"/>
                  </a:lnTo>
                  <a:lnTo>
                    <a:pt x="1404948" y="26789"/>
                  </a:lnTo>
                  <a:lnTo>
                    <a:pt x="1416851" y="25796"/>
                  </a:lnTo>
                  <a:lnTo>
                    <a:pt x="1428755" y="24143"/>
                  </a:lnTo>
                  <a:lnTo>
                    <a:pt x="1440659" y="22048"/>
                  </a:lnTo>
                  <a:lnTo>
                    <a:pt x="1451573" y="20652"/>
                  </a:lnTo>
                  <a:lnTo>
                    <a:pt x="1471635" y="19100"/>
                  </a:lnTo>
                  <a:lnTo>
                    <a:pt x="1539250" y="17968"/>
                  </a:lnTo>
                  <a:lnTo>
                    <a:pt x="1550042" y="16939"/>
                  </a:lnTo>
                  <a:lnTo>
                    <a:pt x="1560213" y="15261"/>
                  </a:lnTo>
                  <a:lnTo>
                    <a:pt x="1569971" y="13151"/>
                  </a:lnTo>
                  <a:lnTo>
                    <a:pt x="1580444" y="11744"/>
                  </a:lnTo>
                  <a:lnTo>
                    <a:pt x="1602664" y="10180"/>
                  </a:lnTo>
                  <a:lnTo>
                    <a:pt x="1688312" y="8978"/>
                  </a:lnTo>
                  <a:lnTo>
                    <a:pt x="1742177" y="7944"/>
                  </a:lnTo>
                  <a:lnTo>
                    <a:pt x="1754779" y="6288"/>
                  </a:lnTo>
                  <a:lnTo>
                    <a:pt x="1768142" y="4192"/>
                  </a:lnTo>
                  <a:lnTo>
                    <a:pt x="1780027" y="2794"/>
                  </a:lnTo>
                  <a:lnTo>
                    <a:pt x="1801170" y="1242"/>
                  </a:lnTo>
                  <a:lnTo>
                    <a:pt x="1881383" y="72"/>
                  </a:lnTo>
                  <a:lnTo>
                    <a:pt x="2275316" y="0"/>
                  </a:lnTo>
                  <a:lnTo>
                    <a:pt x="2285822" y="992"/>
                  </a:lnTo>
                  <a:lnTo>
                    <a:pt x="2296795" y="2646"/>
                  </a:lnTo>
                  <a:lnTo>
                    <a:pt x="2308080" y="4740"/>
                  </a:lnTo>
                  <a:lnTo>
                    <a:pt x="2319571" y="6136"/>
                  </a:lnTo>
                  <a:lnTo>
                    <a:pt x="2342923" y="7688"/>
                  </a:lnTo>
                  <a:lnTo>
                    <a:pt x="2429440" y="8881"/>
                  </a:lnTo>
                  <a:lnTo>
                    <a:pt x="2482345" y="9915"/>
                  </a:lnTo>
                  <a:lnTo>
                    <a:pt x="2493295" y="11571"/>
                  </a:lnTo>
                  <a:lnTo>
                    <a:pt x="2504564" y="13667"/>
                  </a:lnTo>
                  <a:lnTo>
                    <a:pt x="2516046" y="15064"/>
                  </a:lnTo>
                  <a:lnTo>
                    <a:pt x="2539386" y="16617"/>
                  </a:lnTo>
                  <a:lnTo>
                    <a:pt x="2602791" y="17750"/>
                  </a:lnTo>
                  <a:lnTo>
                    <a:pt x="2613279" y="18778"/>
                  </a:lnTo>
                  <a:lnTo>
                    <a:pt x="2623249" y="20456"/>
                  </a:lnTo>
                  <a:lnTo>
                    <a:pt x="2632872" y="22567"/>
                  </a:lnTo>
                  <a:lnTo>
                    <a:pt x="2643256" y="23974"/>
                  </a:lnTo>
                  <a:lnTo>
                    <a:pt x="2665377" y="25538"/>
                  </a:lnTo>
                  <a:lnTo>
                    <a:pt x="2730839" y="26679"/>
                  </a:lnTo>
                  <a:lnTo>
                    <a:pt x="2741309" y="27708"/>
                  </a:lnTo>
                  <a:lnTo>
                    <a:pt x="2752258" y="29386"/>
                  </a:lnTo>
                  <a:lnTo>
                    <a:pt x="2763526" y="31496"/>
                  </a:lnTo>
                  <a:lnTo>
                    <a:pt x="2774016" y="32904"/>
                  </a:lnTo>
                  <a:lnTo>
                    <a:pt x="2793607" y="34468"/>
                  </a:lnTo>
                  <a:lnTo>
                    <a:pt x="2802999" y="35876"/>
                  </a:lnTo>
                  <a:lnTo>
                    <a:pt x="2812235" y="37808"/>
                  </a:lnTo>
                  <a:lnTo>
                    <a:pt x="2821371" y="40088"/>
                  </a:lnTo>
                  <a:lnTo>
                    <a:pt x="2831429" y="41608"/>
                  </a:lnTo>
                  <a:lnTo>
                    <a:pt x="2842103" y="42622"/>
                  </a:lnTo>
                  <a:lnTo>
                    <a:pt x="2853189" y="43297"/>
                  </a:lnTo>
                  <a:lnTo>
                    <a:pt x="2862563" y="44740"/>
                  </a:lnTo>
                  <a:lnTo>
                    <a:pt x="2870798" y="46693"/>
                  </a:lnTo>
                  <a:lnTo>
                    <a:pt x="2878272" y="48988"/>
                  </a:lnTo>
                  <a:lnTo>
                    <a:pt x="2885238" y="50518"/>
                  </a:lnTo>
                  <a:lnTo>
                    <a:pt x="2891867" y="51538"/>
                  </a:lnTo>
                  <a:lnTo>
                    <a:pt x="2911078" y="53578"/>
                  </a:lnTo>
                </a:path>
              </a:pathLst>
            </a:custGeom>
            <a:noFill/>
            <a:ln w="38160">
              <a:solidFill>
                <a:srgbClr val="ff0000"/>
              </a:solidFill>
              <a:round/>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111" name="SMARTInkAnnotation35"/>
            <p:cNvSpPr/>
            <p:nvPr/>
          </p:nvSpPr>
          <p:spPr>
            <a:xfrm>
              <a:off x="5938200" y="2438280"/>
              <a:ext cx="2313000" cy="17640"/>
            </a:xfrm>
            <a:custGeom>
              <a:avLst/>
              <a:gdLst>
                <a:gd name="textAreaLeft" fmla="*/ 0 w 2313000"/>
                <a:gd name="textAreaRight" fmla="*/ 2313360 w 2313000"/>
                <a:gd name="textAreaTop" fmla="*/ 0 h 17640"/>
                <a:gd name="textAreaBottom" fmla="*/ 17640 h 17640"/>
              </a:gdLst>
              <a:ahLst/>
              <a:rect l="textAreaLeft" t="textAreaTop" r="textAreaRight" b="textAreaBottom"/>
              <a:pathLst>
                <a:path w="2312790" h="17861">
                  <a:moveTo>
                    <a:pt x="0" y="0"/>
                  </a:moveTo>
                  <a:lnTo>
                    <a:pt x="85979" y="0"/>
                  </a:lnTo>
                  <a:lnTo>
                    <a:pt x="92046" y="992"/>
                  </a:lnTo>
                  <a:lnTo>
                    <a:pt x="98075" y="2646"/>
                  </a:lnTo>
                  <a:lnTo>
                    <a:pt x="104078" y="4741"/>
                  </a:lnTo>
                  <a:lnTo>
                    <a:pt x="110065" y="6137"/>
                  </a:lnTo>
                  <a:lnTo>
                    <a:pt x="116041" y="7068"/>
                  </a:lnTo>
                  <a:lnTo>
                    <a:pt x="122009" y="7688"/>
                  </a:lnTo>
                  <a:lnTo>
                    <a:pt x="128964" y="8103"/>
                  </a:lnTo>
                  <a:lnTo>
                    <a:pt x="144630" y="8562"/>
                  </a:lnTo>
                  <a:lnTo>
                    <a:pt x="209985" y="8920"/>
                  </a:lnTo>
                  <a:lnTo>
                    <a:pt x="233536" y="8927"/>
                  </a:lnTo>
                  <a:lnTo>
                    <a:pt x="242010" y="9920"/>
                  </a:lnTo>
                  <a:lnTo>
                    <a:pt x="250637" y="11575"/>
                  </a:lnTo>
                  <a:lnTo>
                    <a:pt x="259364" y="13670"/>
                  </a:lnTo>
                  <a:lnTo>
                    <a:pt x="268160" y="15066"/>
                  </a:lnTo>
                  <a:lnTo>
                    <a:pt x="277000" y="15997"/>
                  </a:lnTo>
                  <a:lnTo>
                    <a:pt x="285869" y="16618"/>
                  </a:lnTo>
                  <a:lnTo>
                    <a:pt x="294760" y="17032"/>
                  </a:lnTo>
                  <a:lnTo>
                    <a:pt x="312574" y="17492"/>
                  </a:lnTo>
                  <a:lnTo>
                    <a:pt x="593590" y="17860"/>
                  </a:lnTo>
                  <a:lnTo>
                    <a:pt x="605078" y="16867"/>
                  </a:lnTo>
                  <a:lnTo>
                    <a:pt x="616705" y="15214"/>
                  </a:lnTo>
                  <a:lnTo>
                    <a:pt x="628426" y="13119"/>
                  </a:lnTo>
                  <a:lnTo>
                    <a:pt x="639216" y="11723"/>
                  </a:lnTo>
                  <a:lnTo>
                    <a:pt x="649386" y="10792"/>
                  </a:lnTo>
                  <a:lnTo>
                    <a:pt x="659143" y="10171"/>
                  </a:lnTo>
                  <a:lnTo>
                    <a:pt x="669616" y="9757"/>
                  </a:lnTo>
                  <a:lnTo>
                    <a:pt x="691837" y="9298"/>
                  </a:lnTo>
                  <a:lnTo>
                    <a:pt x="1190625" y="8930"/>
                  </a:lnTo>
                  <a:lnTo>
                    <a:pt x="1202531" y="7938"/>
                  </a:lnTo>
                  <a:lnTo>
                    <a:pt x="1214437" y="6284"/>
                  </a:lnTo>
                  <a:lnTo>
                    <a:pt x="1226343" y="4189"/>
                  </a:lnTo>
                  <a:lnTo>
                    <a:pt x="1250156" y="4508"/>
                  </a:lnTo>
                  <a:lnTo>
                    <a:pt x="1262062" y="5982"/>
                  </a:lnTo>
                  <a:lnTo>
                    <a:pt x="1273968" y="6965"/>
                  </a:lnTo>
                  <a:lnTo>
                    <a:pt x="1285875" y="7620"/>
                  </a:lnTo>
                  <a:lnTo>
                    <a:pt x="1309687" y="8348"/>
                  </a:lnTo>
                  <a:lnTo>
                    <a:pt x="1381125" y="8879"/>
                  </a:lnTo>
                  <a:lnTo>
                    <a:pt x="1976436" y="8930"/>
                  </a:lnTo>
                  <a:lnTo>
                    <a:pt x="1989336" y="7938"/>
                  </a:lnTo>
                  <a:lnTo>
                    <a:pt x="2002895" y="6284"/>
                  </a:lnTo>
                  <a:lnTo>
                    <a:pt x="2016897" y="4189"/>
                  </a:lnTo>
                  <a:lnTo>
                    <a:pt x="2030198" y="2793"/>
                  </a:lnTo>
                  <a:lnTo>
                    <a:pt x="2043037" y="1862"/>
                  </a:lnTo>
                  <a:lnTo>
                    <a:pt x="2055563" y="1242"/>
                  </a:lnTo>
                  <a:lnTo>
                    <a:pt x="2080065" y="552"/>
                  </a:lnTo>
                  <a:lnTo>
                    <a:pt x="2159188" y="33"/>
                  </a:lnTo>
                  <a:lnTo>
                    <a:pt x="2169708" y="1014"/>
                  </a:lnTo>
                  <a:lnTo>
                    <a:pt x="2180691" y="2660"/>
                  </a:lnTo>
                  <a:lnTo>
                    <a:pt x="2191981" y="4750"/>
                  </a:lnTo>
                  <a:lnTo>
                    <a:pt x="2203477" y="6143"/>
                  </a:lnTo>
                  <a:lnTo>
                    <a:pt x="2215109" y="7072"/>
                  </a:lnTo>
                  <a:lnTo>
                    <a:pt x="2226834" y="7691"/>
                  </a:lnTo>
                  <a:lnTo>
                    <a:pt x="2247798" y="8380"/>
                  </a:lnTo>
                  <a:lnTo>
                    <a:pt x="2312789" y="8930"/>
                  </a:lnTo>
                </a:path>
              </a:pathLst>
            </a:custGeom>
            <a:noFill/>
            <a:ln w="38160">
              <a:solidFill>
                <a:srgbClr val="ff0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grpSp>
        <p:nvGrpSpPr>
          <p:cNvPr id="112" name="Group 16"/>
          <p:cNvGrpSpPr/>
          <p:nvPr/>
        </p:nvGrpSpPr>
        <p:grpSpPr>
          <a:xfrm>
            <a:off x="5535720" y="5384880"/>
            <a:ext cx="3268440" cy="625320"/>
            <a:chOff x="5535720" y="5384880"/>
            <a:chExt cx="3268440" cy="625320"/>
          </a:xfrm>
        </p:grpSpPr>
        <p:sp>
          <p:nvSpPr>
            <p:cNvPr id="113" name="SMARTInkAnnotation36"/>
            <p:cNvSpPr/>
            <p:nvPr/>
          </p:nvSpPr>
          <p:spPr>
            <a:xfrm>
              <a:off x="5535720" y="5384880"/>
              <a:ext cx="3268440" cy="133920"/>
            </a:xfrm>
            <a:custGeom>
              <a:avLst/>
              <a:gdLst>
                <a:gd name="textAreaLeft" fmla="*/ 0 w 3268440"/>
                <a:gd name="textAreaRight" fmla="*/ 3268800 w 3268440"/>
                <a:gd name="textAreaTop" fmla="*/ 0 h 133920"/>
                <a:gd name="textAreaBottom" fmla="*/ 134280 h 133920"/>
              </a:gdLst>
              <a:ahLst/>
              <a:rect l="textAreaLeft" t="textAreaTop" r="textAreaRight" b="textAreaBottom"/>
              <a:pathLst>
                <a:path w="3268266" h="133943">
                  <a:moveTo>
                    <a:pt x="0" y="133942"/>
                  </a:moveTo>
                  <a:lnTo>
                    <a:pt x="0" y="129202"/>
                  </a:lnTo>
                  <a:lnTo>
                    <a:pt x="992" y="127806"/>
                  </a:lnTo>
                  <a:lnTo>
                    <a:pt x="2645" y="126875"/>
                  </a:lnTo>
                  <a:lnTo>
                    <a:pt x="7688" y="125380"/>
                  </a:lnTo>
                  <a:lnTo>
                    <a:pt x="11024" y="122530"/>
                  </a:lnTo>
                  <a:lnTo>
                    <a:pt x="13302" y="120381"/>
                  </a:lnTo>
                  <a:lnTo>
                    <a:pt x="15814" y="118948"/>
                  </a:lnTo>
                  <a:lnTo>
                    <a:pt x="21249" y="117357"/>
                  </a:lnTo>
                  <a:lnTo>
                    <a:pt x="56558" y="116093"/>
                  </a:lnTo>
                  <a:lnTo>
                    <a:pt x="232320" y="116083"/>
                  </a:lnTo>
                  <a:lnTo>
                    <a:pt x="250097" y="113437"/>
                  </a:lnTo>
                  <a:lnTo>
                    <a:pt x="267920" y="109946"/>
                  </a:lnTo>
                  <a:lnTo>
                    <a:pt x="364256" y="107202"/>
                  </a:lnTo>
                  <a:lnTo>
                    <a:pt x="464528" y="104509"/>
                  </a:lnTo>
                  <a:lnTo>
                    <a:pt x="487246" y="101017"/>
                  </a:lnTo>
                  <a:lnTo>
                    <a:pt x="551499" y="97477"/>
                  </a:lnTo>
                  <a:lnTo>
                    <a:pt x="574848" y="93592"/>
                  </a:lnTo>
                  <a:lnTo>
                    <a:pt x="669741" y="89462"/>
                  </a:lnTo>
                  <a:lnTo>
                    <a:pt x="705450" y="86698"/>
                  </a:lnTo>
                  <a:lnTo>
                    <a:pt x="730252" y="83179"/>
                  </a:lnTo>
                  <a:lnTo>
                    <a:pt x="808798" y="79619"/>
                  </a:lnTo>
                  <a:lnTo>
                    <a:pt x="833070" y="75734"/>
                  </a:lnTo>
                  <a:lnTo>
                    <a:pt x="928673" y="71602"/>
                  </a:lnTo>
                  <a:lnTo>
                    <a:pt x="1007191" y="68803"/>
                  </a:lnTo>
                  <a:lnTo>
                    <a:pt x="1032038" y="65304"/>
                  </a:lnTo>
                  <a:lnTo>
                    <a:pt x="1110368" y="61758"/>
                  </a:lnTo>
                  <a:lnTo>
                    <a:pt x="1135773" y="57874"/>
                  </a:lnTo>
                  <a:lnTo>
                    <a:pt x="1229410" y="53826"/>
                  </a:lnTo>
                  <a:lnTo>
                    <a:pt x="1711415" y="53575"/>
                  </a:lnTo>
                  <a:lnTo>
                    <a:pt x="1741240" y="50930"/>
                  </a:lnTo>
                  <a:lnTo>
                    <a:pt x="1772025" y="47438"/>
                  </a:lnTo>
                  <a:lnTo>
                    <a:pt x="1869445" y="44891"/>
                  </a:lnTo>
                  <a:lnTo>
                    <a:pt x="1935716" y="42048"/>
                  </a:lnTo>
                  <a:lnTo>
                    <a:pt x="1966608" y="38530"/>
                  </a:lnTo>
                  <a:lnTo>
                    <a:pt x="2056725" y="34971"/>
                  </a:lnTo>
                  <a:lnTo>
                    <a:pt x="2086534" y="31085"/>
                  </a:lnTo>
                  <a:lnTo>
                    <a:pt x="2180605" y="27164"/>
                  </a:lnTo>
                  <a:lnTo>
                    <a:pt x="2212699" y="24308"/>
                  </a:lnTo>
                  <a:lnTo>
                    <a:pt x="2243500" y="20724"/>
                  </a:lnTo>
                  <a:lnTo>
                    <a:pt x="2288731" y="17714"/>
                  </a:lnTo>
                  <a:lnTo>
                    <a:pt x="2303696" y="15777"/>
                  </a:lnTo>
                  <a:lnTo>
                    <a:pt x="2333552" y="11971"/>
                  </a:lnTo>
                  <a:lnTo>
                    <a:pt x="2422915" y="8202"/>
                  </a:lnTo>
                  <a:lnTo>
                    <a:pt x="2452684" y="4305"/>
                  </a:lnTo>
                  <a:lnTo>
                    <a:pt x="2541984" y="375"/>
                  </a:lnTo>
                  <a:lnTo>
                    <a:pt x="2725319" y="0"/>
                  </a:lnTo>
                  <a:lnTo>
                    <a:pt x="2757412" y="2644"/>
                  </a:lnTo>
                  <a:lnTo>
                    <a:pt x="2788212" y="6134"/>
                  </a:lnTo>
                  <a:lnTo>
                    <a:pt x="2833442" y="9092"/>
                  </a:lnTo>
                  <a:lnTo>
                    <a:pt x="2848407" y="11022"/>
                  </a:lnTo>
                  <a:lnTo>
                    <a:pt x="2912810" y="21247"/>
                  </a:lnTo>
                  <a:lnTo>
                    <a:pt x="2960429" y="29886"/>
                  </a:lnTo>
                  <a:lnTo>
                    <a:pt x="3095592" y="56555"/>
                  </a:lnTo>
                  <a:lnTo>
                    <a:pt x="3122730" y="62507"/>
                  </a:lnTo>
                  <a:lnTo>
                    <a:pt x="3135524" y="65482"/>
                  </a:lnTo>
                  <a:lnTo>
                    <a:pt x="3160322" y="68789"/>
                  </a:lnTo>
                  <a:lnTo>
                    <a:pt x="3183579" y="71251"/>
                  </a:lnTo>
                  <a:lnTo>
                    <a:pt x="3193948" y="73297"/>
                  </a:lnTo>
                  <a:lnTo>
                    <a:pt x="3212415" y="77223"/>
                  </a:lnTo>
                  <a:lnTo>
                    <a:pt x="3268265" y="80364"/>
                  </a:ln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SMARTInkAnnotation37"/>
            <p:cNvSpPr/>
            <p:nvPr/>
          </p:nvSpPr>
          <p:spPr>
            <a:xfrm>
              <a:off x="5857200" y="5688720"/>
              <a:ext cx="2706120" cy="98280"/>
            </a:xfrm>
            <a:custGeom>
              <a:avLst/>
              <a:gdLst>
                <a:gd name="textAreaLeft" fmla="*/ 0 w 2706120"/>
                <a:gd name="textAreaRight" fmla="*/ 2706480 w 2706120"/>
                <a:gd name="textAreaTop" fmla="*/ 0 h 98280"/>
                <a:gd name="textAreaBottom" fmla="*/ 98640 h 98280"/>
              </a:gdLst>
              <a:ahLst/>
              <a:rect l="textAreaLeft" t="textAreaTop" r="textAreaRight" b="textAreaBottom"/>
              <a:pathLst>
                <a:path w="2705696" h="98192">
                  <a:moveTo>
                    <a:pt x="0" y="80332"/>
                  </a:moveTo>
                  <a:lnTo>
                    <a:pt x="23065" y="72643"/>
                  </a:lnTo>
                  <a:lnTo>
                    <a:pt x="92335" y="70431"/>
                  </a:lnTo>
                  <a:lnTo>
                    <a:pt x="100252" y="68771"/>
                  </a:lnTo>
                  <a:lnTo>
                    <a:pt x="108506" y="66671"/>
                  </a:lnTo>
                  <a:lnTo>
                    <a:pt x="134345" y="63717"/>
                  </a:lnTo>
                  <a:lnTo>
                    <a:pt x="210715" y="62545"/>
                  </a:lnTo>
                  <a:lnTo>
                    <a:pt x="338228" y="62474"/>
                  </a:lnTo>
                  <a:lnTo>
                    <a:pt x="364305" y="65118"/>
                  </a:lnTo>
                  <a:lnTo>
                    <a:pt x="376816" y="67213"/>
                  </a:lnTo>
                  <a:lnTo>
                    <a:pt x="418124" y="70161"/>
                  </a:lnTo>
                  <a:lnTo>
                    <a:pt x="476527" y="72149"/>
                  </a:lnTo>
                  <a:lnTo>
                    <a:pt x="491318" y="73885"/>
                  </a:lnTo>
                  <a:lnTo>
                    <a:pt x="506139" y="76034"/>
                  </a:lnTo>
                  <a:lnTo>
                    <a:pt x="571708" y="80475"/>
                  </a:lnTo>
                  <a:lnTo>
                    <a:pt x="587514" y="82411"/>
                  </a:lnTo>
                  <a:lnTo>
                    <a:pt x="603012" y="84695"/>
                  </a:lnTo>
                  <a:lnTo>
                    <a:pt x="636106" y="87232"/>
                  </a:lnTo>
                  <a:lnTo>
                    <a:pt x="669666" y="89352"/>
                  </a:lnTo>
                  <a:lnTo>
                    <a:pt x="685562" y="91306"/>
                  </a:lnTo>
                  <a:lnTo>
                    <a:pt x="701119" y="93601"/>
                  </a:lnTo>
                  <a:lnTo>
                    <a:pt x="734280" y="96151"/>
                  </a:lnTo>
                  <a:lnTo>
                    <a:pt x="815664" y="97922"/>
                  </a:lnTo>
                  <a:lnTo>
                    <a:pt x="1099628" y="98191"/>
                  </a:lnTo>
                  <a:lnTo>
                    <a:pt x="1134637" y="95545"/>
                  </a:lnTo>
                  <a:lnTo>
                    <a:pt x="1152307" y="93450"/>
                  </a:lnTo>
                  <a:lnTo>
                    <a:pt x="1217304" y="89097"/>
                  </a:lnTo>
                  <a:lnTo>
                    <a:pt x="1234209" y="87167"/>
                  </a:lnTo>
                  <a:lnTo>
                    <a:pt x="1251430" y="84889"/>
                  </a:lnTo>
                  <a:lnTo>
                    <a:pt x="1283795" y="82357"/>
                  </a:lnTo>
                  <a:lnTo>
                    <a:pt x="1315708" y="80240"/>
                  </a:lnTo>
                  <a:lnTo>
                    <a:pt x="1332553" y="78286"/>
                  </a:lnTo>
                  <a:lnTo>
                    <a:pt x="1367144" y="73469"/>
                  </a:lnTo>
                  <a:lnTo>
                    <a:pt x="1402361" y="68022"/>
                  </a:lnTo>
                  <a:lnTo>
                    <a:pt x="1435211" y="62293"/>
                  </a:lnTo>
                  <a:lnTo>
                    <a:pt x="1501464" y="50530"/>
                  </a:lnTo>
                  <a:lnTo>
                    <a:pt x="1518897" y="48558"/>
                  </a:lnTo>
                  <a:lnTo>
                    <a:pt x="1571876" y="44790"/>
                  </a:lnTo>
                  <a:lnTo>
                    <a:pt x="1589651" y="42746"/>
                  </a:lnTo>
                  <a:lnTo>
                    <a:pt x="1607456" y="40392"/>
                  </a:lnTo>
                  <a:lnTo>
                    <a:pt x="1643112" y="37776"/>
                  </a:lnTo>
                  <a:lnTo>
                    <a:pt x="1677810" y="35621"/>
                  </a:lnTo>
                  <a:lnTo>
                    <a:pt x="1694009" y="33658"/>
                  </a:lnTo>
                  <a:lnTo>
                    <a:pt x="1743154" y="26154"/>
                  </a:lnTo>
                  <a:lnTo>
                    <a:pt x="1760392" y="23377"/>
                  </a:lnTo>
                  <a:lnTo>
                    <a:pt x="1777837" y="21526"/>
                  </a:lnTo>
                  <a:lnTo>
                    <a:pt x="1848608" y="18555"/>
                  </a:lnTo>
                  <a:lnTo>
                    <a:pt x="1884236" y="17157"/>
                  </a:lnTo>
                  <a:lnTo>
                    <a:pt x="1902072" y="15395"/>
                  </a:lnTo>
                  <a:lnTo>
                    <a:pt x="1919915" y="13228"/>
                  </a:lnTo>
                  <a:lnTo>
                    <a:pt x="1991326" y="8758"/>
                  </a:lnTo>
                  <a:lnTo>
                    <a:pt x="2009184" y="6819"/>
                  </a:lnTo>
                  <a:lnTo>
                    <a:pt x="2027042" y="4535"/>
                  </a:lnTo>
                  <a:lnTo>
                    <a:pt x="2062759" y="1995"/>
                  </a:lnTo>
                  <a:lnTo>
                    <a:pt x="2134195" y="366"/>
                  </a:lnTo>
                  <a:lnTo>
                    <a:pt x="2236611" y="0"/>
                  </a:lnTo>
                  <a:lnTo>
                    <a:pt x="2270002" y="2627"/>
                  </a:lnTo>
                  <a:lnTo>
                    <a:pt x="2287241" y="4716"/>
                  </a:lnTo>
                  <a:lnTo>
                    <a:pt x="2335205" y="7657"/>
                  </a:lnTo>
                  <a:lnTo>
                    <a:pt x="2410831" y="8731"/>
                  </a:lnTo>
                  <a:lnTo>
                    <a:pt x="2518132" y="8884"/>
                  </a:lnTo>
                  <a:lnTo>
                    <a:pt x="2543620" y="11535"/>
                  </a:lnTo>
                  <a:lnTo>
                    <a:pt x="2555973" y="13632"/>
                  </a:lnTo>
                  <a:lnTo>
                    <a:pt x="2592320" y="16582"/>
                  </a:lnTo>
                  <a:lnTo>
                    <a:pt x="2674156" y="17775"/>
                  </a:lnTo>
                  <a:lnTo>
                    <a:pt x="2705695" y="17824"/>
                  </a:ln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SMARTInkAnnotation38"/>
            <p:cNvSpPr/>
            <p:nvPr/>
          </p:nvSpPr>
          <p:spPr>
            <a:xfrm>
              <a:off x="5776560" y="5938920"/>
              <a:ext cx="2822040" cy="71280"/>
            </a:xfrm>
            <a:custGeom>
              <a:avLst/>
              <a:gdLst>
                <a:gd name="textAreaLeft" fmla="*/ 0 w 2822040"/>
                <a:gd name="textAreaRight" fmla="*/ 2822400 w 2822040"/>
                <a:gd name="textAreaTop" fmla="*/ 0 h 71280"/>
                <a:gd name="textAreaBottom" fmla="*/ 71640 h 71280"/>
              </a:gdLst>
              <a:ahLst/>
              <a:rect l="textAreaLeft" t="textAreaTop" r="textAreaRight" b="textAreaBottom"/>
              <a:pathLst>
                <a:path w="2821783" h="71438">
                  <a:moveTo>
                    <a:pt x="0" y="71437"/>
                  </a:moveTo>
                  <a:lnTo>
                    <a:pt x="25732" y="71437"/>
                  </a:lnTo>
                  <a:lnTo>
                    <a:pt x="31045" y="70445"/>
                  </a:lnTo>
                  <a:lnTo>
                    <a:pt x="36572" y="68792"/>
                  </a:lnTo>
                  <a:lnTo>
                    <a:pt x="42241" y="66697"/>
                  </a:lnTo>
                  <a:lnTo>
                    <a:pt x="48997" y="65300"/>
                  </a:lnTo>
                  <a:lnTo>
                    <a:pt x="71734" y="63335"/>
                  </a:lnTo>
                  <a:lnTo>
                    <a:pt x="92471" y="61761"/>
                  </a:lnTo>
                  <a:lnTo>
                    <a:pt x="100343" y="60025"/>
                  </a:lnTo>
                  <a:lnTo>
                    <a:pt x="139105" y="50111"/>
                  </a:lnTo>
                  <a:lnTo>
                    <a:pt x="149291" y="48290"/>
                  </a:lnTo>
                  <a:lnTo>
                    <a:pt x="168547" y="46267"/>
                  </a:lnTo>
                  <a:lnTo>
                    <a:pt x="200862" y="45128"/>
                  </a:lnTo>
                  <a:lnTo>
                    <a:pt x="212292" y="43976"/>
                  </a:lnTo>
                  <a:lnTo>
                    <a:pt x="223879" y="42216"/>
                  </a:lnTo>
                  <a:lnTo>
                    <a:pt x="235573" y="40050"/>
                  </a:lnTo>
                  <a:lnTo>
                    <a:pt x="248330" y="38606"/>
                  </a:lnTo>
                  <a:lnTo>
                    <a:pt x="288995" y="36574"/>
                  </a:lnTo>
                  <a:lnTo>
                    <a:pt x="370032" y="35794"/>
                  </a:lnTo>
                  <a:lnTo>
                    <a:pt x="414020" y="34749"/>
                  </a:lnTo>
                  <a:lnTo>
                    <a:pt x="428811" y="33087"/>
                  </a:lnTo>
                  <a:lnTo>
                    <a:pt x="443632" y="30988"/>
                  </a:lnTo>
                  <a:lnTo>
                    <a:pt x="459466" y="29588"/>
                  </a:lnTo>
                  <a:lnTo>
                    <a:pt x="510192" y="27618"/>
                  </a:lnTo>
                  <a:lnTo>
                    <a:pt x="598448" y="26898"/>
                  </a:lnTo>
                  <a:lnTo>
                    <a:pt x="616254" y="27854"/>
                  </a:lnTo>
                  <a:lnTo>
                    <a:pt x="634078" y="29483"/>
                  </a:lnTo>
                  <a:lnTo>
                    <a:pt x="651914" y="31561"/>
                  </a:lnTo>
                  <a:lnTo>
                    <a:pt x="669758" y="32947"/>
                  </a:lnTo>
                  <a:lnTo>
                    <a:pt x="743816" y="35171"/>
                  </a:lnTo>
                  <a:lnTo>
                    <a:pt x="784014" y="34483"/>
                  </a:lnTo>
                  <a:lnTo>
                    <a:pt x="804458" y="32910"/>
                  </a:lnTo>
                  <a:lnTo>
                    <a:pt x="825032" y="30870"/>
                  </a:lnTo>
                  <a:lnTo>
                    <a:pt x="844701" y="29510"/>
                  </a:lnTo>
                  <a:lnTo>
                    <a:pt x="921688" y="27326"/>
                  </a:lnTo>
                  <a:lnTo>
                    <a:pt x="1141453" y="26798"/>
                  </a:lnTo>
                  <a:lnTo>
                    <a:pt x="1163797" y="25803"/>
                  </a:lnTo>
                  <a:lnTo>
                    <a:pt x="1185638" y="24147"/>
                  </a:lnTo>
                  <a:lnTo>
                    <a:pt x="1207144" y="22051"/>
                  </a:lnTo>
                  <a:lnTo>
                    <a:pt x="1229419" y="20654"/>
                  </a:lnTo>
                  <a:lnTo>
                    <a:pt x="1275336" y="19101"/>
                  </a:lnTo>
                  <a:lnTo>
                    <a:pt x="1298693" y="17695"/>
                  </a:lnTo>
                  <a:lnTo>
                    <a:pt x="1322202" y="15765"/>
                  </a:lnTo>
                  <a:lnTo>
                    <a:pt x="1345812" y="13486"/>
                  </a:lnTo>
                  <a:lnTo>
                    <a:pt x="1369490" y="11968"/>
                  </a:lnTo>
                  <a:lnTo>
                    <a:pt x="1441729" y="9830"/>
                  </a:lnTo>
                  <a:lnTo>
                    <a:pt x="1567418" y="9048"/>
                  </a:lnTo>
                  <a:lnTo>
                    <a:pt x="1592633" y="8017"/>
                  </a:lnTo>
                  <a:lnTo>
                    <a:pt x="1618373" y="6336"/>
                  </a:lnTo>
                  <a:lnTo>
                    <a:pt x="1644462" y="4224"/>
                  </a:lnTo>
                  <a:lnTo>
                    <a:pt x="1669792" y="2816"/>
                  </a:lnTo>
                  <a:lnTo>
                    <a:pt x="1743367" y="834"/>
                  </a:lnTo>
                  <a:lnTo>
                    <a:pt x="2461662" y="0"/>
                  </a:lnTo>
                  <a:lnTo>
                    <a:pt x="2480499" y="992"/>
                  </a:lnTo>
                  <a:lnTo>
                    <a:pt x="2499010" y="2645"/>
                  </a:lnTo>
                  <a:lnTo>
                    <a:pt x="2517303" y="4740"/>
                  </a:lnTo>
                  <a:lnTo>
                    <a:pt x="2535452" y="6137"/>
                  </a:lnTo>
                  <a:lnTo>
                    <a:pt x="2588446" y="8102"/>
                  </a:lnTo>
                  <a:lnTo>
                    <a:pt x="2636008" y="9676"/>
                  </a:lnTo>
                  <a:lnTo>
                    <a:pt x="2651300" y="11412"/>
                  </a:lnTo>
                  <a:lnTo>
                    <a:pt x="2666455" y="13561"/>
                  </a:lnTo>
                  <a:lnTo>
                    <a:pt x="2681519" y="14994"/>
                  </a:lnTo>
                  <a:lnTo>
                    <a:pt x="2725432" y="17010"/>
                  </a:lnTo>
                  <a:lnTo>
                    <a:pt x="2765011" y="18600"/>
                  </a:lnTo>
                  <a:lnTo>
                    <a:pt x="2778974" y="20337"/>
                  </a:lnTo>
                  <a:lnTo>
                    <a:pt x="2821782" y="26789"/>
                  </a:lnTo>
                </a:path>
              </a:pathLst>
            </a:custGeom>
            <a:noFill/>
            <a:ln w="38160">
              <a:solidFill>
                <a:srgbClr val="0000ff"/>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grpSp>
      <p:grpSp>
        <p:nvGrpSpPr>
          <p:cNvPr id="116" name="Group 24"/>
          <p:cNvGrpSpPr/>
          <p:nvPr/>
        </p:nvGrpSpPr>
        <p:grpSpPr>
          <a:xfrm>
            <a:off x="5170320" y="2625840"/>
            <a:ext cx="3357720" cy="2357280"/>
            <a:chOff x="5170320" y="2625840"/>
            <a:chExt cx="3357720" cy="2357280"/>
          </a:xfrm>
        </p:grpSpPr>
        <p:sp>
          <p:nvSpPr>
            <p:cNvPr id="117" name="SMARTInkAnnotation39"/>
            <p:cNvSpPr/>
            <p:nvPr/>
          </p:nvSpPr>
          <p:spPr>
            <a:xfrm>
              <a:off x="5598360" y="4045680"/>
              <a:ext cx="2358000" cy="35640"/>
            </a:xfrm>
            <a:custGeom>
              <a:avLst/>
              <a:gdLst>
                <a:gd name="textAreaLeft" fmla="*/ 0 w 2358000"/>
                <a:gd name="textAreaRight" fmla="*/ 2358360 w 2358000"/>
                <a:gd name="textAreaTop" fmla="*/ 0 h 35640"/>
                <a:gd name="textAreaBottom" fmla="*/ 36000 h 35640"/>
              </a:gdLst>
              <a:ahLst/>
              <a:rect l="textAreaLeft" t="textAreaTop" r="textAreaRight" b="textAreaBottom"/>
              <a:pathLst>
                <a:path w="2357438" h="35720">
                  <a:moveTo>
                    <a:pt x="0" y="35719"/>
                  </a:moveTo>
                  <a:lnTo>
                    <a:pt x="7688" y="28030"/>
                  </a:lnTo>
                  <a:lnTo>
                    <a:pt x="11024" y="27341"/>
                  </a:lnTo>
                  <a:lnTo>
                    <a:pt x="25990" y="26898"/>
                  </a:lnTo>
                  <a:lnTo>
                    <a:pt x="31217" y="25870"/>
                  </a:lnTo>
                  <a:lnTo>
                    <a:pt x="36686" y="24191"/>
                  </a:lnTo>
                  <a:lnTo>
                    <a:pt x="42317" y="22081"/>
                  </a:lnTo>
                  <a:lnTo>
                    <a:pt x="48055" y="20674"/>
                  </a:lnTo>
                  <a:lnTo>
                    <a:pt x="53864" y="19736"/>
                  </a:lnTo>
                  <a:lnTo>
                    <a:pt x="66604" y="18693"/>
                  </a:lnTo>
                  <a:lnTo>
                    <a:pt x="131157" y="17892"/>
                  </a:lnTo>
                  <a:lnTo>
                    <a:pt x="226668" y="17860"/>
                  </a:lnTo>
                  <a:lnTo>
                    <a:pt x="238425" y="18852"/>
                  </a:lnTo>
                  <a:lnTo>
                    <a:pt x="250231" y="20505"/>
                  </a:lnTo>
                  <a:lnTo>
                    <a:pt x="262071" y="22600"/>
                  </a:lnTo>
                  <a:lnTo>
                    <a:pt x="274924" y="23996"/>
                  </a:lnTo>
                  <a:lnTo>
                    <a:pt x="288455" y="24927"/>
                  </a:lnTo>
                  <a:lnTo>
                    <a:pt x="316717" y="25962"/>
                  </a:lnTo>
                  <a:lnTo>
                    <a:pt x="390087" y="26680"/>
                  </a:lnTo>
                  <a:lnTo>
                    <a:pt x="479240" y="26779"/>
                  </a:lnTo>
                  <a:lnTo>
                    <a:pt x="494118" y="25790"/>
                  </a:lnTo>
                  <a:lnTo>
                    <a:pt x="508998" y="24139"/>
                  </a:lnTo>
                  <a:lnTo>
                    <a:pt x="523879" y="22045"/>
                  </a:lnTo>
                  <a:lnTo>
                    <a:pt x="539752" y="20650"/>
                  </a:lnTo>
                  <a:lnTo>
                    <a:pt x="556288" y="19720"/>
                  </a:lnTo>
                  <a:lnTo>
                    <a:pt x="589543" y="18687"/>
                  </a:lnTo>
                  <a:lnTo>
                    <a:pt x="653962" y="18023"/>
                  </a:lnTo>
                  <a:lnTo>
                    <a:pt x="1134102" y="17859"/>
                  </a:lnTo>
                  <a:lnTo>
                    <a:pt x="1151951" y="16867"/>
                  </a:lnTo>
                  <a:lnTo>
                    <a:pt x="1169803" y="15214"/>
                  </a:lnTo>
                  <a:lnTo>
                    <a:pt x="1187658" y="13119"/>
                  </a:lnTo>
                  <a:lnTo>
                    <a:pt x="1204521" y="11722"/>
                  </a:lnTo>
                  <a:lnTo>
                    <a:pt x="1220726" y="10792"/>
                  </a:lnTo>
                  <a:lnTo>
                    <a:pt x="1252951" y="9757"/>
                  </a:lnTo>
                  <a:lnTo>
                    <a:pt x="1344561" y="9039"/>
                  </a:lnTo>
                  <a:lnTo>
                    <a:pt x="1363695" y="8010"/>
                  </a:lnTo>
                  <a:lnTo>
                    <a:pt x="1382403" y="6332"/>
                  </a:lnTo>
                  <a:lnTo>
                    <a:pt x="1400829" y="4221"/>
                  </a:lnTo>
                  <a:lnTo>
                    <a:pt x="1419065" y="2814"/>
                  </a:lnTo>
                  <a:lnTo>
                    <a:pt x="1437175" y="1876"/>
                  </a:lnTo>
                  <a:lnTo>
                    <a:pt x="1473175" y="834"/>
                  </a:lnTo>
                  <a:lnTo>
                    <a:pt x="1598400" y="48"/>
                  </a:lnTo>
                  <a:lnTo>
                    <a:pt x="1889163" y="0"/>
                  </a:lnTo>
                  <a:lnTo>
                    <a:pt x="1907341" y="993"/>
                  </a:lnTo>
                  <a:lnTo>
                    <a:pt x="1924419" y="2646"/>
                  </a:lnTo>
                  <a:lnTo>
                    <a:pt x="1940766" y="4741"/>
                  </a:lnTo>
                  <a:lnTo>
                    <a:pt x="1957617" y="6137"/>
                  </a:lnTo>
                  <a:lnTo>
                    <a:pt x="1974805" y="7068"/>
                  </a:lnTo>
                  <a:lnTo>
                    <a:pt x="2008785" y="8103"/>
                  </a:lnTo>
                  <a:lnTo>
                    <a:pt x="2086126" y="8821"/>
                  </a:lnTo>
                  <a:lnTo>
                    <a:pt x="2175828" y="8920"/>
                  </a:lnTo>
                  <a:lnTo>
                    <a:pt x="2189732" y="9916"/>
                  </a:lnTo>
                  <a:lnTo>
                    <a:pt x="2202970" y="11571"/>
                  </a:lnTo>
                  <a:lnTo>
                    <a:pt x="2215763" y="13667"/>
                  </a:lnTo>
                  <a:lnTo>
                    <a:pt x="2228261" y="15065"/>
                  </a:lnTo>
                  <a:lnTo>
                    <a:pt x="2240562" y="15996"/>
                  </a:lnTo>
                  <a:lnTo>
                    <a:pt x="2252731" y="16617"/>
                  </a:lnTo>
                  <a:lnTo>
                    <a:pt x="2263821" y="18023"/>
                  </a:lnTo>
                  <a:lnTo>
                    <a:pt x="2274190" y="19953"/>
                  </a:lnTo>
                  <a:lnTo>
                    <a:pt x="2284080" y="22232"/>
                  </a:lnTo>
                  <a:lnTo>
                    <a:pt x="2293649" y="23751"/>
                  </a:lnTo>
                  <a:lnTo>
                    <a:pt x="2303006" y="24764"/>
                  </a:lnTo>
                  <a:lnTo>
                    <a:pt x="2312220" y="25439"/>
                  </a:lnTo>
                  <a:lnTo>
                    <a:pt x="2334668" y="26389"/>
                  </a:lnTo>
                  <a:lnTo>
                    <a:pt x="2340274" y="27515"/>
                  </a:lnTo>
                  <a:lnTo>
                    <a:pt x="2345003" y="29257"/>
                  </a:lnTo>
                  <a:lnTo>
                    <a:pt x="2357437" y="35719"/>
                  </a:lnTo>
                </a:path>
              </a:pathLst>
            </a:custGeom>
            <a:noFill/>
            <a:ln w="38160">
              <a:solidFill>
                <a:srgbClr val="009300"/>
              </a:solidFill>
              <a:round/>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18" name="SMARTInkAnnotation40"/>
            <p:cNvSpPr/>
            <p:nvPr/>
          </p:nvSpPr>
          <p:spPr>
            <a:xfrm>
              <a:off x="5910840" y="4286880"/>
              <a:ext cx="2394000" cy="53280"/>
            </a:xfrm>
            <a:custGeom>
              <a:avLst/>
              <a:gdLst>
                <a:gd name="textAreaLeft" fmla="*/ 0 w 2394000"/>
                <a:gd name="textAreaRight" fmla="*/ 2394360 w 2394000"/>
                <a:gd name="textAreaTop" fmla="*/ 0 h 53280"/>
                <a:gd name="textAreaBottom" fmla="*/ 53640 h 53280"/>
              </a:gdLst>
              <a:ahLst/>
              <a:rect l="textAreaLeft" t="textAreaTop" r="textAreaRight" b="textAreaBottom"/>
              <a:pathLst>
                <a:path w="2393157" h="53569">
                  <a:moveTo>
                    <a:pt x="0" y="44638"/>
                  </a:moveTo>
                  <a:lnTo>
                    <a:pt x="0" y="39898"/>
                  </a:lnTo>
                  <a:lnTo>
                    <a:pt x="992" y="38501"/>
                  </a:lnTo>
                  <a:lnTo>
                    <a:pt x="2645" y="37570"/>
                  </a:lnTo>
                  <a:lnTo>
                    <a:pt x="4740" y="36950"/>
                  </a:lnTo>
                  <a:lnTo>
                    <a:pt x="7129" y="35544"/>
                  </a:lnTo>
                  <a:lnTo>
                    <a:pt x="9713" y="33614"/>
                  </a:lnTo>
                  <a:lnTo>
                    <a:pt x="12428" y="31335"/>
                  </a:lnTo>
                  <a:lnTo>
                    <a:pt x="15231" y="29817"/>
                  </a:lnTo>
                  <a:lnTo>
                    <a:pt x="18091" y="28804"/>
                  </a:lnTo>
                  <a:lnTo>
                    <a:pt x="20990" y="28128"/>
                  </a:lnTo>
                  <a:lnTo>
                    <a:pt x="24907" y="26686"/>
                  </a:lnTo>
                  <a:lnTo>
                    <a:pt x="29503" y="24733"/>
                  </a:lnTo>
                  <a:lnTo>
                    <a:pt x="34551" y="22438"/>
                  </a:lnTo>
                  <a:lnTo>
                    <a:pt x="40894" y="20908"/>
                  </a:lnTo>
                  <a:lnTo>
                    <a:pt x="48098" y="19888"/>
                  </a:lnTo>
                  <a:lnTo>
                    <a:pt x="55878" y="19208"/>
                  </a:lnTo>
                  <a:lnTo>
                    <a:pt x="63048" y="17763"/>
                  </a:lnTo>
                  <a:lnTo>
                    <a:pt x="69814" y="15807"/>
                  </a:lnTo>
                  <a:lnTo>
                    <a:pt x="76308" y="13511"/>
                  </a:lnTo>
                  <a:lnTo>
                    <a:pt x="83614" y="11981"/>
                  </a:lnTo>
                  <a:lnTo>
                    <a:pt x="91461" y="10961"/>
                  </a:lnTo>
                  <a:lnTo>
                    <a:pt x="125444" y="9322"/>
                  </a:lnTo>
                  <a:lnTo>
                    <a:pt x="221644" y="8930"/>
                  </a:lnTo>
                  <a:lnTo>
                    <a:pt x="232099" y="9918"/>
                  </a:lnTo>
                  <a:lnTo>
                    <a:pt x="243037" y="11569"/>
                  </a:lnTo>
                  <a:lnTo>
                    <a:pt x="254298" y="13663"/>
                  </a:lnTo>
                  <a:lnTo>
                    <a:pt x="265774" y="15058"/>
                  </a:lnTo>
                  <a:lnTo>
                    <a:pt x="289109" y="16609"/>
                  </a:lnTo>
                  <a:lnTo>
                    <a:pt x="355376" y="17686"/>
                  </a:lnTo>
                  <a:lnTo>
                    <a:pt x="381186" y="18769"/>
                  </a:lnTo>
                  <a:lnTo>
                    <a:pt x="395015" y="20446"/>
                  </a:lnTo>
                  <a:lnTo>
                    <a:pt x="409194" y="22557"/>
                  </a:lnTo>
                  <a:lnTo>
                    <a:pt x="423609" y="23964"/>
                  </a:lnTo>
                  <a:lnTo>
                    <a:pt x="452854" y="25528"/>
                  </a:lnTo>
                  <a:lnTo>
                    <a:pt x="518187" y="26532"/>
                  </a:lnTo>
                  <a:lnTo>
                    <a:pt x="1166968" y="26779"/>
                  </a:lnTo>
                  <a:lnTo>
                    <a:pt x="1189736" y="25786"/>
                  </a:lnTo>
                  <a:lnTo>
                    <a:pt x="1211861" y="24133"/>
                  </a:lnTo>
                  <a:lnTo>
                    <a:pt x="1233555" y="22038"/>
                  </a:lnTo>
                  <a:lnTo>
                    <a:pt x="1256948" y="20642"/>
                  </a:lnTo>
                  <a:lnTo>
                    <a:pt x="1306753" y="19090"/>
                  </a:lnTo>
                  <a:lnTo>
                    <a:pt x="1375516" y="18217"/>
                  </a:lnTo>
                  <a:lnTo>
                    <a:pt x="1398220" y="17102"/>
                  </a:lnTo>
                  <a:lnTo>
                    <a:pt x="1421297" y="15366"/>
                  </a:lnTo>
                  <a:lnTo>
                    <a:pt x="1444616" y="13217"/>
                  </a:lnTo>
                  <a:lnTo>
                    <a:pt x="1468101" y="11785"/>
                  </a:lnTo>
                  <a:lnTo>
                    <a:pt x="1515362" y="10192"/>
                  </a:lnTo>
                  <a:lnTo>
                    <a:pt x="1586593" y="9296"/>
                  </a:lnTo>
                  <a:lnTo>
                    <a:pt x="1609386" y="8179"/>
                  </a:lnTo>
                  <a:lnTo>
                    <a:pt x="1631526" y="6441"/>
                  </a:lnTo>
                  <a:lnTo>
                    <a:pt x="1653230" y="4290"/>
                  </a:lnTo>
                  <a:lnTo>
                    <a:pt x="1674645" y="2857"/>
                  </a:lnTo>
                  <a:lnTo>
                    <a:pt x="1716961" y="1264"/>
                  </a:lnTo>
                  <a:lnTo>
                    <a:pt x="1779831" y="367"/>
                  </a:lnTo>
                  <a:lnTo>
                    <a:pt x="1967504" y="0"/>
                  </a:lnTo>
                  <a:lnTo>
                    <a:pt x="1987348" y="988"/>
                  </a:lnTo>
                  <a:lnTo>
                    <a:pt x="2006532" y="2640"/>
                  </a:lnTo>
                  <a:lnTo>
                    <a:pt x="2025274" y="4733"/>
                  </a:lnTo>
                  <a:lnTo>
                    <a:pt x="2043721" y="6128"/>
                  </a:lnTo>
                  <a:lnTo>
                    <a:pt x="2080094" y="7679"/>
                  </a:lnTo>
                  <a:lnTo>
                    <a:pt x="2098127" y="9084"/>
                  </a:lnTo>
                  <a:lnTo>
                    <a:pt x="2116103" y="11014"/>
                  </a:lnTo>
                  <a:lnTo>
                    <a:pt x="2151951" y="15803"/>
                  </a:lnTo>
                  <a:lnTo>
                    <a:pt x="2187727" y="21239"/>
                  </a:lnTo>
                  <a:lnTo>
                    <a:pt x="2220825" y="26963"/>
                  </a:lnTo>
                  <a:lnTo>
                    <a:pt x="2236596" y="29878"/>
                  </a:lnTo>
                  <a:lnTo>
                    <a:pt x="2251080" y="31821"/>
                  </a:lnTo>
                  <a:lnTo>
                    <a:pt x="2264704" y="33117"/>
                  </a:lnTo>
                  <a:lnTo>
                    <a:pt x="2277756" y="33980"/>
                  </a:lnTo>
                  <a:lnTo>
                    <a:pt x="2290426" y="35549"/>
                  </a:lnTo>
                  <a:lnTo>
                    <a:pt x="2302841" y="37586"/>
                  </a:lnTo>
                  <a:lnTo>
                    <a:pt x="2315087" y="39936"/>
                  </a:lnTo>
                  <a:lnTo>
                    <a:pt x="2326227" y="41504"/>
                  </a:lnTo>
                  <a:lnTo>
                    <a:pt x="2336631" y="42548"/>
                  </a:lnTo>
                  <a:lnTo>
                    <a:pt x="2346542" y="43245"/>
                  </a:lnTo>
                  <a:lnTo>
                    <a:pt x="2355135" y="44701"/>
                  </a:lnTo>
                  <a:lnTo>
                    <a:pt x="2362847" y="46664"/>
                  </a:lnTo>
                  <a:lnTo>
                    <a:pt x="2369974" y="48966"/>
                  </a:lnTo>
                  <a:lnTo>
                    <a:pt x="2375717" y="50500"/>
                  </a:lnTo>
                  <a:lnTo>
                    <a:pt x="2380537" y="51522"/>
                  </a:lnTo>
                  <a:lnTo>
                    <a:pt x="2393156" y="53568"/>
                  </a:lnTo>
                </a:path>
              </a:pathLst>
            </a:custGeom>
            <a:noFill/>
            <a:ln w="38160">
              <a:solidFill>
                <a:srgbClr val="009300"/>
              </a:solidFill>
              <a:round/>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19" name="SMARTInkAnnotation41"/>
            <p:cNvSpPr/>
            <p:nvPr/>
          </p:nvSpPr>
          <p:spPr>
            <a:xfrm>
              <a:off x="6000120" y="4572360"/>
              <a:ext cx="2036520" cy="53280"/>
            </a:xfrm>
            <a:custGeom>
              <a:avLst/>
              <a:gdLst>
                <a:gd name="textAreaLeft" fmla="*/ 0 w 2036520"/>
                <a:gd name="textAreaRight" fmla="*/ 2036880 w 2036520"/>
                <a:gd name="textAreaTop" fmla="*/ 0 h 53280"/>
                <a:gd name="textAreaBottom" fmla="*/ 53640 h 53280"/>
              </a:gdLst>
              <a:ahLst/>
              <a:rect l="textAreaLeft" t="textAreaTop" r="textAreaRight" b="textAreaBottom"/>
              <a:pathLst>
                <a:path w="2035969" h="53577">
                  <a:moveTo>
                    <a:pt x="0" y="44646"/>
                  </a:moveTo>
                  <a:lnTo>
                    <a:pt x="0" y="36957"/>
                  </a:lnTo>
                  <a:lnTo>
                    <a:pt x="992" y="36544"/>
                  </a:lnTo>
                  <a:lnTo>
                    <a:pt x="12428" y="35825"/>
                  </a:lnTo>
                  <a:lnTo>
                    <a:pt x="15231" y="34797"/>
                  </a:lnTo>
                  <a:lnTo>
                    <a:pt x="18091" y="33119"/>
                  </a:lnTo>
                  <a:lnTo>
                    <a:pt x="20990" y="31008"/>
                  </a:lnTo>
                  <a:lnTo>
                    <a:pt x="24907" y="29601"/>
                  </a:lnTo>
                  <a:lnTo>
                    <a:pt x="34551" y="28037"/>
                  </a:lnTo>
                  <a:lnTo>
                    <a:pt x="91108" y="26820"/>
                  </a:lnTo>
                  <a:lnTo>
                    <a:pt x="222456" y="26787"/>
                  </a:lnTo>
                  <a:lnTo>
                    <a:pt x="236609" y="25795"/>
                  </a:lnTo>
                  <a:lnTo>
                    <a:pt x="251005" y="24141"/>
                  </a:lnTo>
                  <a:lnTo>
                    <a:pt x="265563" y="22046"/>
                  </a:lnTo>
                  <a:lnTo>
                    <a:pt x="281222" y="20650"/>
                  </a:lnTo>
                  <a:lnTo>
                    <a:pt x="314495" y="19098"/>
                  </a:lnTo>
                  <a:lnTo>
                    <a:pt x="366696" y="18225"/>
                  </a:lnTo>
                  <a:lnTo>
                    <a:pt x="534555" y="17867"/>
                  </a:lnTo>
                  <a:lnTo>
                    <a:pt x="554807" y="16871"/>
                  </a:lnTo>
                  <a:lnTo>
                    <a:pt x="576246" y="15216"/>
                  </a:lnTo>
                  <a:lnTo>
                    <a:pt x="598477" y="13119"/>
                  </a:lnTo>
                  <a:lnTo>
                    <a:pt x="620242" y="11722"/>
                  </a:lnTo>
                  <a:lnTo>
                    <a:pt x="662947" y="10169"/>
                  </a:lnTo>
                  <a:lnTo>
                    <a:pt x="754082" y="9173"/>
                  </a:lnTo>
                  <a:lnTo>
                    <a:pt x="877006" y="8959"/>
                  </a:lnTo>
                  <a:lnTo>
                    <a:pt x="903163" y="7956"/>
                  </a:lnTo>
                  <a:lnTo>
                    <a:pt x="929530" y="6296"/>
                  </a:lnTo>
                  <a:lnTo>
                    <a:pt x="956038" y="4196"/>
                  </a:lnTo>
                  <a:lnTo>
                    <a:pt x="982640" y="2797"/>
                  </a:lnTo>
                  <a:lnTo>
                    <a:pt x="1036010" y="1242"/>
                  </a:lnTo>
                  <a:lnTo>
                    <a:pt x="1196592" y="106"/>
                  </a:lnTo>
                  <a:lnTo>
                    <a:pt x="1432939" y="0"/>
                  </a:lnTo>
                  <a:lnTo>
                    <a:pt x="1458332" y="992"/>
                  </a:lnTo>
                  <a:lnTo>
                    <a:pt x="1484190" y="2645"/>
                  </a:lnTo>
                  <a:lnTo>
                    <a:pt x="1510358" y="4739"/>
                  </a:lnTo>
                  <a:lnTo>
                    <a:pt x="1534749" y="6135"/>
                  </a:lnTo>
                  <a:lnTo>
                    <a:pt x="1580370" y="7686"/>
                  </a:lnTo>
                  <a:lnTo>
                    <a:pt x="1603252" y="9092"/>
                  </a:lnTo>
                  <a:lnTo>
                    <a:pt x="1649843" y="13300"/>
                  </a:lnTo>
                  <a:lnTo>
                    <a:pt x="1672387" y="14819"/>
                  </a:lnTo>
                  <a:lnTo>
                    <a:pt x="1694362" y="15831"/>
                  </a:lnTo>
                  <a:lnTo>
                    <a:pt x="1715958" y="16507"/>
                  </a:lnTo>
                  <a:lnTo>
                    <a:pt x="1737300" y="17949"/>
                  </a:lnTo>
                  <a:lnTo>
                    <a:pt x="1758473" y="19903"/>
                  </a:lnTo>
                  <a:lnTo>
                    <a:pt x="1800520" y="24719"/>
                  </a:lnTo>
                  <a:lnTo>
                    <a:pt x="1842359" y="30167"/>
                  </a:lnTo>
                  <a:lnTo>
                    <a:pt x="1862246" y="32016"/>
                  </a:lnTo>
                  <a:lnTo>
                    <a:pt x="1881458" y="33250"/>
                  </a:lnTo>
                  <a:lnTo>
                    <a:pt x="1900219" y="34072"/>
                  </a:lnTo>
                  <a:lnTo>
                    <a:pt x="1917688" y="35612"/>
                  </a:lnTo>
                  <a:lnTo>
                    <a:pt x="1934294" y="37631"/>
                  </a:lnTo>
                  <a:lnTo>
                    <a:pt x="1950326" y="39969"/>
                  </a:lnTo>
                  <a:lnTo>
                    <a:pt x="1963990" y="42520"/>
                  </a:lnTo>
                  <a:lnTo>
                    <a:pt x="1976077" y="45213"/>
                  </a:lnTo>
                  <a:lnTo>
                    <a:pt x="1987111" y="48000"/>
                  </a:lnTo>
                  <a:lnTo>
                    <a:pt x="1997443" y="49859"/>
                  </a:lnTo>
                  <a:lnTo>
                    <a:pt x="2007309" y="51098"/>
                  </a:lnTo>
                  <a:lnTo>
                    <a:pt x="2035968" y="53576"/>
                  </a:lnTo>
                </a:path>
              </a:pathLst>
            </a:custGeom>
            <a:noFill/>
            <a:ln w="38160">
              <a:solidFill>
                <a:srgbClr val="009300"/>
              </a:solidFill>
              <a:round/>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20" name="SMARTInkAnnotation42"/>
            <p:cNvSpPr/>
            <p:nvPr/>
          </p:nvSpPr>
          <p:spPr>
            <a:xfrm>
              <a:off x="6009120" y="4929840"/>
              <a:ext cx="1286280" cy="53280"/>
            </a:xfrm>
            <a:custGeom>
              <a:avLst/>
              <a:gdLst>
                <a:gd name="textAreaLeft" fmla="*/ 0 w 1286280"/>
                <a:gd name="textAreaRight" fmla="*/ 1286640 w 1286280"/>
                <a:gd name="textAreaTop" fmla="*/ 0 h 53280"/>
                <a:gd name="textAreaBottom" fmla="*/ 53640 h 53280"/>
              </a:gdLst>
              <a:ahLst/>
              <a:rect l="textAreaLeft" t="textAreaTop" r="textAreaRight" b="textAreaBottom"/>
              <a:pathLst>
                <a:path w="1285876" h="53579">
                  <a:moveTo>
                    <a:pt x="0" y="53578"/>
                  </a:moveTo>
                  <a:lnTo>
                    <a:pt x="14221" y="53578"/>
                  </a:lnTo>
                  <a:lnTo>
                    <a:pt x="19403" y="52586"/>
                  </a:lnTo>
                  <a:lnTo>
                    <a:pt x="23850" y="50933"/>
                  </a:lnTo>
                  <a:lnTo>
                    <a:pt x="27805" y="48838"/>
                  </a:lnTo>
                  <a:lnTo>
                    <a:pt x="32428" y="47441"/>
                  </a:lnTo>
                  <a:lnTo>
                    <a:pt x="42855" y="45889"/>
                  </a:lnTo>
                  <a:lnTo>
                    <a:pt x="49406" y="44484"/>
                  </a:lnTo>
                  <a:lnTo>
                    <a:pt x="56751" y="42554"/>
                  </a:lnTo>
                  <a:lnTo>
                    <a:pt x="64623" y="40276"/>
                  </a:lnTo>
                  <a:lnTo>
                    <a:pt x="81307" y="35098"/>
                  </a:lnTo>
                  <a:lnTo>
                    <a:pt x="116272" y="23689"/>
                  </a:lnTo>
                  <a:lnTo>
                    <a:pt x="126132" y="21746"/>
                  </a:lnTo>
                  <a:lnTo>
                    <a:pt x="136674" y="20451"/>
                  </a:lnTo>
                  <a:lnTo>
                    <a:pt x="147671" y="19587"/>
                  </a:lnTo>
                  <a:lnTo>
                    <a:pt x="157978" y="18019"/>
                  </a:lnTo>
                  <a:lnTo>
                    <a:pt x="167827" y="15982"/>
                  </a:lnTo>
                  <a:lnTo>
                    <a:pt x="177369" y="13631"/>
                  </a:lnTo>
                  <a:lnTo>
                    <a:pt x="187699" y="12064"/>
                  </a:lnTo>
                  <a:lnTo>
                    <a:pt x="198554" y="11019"/>
                  </a:lnTo>
                  <a:lnTo>
                    <a:pt x="209760" y="10323"/>
                  </a:lnTo>
                  <a:lnTo>
                    <a:pt x="222192" y="8866"/>
                  </a:lnTo>
                  <a:lnTo>
                    <a:pt x="235440" y="6903"/>
                  </a:lnTo>
                  <a:lnTo>
                    <a:pt x="249233" y="4602"/>
                  </a:lnTo>
                  <a:lnTo>
                    <a:pt x="263390" y="3068"/>
                  </a:lnTo>
                  <a:lnTo>
                    <a:pt x="277789" y="2045"/>
                  </a:lnTo>
                  <a:lnTo>
                    <a:pt x="307017" y="909"/>
                  </a:lnTo>
                  <a:lnTo>
                    <a:pt x="352354" y="269"/>
                  </a:lnTo>
                  <a:lnTo>
                    <a:pt x="651795" y="0"/>
                  </a:lnTo>
                  <a:lnTo>
                    <a:pt x="670671" y="993"/>
                  </a:lnTo>
                  <a:lnTo>
                    <a:pt x="690200" y="2646"/>
                  </a:lnTo>
                  <a:lnTo>
                    <a:pt x="710165" y="4741"/>
                  </a:lnTo>
                  <a:lnTo>
                    <a:pt x="729428" y="6137"/>
                  </a:lnTo>
                  <a:lnTo>
                    <a:pt x="766706" y="7689"/>
                  </a:lnTo>
                  <a:lnTo>
                    <a:pt x="825902" y="8561"/>
                  </a:lnTo>
                  <a:lnTo>
                    <a:pt x="882689" y="8821"/>
                  </a:lnTo>
                  <a:lnTo>
                    <a:pt x="900999" y="9849"/>
                  </a:lnTo>
                  <a:lnTo>
                    <a:pt x="919158" y="11527"/>
                  </a:lnTo>
                  <a:lnTo>
                    <a:pt x="937217" y="13638"/>
                  </a:lnTo>
                  <a:lnTo>
                    <a:pt x="956202" y="15045"/>
                  </a:lnTo>
                  <a:lnTo>
                    <a:pt x="995818" y="16609"/>
                  </a:lnTo>
                  <a:lnTo>
                    <a:pt x="1047687" y="17488"/>
                  </a:lnTo>
                  <a:lnTo>
                    <a:pt x="1099214" y="17750"/>
                  </a:lnTo>
                  <a:lnTo>
                    <a:pt x="1116787" y="18778"/>
                  </a:lnTo>
                  <a:lnTo>
                    <a:pt x="1134454" y="20457"/>
                  </a:lnTo>
                  <a:lnTo>
                    <a:pt x="1152186" y="22567"/>
                  </a:lnTo>
                  <a:lnTo>
                    <a:pt x="1168968" y="23975"/>
                  </a:lnTo>
                  <a:lnTo>
                    <a:pt x="1200843" y="25538"/>
                  </a:lnTo>
                  <a:lnTo>
                    <a:pt x="1237199" y="26418"/>
                  </a:lnTo>
                  <a:lnTo>
                    <a:pt x="1285875" y="26789"/>
                  </a:lnTo>
                </a:path>
              </a:pathLst>
            </a:custGeom>
            <a:noFill/>
            <a:ln w="38160">
              <a:solidFill>
                <a:srgbClr val="009300"/>
              </a:solidFill>
              <a:round/>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21" name="SMARTInkAnnotation43"/>
            <p:cNvSpPr/>
            <p:nvPr/>
          </p:nvSpPr>
          <p:spPr>
            <a:xfrm>
              <a:off x="5170320" y="2625840"/>
              <a:ext cx="559800" cy="622800"/>
            </a:xfrm>
            <a:custGeom>
              <a:avLst/>
              <a:gdLst>
                <a:gd name="textAreaLeft" fmla="*/ 0 w 559800"/>
                <a:gd name="textAreaRight" fmla="*/ 560160 w 559800"/>
                <a:gd name="textAreaTop" fmla="*/ 0 h 622800"/>
                <a:gd name="textAreaBottom" fmla="*/ 623160 h 622800"/>
              </a:gdLst>
              <a:ahLst/>
              <a:rect l="textAreaLeft" t="textAreaTop" r="textAreaRight" b="textAreaBottom"/>
              <a:pathLst>
                <a:path w="559752" h="623067">
                  <a:moveTo>
                    <a:pt x="499334" y="169664"/>
                  </a:moveTo>
                  <a:lnTo>
                    <a:pt x="487060" y="150261"/>
                  </a:lnTo>
                  <a:lnTo>
                    <a:pt x="483957" y="141858"/>
                  </a:lnTo>
                  <a:lnTo>
                    <a:pt x="477287" y="132170"/>
                  </a:lnTo>
                  <a:lnTo>
                    <a:pt x="462375" y="115560"/>
                  </a:lnTo>
                  <a:lnTo>
                    <a:pt x="445388" y="98070"/>
                  </a:lnTo>
                  <a:lnTo>
                    <a:pt x="439558" y="92169"/>
                  </a:lnTo>
                  <a:lnTo>
                    <a:pt x="425142" y="82966"/>
                  </a:lnTo>
                  <a:lnTo>
                    <a:pt x="408814" y="75569"/>
                  </a:lnTo>
                  <a:lnTo>
                    <a:pt x="391634" y="68974"/>
                  </a:lnTo>
                  <a:lnTo>
                    <a:pt x="382885" y="66819"/>
                  </a:lnTo>
                  <a:lnTo>
                    <a:pt x="374077" y="65382"/>
                  </a:lnTo>
                  <a:lnTo>
                    <a:pt x="365228" y="64423"/>
                  </a:lnTo>
                  <a:lnTo>
                    <a:pt x="355360" y="64777"/>
                  </a:lnTo>
                  <a:lnTo>
                    <a:pt x="344812" y="66005"/>
                  </a:lnTo>
                  <a:lnTo>
                    <a:pt x="333812" y="67816"/>
                  </a:lnTo>
                  <a:lnTo>
                    <a:pt x="322509" y="70015"/>
                  </a:lnTo>
                  <a:lnTo>
                    <a:pt x="299368" y="75105"/>
                  </a:lnTo>
                  <a:lnTo>
                    <a:pt x="287641" y="79835"/>
                  </a:lnTo>
                  <a:lnTo>
                    <a:pt x="275854" y="85966"/>
                  </a:lnTo>
                  <a:lnTo>
                    <a:pt x="223680" y="117192"/>
                  </a:lnTo>
                  <a:lnTo>
                    <a:pt x="210392" y="125752"/>
                  </a:lnTo>
                  <a:lnTo>
                    <a:pt x="197566" y="134437"/>
                  </a:lnTo>
                  <a:lnTo>
                    <a:pt x="185046" y="143202"/>
                  </a:lnTo>
                  <a:lnTo>
                    <a:pt x="171738" y="154007"/>
                  </a:lnTo>
                  <a:lnTo>
                    <a:pt x="157906" y="166171"/>
                  </a:lnTo>
                  <a:lnTo>
                    <a:pt x="143723" y="179242"/>
                  </a:lnTo>
                  <a:lnTo>
                    <a:pt x="130300" y="192917"/>
                  </a:lnTo>
                  <a:lnTo>
                    <a:pt x="117381" y="206994"/>
                  </a:lnTo>
                  <a:lnTo>
                    <a:pt x="104800" y="221340"/>
                  </a:lnTo>
                  <a:lnTo>
                    <a:pt x="93437" y="235864"/>
                  </a:lnTo>
                  <a:lnTo>
                    <a:pt x="82884" y="250508"/>
                  </a:lnTo>
                  <a:lnTo>
                    <a:pt x="72873" y="265232"/>
                  </a:lnTo>
                  <a:lnTo>
                    <a:pt x="53811" y="294821"/>
                  </a:lnTo>
                  <a:lnTo>
                    <a:pt x="44561" y="309656"/>
                  </a:lnTo>
                  <a:lnTo>
                    <a:pt x="36410" y="325500"/>
                  </a:lnTo>
                  <a:lnTo>
                    <a:pt x="28991" y="342016"/>
                  </a:lnTo>
                  <a:lnTo>
                    <a:pt x="22061" y="358979"/>
                  </a:lnTo>
                  <a:lnTo>
                    <a:pt x="16449" y="375249"/>
                  </a:lnTo>
                  <a:lnTo>
                    <a:pt x="11715" y="391057"/>
                  </a:lnTo>
                  <a:lnTo>
                    <a:pt x="7568" y="406556"/>
                  </a:lnTo>
                  <a:lnTo>
                    <a:pt x="4803" y="421849"/>
                  </a:lnTo>
                  <a:lnTo>
                    <a:pt x="2959" y="437006"/>
                  </a:lnTo>
                  <a:lnTo>
                    <a:pt x="1730" y="452072"/>
                  </a:lnTo>
                  <a:lnTo>
                    <a:pt x="910" y="466084"/>
                  </a:lnTo>
                  <a:lnTo>
                    <a:pt x="0" y="492237"/>
                  </a:lnTo>
                  <a:lnTo>
                    <a:pt x="1742" y="504767"/>
                  </a:lnTo>
                  <a:lnTo>
                    <a:pt x="4887" y="517090"/>
                  </a:lnTo>
                  <a:lnTo>
                    <a:pt x="8968" y="529273"/>
                  </a:lnTo>
                  <a:lnTo>
                    <a:pt x="13673" y="541364"/>
                  </a:lnTo>
                  <a:lnTo>
                    <a:pt x="18794" y="553394"/>
                  </a:lnTo>
                  <a:lnTo>
                    <a:pt x="24194" y="565382"/>
                  </a:lnTo>
                  <a:lnTo>
                    <a:pt x="38129" y="583994"/>
                  </a:lnTo>
                  <a:lnTo>
                    <a:pt x="46013" y="591736"/>
                  </a:lnTo>
                  <a:lnTo>
                    <a:pt x="55237" y="597889"/>
                  </a:lnTo>
                  <a:lnTo>
                    <a:pt x="65356" y="602983"/>
                  </a:lnTo>
                  <a:lnTo>
                    <a:pt x="76070" y="607371"/>
                  </a:lnTo>
                  <a:lnTo>
                    <a:pt x="87181" y="611289"/>
                  </a:lnTo>
                  <a:lnTo>
                    <a:pt x="98558" y="614893"/>
                  </a:lnTo>
                  <a:lnTo>
                    <a:pt x="110111" y="618288"/>
                  </a:lnTo>
                  <a:lnTo>
                    <a:pt x="122774" y="620551"/>
                  </a:lnTo>
                  <a:lnTo>
                    <a:pt x="136177" y="622060"/>
                  </a:lnTo>
                  <a:lnTo>
                    <a:pt x="150073" y="623066"/>
                  </a:lnTo>
                  <a:lnTo>
                    <a:pt x="164298" y="622744"/>
                  </a:lnTo>
                  <a:lnTo>
                    <a:pt x="178742" y="621538"/>
                  </a:lnTo>
                  <a:lnTo>
                    <a:pt x="193333" y="619741"/>
                  </a:lnTo>
                  <a:lnTo>
                    <a:pt x="208020" y="616559"/>
                  </a:lnTo>
                  <a:lnTo>
                    <a:pt x="222773" y="612453"/>
                  </a:lnTo>
                  <a:lnTo>
                    <a:pt x="286837" y="591606"/>
                  </a:lnTo>
                  <a:lnTo>
                    <a:pt x="303099" y="583912"/>
                  </a:lnTo>
                  <a:lnTo>
                    <a:pt x="318902" y="574813"/>
                  </a:lnTo>
                  <a:lnTo>
                    <a:pt x="349689" y="555113"/>
                  </a:lnTo>
                  <a:lnTo>
                    <a:pt x="379908" y="536435"/>
                  </a:lnTo>
                  <a:lnTo>
                    <a:pt x="394913" y="525303"/>
                  </a:lnTo>
                  <a:lnTo>
                    <a:pt x="409876" y="512921"/>
                  </a:lnTo>
                  <a:lnTo>
                    <a:pt x="424813" y="499705"/>
                  </a:lnTo>
                  <a:lnTo>
                    <a:pt x="438739" y="485934"/>
                  </a:lnTo>
                  <a:lnTo>
                    <a:pt x="451992" y="471791"/>
                  </a:lnTo>
                  <a:lnTo>
                    <a:pt x="464796" y="457403"/>
                  </a:lnTo>
                  <a:lnTo>
                    <a:pt x="476309" y="442849"/>
                  </a:lnTo>
                  <a:lnTo>
                    <a:pt x="486960" y="428186"/>
                  </a:lnTo>
                  <a:lnTo>
                    <a:pt x="497038" y="413449"/>
                  </a:lnTo>
                  <a:lnTo>
                    <a:pt x="516174" y="383846"/>
                  </a:lnTo>
                  <a:lnTo>
                    <a:pt x="525443" y="369007"/>
                  </a:lnTo>
                  <a:lnTo>
                    <a:pt x="532615" y="353160"/>
                  </a:lnTo>
                  <a:lnTo>
                    <a:pt x="538388" y="336643"/>
                  </a:lnTo>
                  <a:lnTo>
                    <a:pt x="543230" y="319679"/>
                  </a:lnTo>
                  <a:lnTo>
                    <a:pt x="547450" y="303408"/>
                  </a:lnTo>
                  <a:lnTo>
                    <a:pt x="554784" y="272100"/>
                  </a:lnTo>
                  <a:lnTo>
                    <a:pt x="557137" y="255814"/>
                  </a:lnTo>
                  <a:lnTo>
                    <a:pt x="558705" y="239004"/>
                  </a:lnTo>
                  <a:lnTo>
                    <a:pt x="559751" y="221844"/>
                  </a:lnTo>
                  <a:lnTo>
                    <a:pt x="559456" y="205442"/>
                  </a:lnTo>
                  <a:lnTo>
                    <a:pt x="558267" y="189547"/>
                  </a:lnTo>
                  <a:lnTo>
                    <a:pt x="556482" y="173990"/>
                  </a:lnTo>
                  <a:lnTo>
                    <a:pt x="554300" y="159650"/>
                  </a:lnTo>
                  <a:lnTo>
                    <a:pt x="551853" y="146120"/>
                  </a:lnTo>
                  <a:lnTo>
                    <a:pt x="549229" y="133132"/>
                  </a:lnTo>
                  <a:lnTo>
                    <a:pt x="544504" y="120505"/>
                  </a:lnTo>
                  <a:lnTo>
                    <a:pt x="538377" y="108117"/>
                  </a:lnTo>
                  <a:lnTo>
                    <a:pt x="531316" y="95891"/>
                  </a:lnTo>
                  <a:lnTo>
                    <a:pt x="518178" y="74368"/>
                  </a:lnTo>
                  <a:lnTo>
                    <a:pt x="511897" y="64461"/>
                  </a:lnTo>
                  <a:lnTo>
                    <a:pt x="503741" y="54880"/>
                  </a:lnTo>
                  <a:lnTo>
                    <a:pt x="494334" y="45517"/>
                  </a:lnTo>
                  <a:lnTo>
                    <a:pt x="484095" y="36297"/>
                  </a:lnTo>
                  <a:lnTo>
                    <a:pt x="467426" y="23408"/>
                  </a:lnTo>
                  <a:lnTo>
                    <a:pt x="453403" y="14372"/>
                  </a:lnTo>
                  <a:lnTo>
                    <a:pt x="446885" y="10574"/>
                  </a:lnTo>
                  <a:lnTo>
                    <a:pt x="427897"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SMARTInkAnnotation44"/>
            <p:cNvSpPr/>
            <p:nvPr/>
          </p:nvSpPr>
          <p:spPr>
            <a:xfrm>
              <a:off x="7554600" y="2893680"/>
              <a:ext cx="973440" cy="785160"/>
            </a:xfrm>
            <a:custGeom>
              <a:avLst/>
              <a:gdLst>
                <a:gd name="textAreaLeft" fmla="*/ 0 w 973440"/>
                <a:gd name="textAreaRight" fmla="*/ 973800 w 973440"/>
                <a:gd name="textAreaTop" fmla="*/ 0 h 785160"/>
                <a:gd name="textAreaBottom" fmla="*/ 785520 h 785160"/>
              </a:gdLst>
              <a:ahLst/>
              <a:rect l="textAreaLeft" t="textAreaTop" r="textAreaRight" b="textAreaBottom"/>
              <a:pathLst>
                <a:path w="973337" h="785132">
                  <a:moveTo>
                    <a:pt x="0" y="535782"/>
                  </a:moveTo>
                  <a:lnTo>
                    <a:pt x="0" y="543470"/>
                  </a:lnTo>
                  <a:lnTo>
                    <a:pt x="7069" y="561329"/>
                  </a:lnTo>
                  <a:lnTo>
                    <a:pt x="9095" y="568964"/>
                  </a:lnTo>
                  <a:lnTo>
                    <a:pt x="18480" y="592680"/>
                  </a:lnTo>
                  <a:lnTo>
                    <a:pt x="23096" y="608695"/>
                  </a:lnTo>
                  <a:lnTo>
                    <a:pt x="25147" y="625735"/>
                  </a:lnTo>
                  <a:lnTo>
                    <a:pt x="26059" y="643230"/>
                  </a:lnTo>
                  <a:lnTo>
                    <a:pt x="25473" y="660927"/>
                  </a:lnTo>
                  <a:lnTo>
                    <a:pt x="21905" y="678715"/>
                  </a:lnTo>
                  <a:lnTo>
                    <a:pt x="19657" y="696541"/>
                  </a:lnTo>
                  <a:lnTo>
                    <a:pt x="18393" y="720667"/>
                  </a:lnTo>
                  <a:lnTo>
                    <a:pt x="18215" y="727499"/>
                  </a:lnTo>
                  <a:lnTo>
                    <a:pt x="20663" y="740383"/>
                  </a:lnTo>
                  <a:lnTo>
                    <a:pt x="24066" y="752723"/>
                  </a:lnTo>
                  <a:lnTo>
                    <a:pt x="26974" y="769835"/>
                  </a:lnTo>
                  <a:lnTo>
                    <a:pt x="31171" y="778050"/>
                  </a:lnTo>
                  <a:lnTo>
                    <a:pt x="34671" y="780638"/>
                  </a:lnTo>
                  <a:lnTo>
                    <a:pt x="38989" y="782363"/>
                  </a:lnTo>
                  <a:lnTo>
                    <a:pt x="55437" y="785131"/>
                  </a:lnTo>
                  <a:lnTo>
                    <a:pt x="67302" y="780218"/>
                  </a:lnTo>
                  <a:lnTo>
                    <a:pt x="74634" y="776130"/>
                  </a:lnTo>
                  <a:lnTo>
                    <a:pt x="88072" y="763650"/>
                  </a:lnTo>
                  <a:lnTo>
                    <a:pt x="109439" y="739889"/>
                  </a:lnTo>
                  <a:lnTo>
                    <a:pt x="127023" y="720754"/>
                  </a:lnTo>
                  <a:lnTo>
                    <a:pt x="148066" y="695713"/>
                  </a:lnTo>
                  <a:lnTo>
                    <a:pt x="222225" y="605123"/>
                  </a:lnTo>
                  <a:lnTo>
                    <a:pt x="238438" y="586971"/>
                  </a:lnTo>
                  <a:lnTo>
                    <a:pt x="274975" y="548280"/>
                  </a:lnTo>
                  <a:lnTo>
                    <a:pt x="400984" y="420699"/>
                  </a:lnTo>
                  <a:lnTo>
                    <a:pt x="424088" y="398536"/>
                  </a:lnTo>
                  <a:lnTo>
                    <a:pt x="470927" y="355390"/>
                  </a:lnTo>
                  <a:lnTo>
                    <a:pt x="496513" y="333169"/>
                  </a:lnTo>
                  <a:lnTo>
                    <a:pt x="551402" y="287312"/>
                  </a:lnTo>
                  <a:lnTo>
                    <a:pt x="579929" y="264964"/>
                  </a:lnTo>
                  <a:lnTo>
                    <a:pt x="638086" y="221611"/>
                  </a:lnTo>
                  <a:lnTo>
                    <a:pt x="726608" y="158156"/>
                  </a:lnTo>
                  <a:lnTo>
                    <a:pt x="882994" y="49947"/>
                  </a:lnTo>
                  <a:lnTo>
                    <a:pt x="903186" y="37267"/>
                  </a:lnTo>
                  <a:lnTo>
                    <a:pt x="921609" y="26829"/>
                  </a:lnTo>
                  <a:lnTo>
                    <a:pt x="973336"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104"/>
                                        </p:tgtEl>
                                        <p:attrNameLst>
                                          <p:attrName>style.visibility</p:attrName>
                                        </p:attrNameLst>
                                      </p:cBhvr>
                                      <p:to>
                                        <p:strVal val="visible"/>
                                      </p:to>
                                    </p:set>
                                    <p:anim calcmode="lin" valueType="num">
                                      <p:cBhvr additive="repl">
                                        <p:cTn id="98" dur="500" fill="hold"/>
                                        <p:tgtEl>
                                          <p:spTgt spid="104"/>
                                        </p:tgtEl>
                                        <p:attrNameLst>
                                          <p:attrName>ppt_w</p:attrName>
                                        </p:attrNameLst>
                                      </p:cBhvr>
                                      <p:tavLst>
                                        <p:tav tm="0">
                                          <p:val>
                                            <p:strVal val="#ppt_w*2.5"/>
                                          </p:val>
                                        </p:tav>
                                        <p:tav tm="100000">
                                          <p:val>
                                            <p:strVal val="#ppt_w"/>
                                          </p:val>
                                        </p:tav>
                                      </p:tavLst>
                                    </p:anim>
                                    <p:anim calcmode="lin" valueType="num">
                                      <p:cBhvr additive="repl">
                                        <p:cTn id="99" dur="500" fill="hold"/>
                                        <p:tgtEl>
                                          <p:spTgt spid="104"/>
                                        </p:tgtEl>
                                        <p:attrNameLst>
                                          <p:attrName>ppt_h</p:attrName>
                                        </p:attrNameLst>
                                      </p:cBhvr>
                                      <p:tavLst>
                                        <p:tav tm="0">
                                          <p:val>
                                            <p:strVal val="#ppt_h*0.01"/>
                                          </p:val>
                                        </p:tav>
                                        <p:tav tm="100000">
                                          <p:val>
                                            <p:strVal val="#ppt_h"/>
                                          </p:val>
                                        </p:tav>
                                      </p:tavLst>
                                    </p:anim>
                                    <p:anim calcmode="lin" valueType="num">
                                      <p:cBhvr additive="repl">
                                        <p:cTn id="100" dur="500" fill="hold"/>
                                        <p:tgtEl>
                                          <p:spTgt spid="104"/>
                                        </p:tgtEl>
                                        <p:attrNameLst>
                                          <p:attrName>ppt_x</p:attrName>
                                        </p:attrNameLst>
                                      </p:cBhvr>
                                      <p:tavLst>
                                        <p:tav tm="0">
                                          <p:val>
                                            <p:strVal val="#ppt_x"/>
                                          </p:val>
                                        </p:tav>
                                        <p:tav tm="100000">
                                          <p:val>
                                            <p:strVal val="#ppt_x"/>
                                          </p:val>
                                        </p:tav>
                                      </p:tavLst>
                                    </p:anim>
                                    <p:anim calcmode="lin" valueType="num">
                                      <p:cBhvr additive="repl">
                                        <p:cTn id="101" dur="500" fill="hold"/>
                                        <p:tgtEl>
                                          <p:spTgt spid="104"/>
                                        </p:tgtEl>
                                        <p:attrNameLst>
                                          <p:attrName>ppt_y</p:attrName>
                                        </p:attrNameLst>
                                      </p:cBhvr>
                                      <p:tavLst>
                                        <p:tav tm="0">
                                          <p:val>
                                            <p:strVal val="#ppt_h+1"/>
                                          </p:val>
                                        </p:tav>
                                        <p:tav tm="100000">
                                          <p:val>
                                            <p:strVal val="#ppt_y"/>
                                          </p:val>
                                        </p:tav>
                                      </p:tavLst>
                                    </p:anim>
                                    <p:animEffect filter="fade" transition="in">
                                      <p:cBhvr additive="repl">
                                        <p:cTn id="102" dur="500"/>
                                        <p:tgtEl>
                                          <p:spTgt spid="10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106"/>
                                        </p:tgtEl>
                                        <p:attrNameLst>
                                          <p:attrName>style.visibility</p:attrName>
                                        </p:attrNameLst>
                                      </p:cBhvr>
                                      <p:to>
                                        <p:strVal val="visible"/>
                                      </p:to>
                                    </p:set>
                                    <p:anim calcmode="lin" valueType="num" from="(-#ppt_w/2)" to="(#ppt_x)">
                                      <p:cBhvr additive="repl">
                                        <p:cTn id="107" dur="600" fill="hold">
                                          <p:stCondLst>
                                            <p:cond delay="0"/>
                                          </p:stCondLst>
                                        </p:cTn>
                                        <p:tgtEl>
                                          <p:spTgt spid="106"/>
                                        </p:tgtEl>
                                        <p:attrNameLst>
                                          <p:attrName>ppt_x</p:attrName>
                                        </p:attrNameLst>
                                      </p:cBhvr>
                                    </p:anim>
                                    <p:anim calcmode="lin" valueType="num" from="0" to="-1">
                                      <p:cBhvr additive="repl">
                                        <p:cTn id="108" dur="200" autoRev="1" fill="hold">
                                          <p:stCondLst>
                                            <p:cond delay="600"/>
                                          </p:stCondLst>
                                        </p:cTn>
                                        <p:tgtEl>
                                          <p:spTgt spid="106"/>
                                        </p:tgtEl>
                                        <p:attrNameLst>
                                          <p:attrName>xshear</p:attrName>
                                        </p:attrNameLst>
                                      </p:cBhvr>
                                    </p:anim>
                                    <p:animScale>
                                      <p:cBhvr>
                                        <p:cTn id="109" dur="200" autoRev="1" fill="hold">
                                          <p:stCondLst>
                                            <p:cond delay="600"/>
                                          </p:stCondLst>
                                        </p:cTn>
                                        <p:tgtEl>
                                          <p:spTgt spid="106"/>
                                        </p:tgtEl>
                                      </p:cBhvr>
                                      <p:from x="100000" y="100000"/>
                                      <p:to x="80000" y="100000"/>
                                    </p:animScale>
                                    <p:anim calcmode="lin" valueType="num" by="(#ppt_h/3+#ppt_w*0.1)">
                                      <p:cBhvr additive="sum">
                                        <p:cTn id="110" dur="200" autoRev="1" fill="hold">
                                          <p:stCondLst>
                                            <p:cond delay="600"/>
                                          </p:stCondLst>
                                        </p:cTn>
                                        <p:tgtEl>
                                          <p:spTgt spid="106"/>
                                        </p:tgtEl>
                                        <p:attrNameLst>
                                          <p:attrName>ppt_x</p:attrName>
                                        </p:attrNameLst>
                                      </p:cBhvr>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4">
                                  <p:stCondLst>
                                    <p:cond delay="0"/>
                                  </p:stCondLst>
                                  <p:childTnLst>
                                    <p:set>
                                      <p:cBhvr>
                                        <p:cTn id="114" dur="1" fill="hold">
                                          <p:stCondLst>
                                            <p:cond delay="0"/>
                                          </p:stCondLst>
                                        </p:cTn>
                                        <p:tgtEl>
                                          <p:spTgt spid="108"/>
                                        </p:tgtEl>
                                        <p:attrNameLst>
                                          <p:attrName>style.visibility</p:attrName>
                                        </p:attrNameLst>
                                      </p:cBhvr>
                                      <p:to>
                                        <p:strVal val="visible"/>
                                      </p:to>
                                    </p:set>
                                    <p:animEffect filter="fade" transition="in">
                                      <p:cBhvr additive="repl">
                                        <p:cTn id="115" dur="1000"/>
                                        <p:tgtEl>
                                          <p:spTgt spid="108"/>
                                        </p:tgtEl>
                                      </p:cBhvr>
                                    </p:animEffect>
                                    <p:anim calcmode="lin" valueType="num">
                                      <p:cBhvr additive="repl">
                                        <p:cTn id="116" dur="1000" fill="hold"/>
                                        <p:tgtEl>
                                          <p:spTgt spid="108"/>
                                        </p:tgtEl>
                                        <p:attrNameLst>
                                          <p:attrName>ppt_x</p:attrName>
                                        </p:attrNameLst>
                                      </p:cBhvr>
                                      <p:tavLst>
                                        <p:tav tm="0">
                                          <p:val>
                                            <p:strVal val="#ppt_x"/>
                                          </p:val>
                                        </p:tav>
                                        <p:tav tm="100000">
                                          <p:val>
                                            <p:strVal val="#ppt_x"/>
                                          </p:val>
                                        </p:tav>
                                      </p:tavLst>
                                    </p:anim>
                                    <p:anim calcmode="lin" valueType="num">
                                      <p:cBhvr additive="repl">
                                        <p:cTn id="117" dur="900" fill="hold"/>
                                        <p:tgtEl>
                                          <p:spTgt spid="108"/>
                                        </p:tgtEl>
                                        <p:attrNameLst>
                                          <p:attrName>ppt_y</p:attrName>
                                        </p:attrNameLst>
                                      </p:cBhvr>
                                      <p:tavLst>
                                        <p:tav tm="0">
                                          <p:val>
                                            <p:strVal val="#ppt_y+1"/>
                                          </p:val>
                                        </p:tav>
                                        <p:tav tm="100000">
                                          <p:val>
                                            <p:strVal val="#ppt_y-.03"/>
                                          </p:val>
                                        </p:tav>
                                      </p:tavLst>
                                    </p:anim>
                                    <p:anim calcmode="lin" valueType="num">
                                      <p:cBhvr additive="repl">
                                        <p:cTn id="118" dur="100" fill="hold">
                                          <p:stCondLst>
                                            <p:cond delay="900"/>
                                          </p:stCondLst>
                                        </p:cTn>
                                        <p:tgtEl>
                                          <p:spTgt spid="108"/>
                                        </p:tgtEl>
                                        <p:attrNameLst>
                                          <p:attrName>ppt_y</p:attrName>
                                        </p:attrNameLst>
                                      </p:cBhvr>
                                      <p:tavLst>
                                        <p:tav tm="0">
                                          <p:val>
                                            <p:strVal val="#ppt_y-.03"/>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09"/>
                                        </p:tgtEl>
                                        <p:attrNameLst>
                                          <p:attrName>style.visibility</p:attrName>
                                        </p:attrNameLst>
                                      </p:cBhvr>
                                      <p:to>
                                        <p:strVal val="visible"/>
                                      </p:to>
                                    </p:set>
                                    <p:anim calcmode="lin" valueType="num">
                                      <p:cBhvr additive="repl">
                                        <p:cTn id="123" dur="1000" fill="hold"/>
                                        <p:tgtEl>
                                          <p:spTgt spid="109"/>
                                        </p:tgtEl>
                                        <p:attrNameLst>
                                          <p:attrName>ppt_w</p:attrName>
                                        </p:attrNameLst>
                                      </p:cBhvr>
                                      <p:tavLst>
                                        <p:tav tm="0">
                                          <p:val>
                                            <p:strVal val="#ppt_w*0.70"/>
                                          </p:val>
                                        </p:tav>
                                        <p:tav tm="100000">
                                          <p:val>
                                            <p:strVal val="#ppt_w"/>
                                          </p:val>
                                        </p:tav>
                                      </p:tavLst>
                                    </p:anim>
                                    <p:anim calcmode="lin" valueType="num">
                                      <p:cBhvr additive="repl">
                                        <p:cTn id="124" dur="1000" fill="hold"/>
                                        <p:tgtEl>
                                          <p:spTgt spid="109"/>
                                        </p:tgtEl>
                                        <p:attrNameLst>
                                          <p:attrName>ppt_h</p:attrName>
                                        </p:attrNameLst>
                                      </p:cBhvr>
                                      <p:tavLst>
                                        <p:tav tm="0">
                                          <p:val>
                                            <p:strVal val="#ppt_h"/>
                                          </p:val>
                                        </p:tav>
                                        <p:tav tm="100000">
                                          <p:val>
                                            <p:strVal val="#ppt_h"/>
                                          </p:val>
                                        </p:tav>
                                      </p:tavLst>
                                    </p:anim>
                                    <p:animEffect filter="fade" transition="in">
                                      <p:cBhvr additive="repl">
                                        <p:cTn id="125" dur="1000"/>
                                        <p:tgtEl>
                                          <p:spTgt spid="10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112"/>
                                        </p:tgtEl>
                                        <p:attrNameLst>
                                          <p:attrName>style.visibility</p:attrName>
                                        </p:attrNameLst>
                                      </p:cBhvr>
                                      <p:to>
                                        <p:strVal val="visible"/>
                                      </p:to>
                                    </p:set>
                                    <p:animEffect filter="checkerboard(across)" transition="in">
                                      <p:cBhvr additive="repl">
                                        <p:cTn id="130" dur="500"/>
                                        <p:tgtEl>
                                          <p:spTgt spid="11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116"/>
                                        </p:tgtEl>
                                        <p:attrNameLst>
                                          <p:attrName>style.visibility</p:attrName>
                                        </p:attrNameLst>
                                      </p:cBhvr>
                                      <p:to>
                                        <p:strVal val="visible"/>
                                      </p:to>
                                    </p:set>
                                    <p:animEffect filter="fade" transition="in">
                                      <p:cBhvr additive="repl">
                                        <p:cTn id="135" dur="100"/>
                                        <p:tgtEl>
                                          <p:spTgt spid="116"/>
                                        </p:tgtEl>
                                      </p:cBhvr>
                                    </p:animEffect>
                                    <p:anim calcmode="lin" valueType="num">
                                      <p:cBhvr additive="repl">
                                        <p:cTn id="136" dur="400" fill="hold"/>
                                        <p:tgtEl>
                                          <p:spTgt spid="116"/>
                                        </p:tgtEl>
                                        <p:attrNameLst>
                                          <p:attrName>ppt_x</p:attrName>
                                        </p:attrNameLst>
                                      </p:cBhvr>
                                      <p:tavLst>
                                        <p:tav tm="0">
                                          <p:val>
                                            <p:strVal val="#ppt_x"/>
                                          </p:val>
                                        </p:tav>
                                        <p:tav tm="100000">
                                          <p:val>
                                            <p:strVal val="#ppt_x"/>
                                          </p:val>
                                        </p:tav>
                                      </p:tavLst>
                                    </p:anim>
                                    <p:anim calcmode="lin" valueType="num">
                                      <p:cBhvr additive="repl">
                                        <p:cTn id="137" dur="400" fill="hold"/>
                                        <p:tgtEl>
                                          <p:spTgt spid="116"/>
                                        </p:tgtEl>
                                        <p:attrNameLst>
                                          <p:attrName>ppt_y</p:attrName>
                                        </p:attrNameLst>
                                      </p:cBhvr>
                                      <p:tavLst>
                                        <p:tav tm="0">
                                          <p:val>
                                            <p:strVal val="#ppt_y+0.31"/>
                                          </p:val>
                                        </p:tav>
                                        <p:tav tm="100000">
                                          <p:val>
                                            <p:strVal val="#ppt_y+0.31"/>
                                          </p:val>
                                        </p:tav>
                                      </p:tavLst>
                                    </p:anim>
                                    <p:anim calcmode="lin" valueType="num">
                                      <p:cBhvr additive="repl">
                                        <p:cTn id="138" dur="600" fill="hold">
                                          <p:stCondLst>
                                            <p:cond delay="400"/>
                                          </p:stCondLst>
                                        </p:cTn>
                                        <p:tgtEl>
                                          <p:spTgt spid="11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9" dur="600" fill="hold">
                                          <p:stCondLst>
                                            <p:cond delay="400"/>
                                          </p:stCondLst>
                                        </p:cTn>
                                        <p:tgtEl>
                                          <p:spTgt spid="11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6T22:27:45Z</dcterms:created>
  <dc:creator>Chad and Melisha</dc:creator>
  <dc:description/>
  <dc:language>en-US</dc:language>
  <cp:lastModifiedBy>ALSD</cp:lastModifiedBy>
  <dcterms:modified xsi:type="dcterms:W3CDTF">2011-01-11T14:23:05Z</dcterms:modified>
  <cp:revision>8</cp:revision>
  <dc:subject/>
  <dc:title>Slide 1</dc:title>
</cp:coreProperties>
</file>